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444CD-A14D-482E-A2E9-AFD4FB9E0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88BC-790B-45B2-9A0C-DFB05F6B5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283A-8B2D-4041-BC45-34EFBC4D2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0B19-07C7-41A5-B1CA-863751171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A1F8E-62A0-4F63-9B0C-7C192F4BA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03F86-5E61-49BC-BBE5-C931B6483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5C043-6B6D-4A1E-A6C8-EC785D3FC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0FFDE-89C4-4861-B0B4-3A23F0131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DF2B1-FFFA-40B3-BA55-67F0E7798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6C571-A9D9-42C2-A179-B7E3812F7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A01EE-D9AD-41B0-B047-86B4DBD4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3991-5481-4C71-A598-0930E6851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A9873-C044-4AD1-94A7-87308573C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AF0B9-7C66-4DCE-BA68-9BF14B642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FA9A3-55A3-406D-B93E-150337F52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EE1A6-A366-46B1-B8D7-9B1BA3E3B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7E286-7810-4B9C-B7B5-3B718EC2C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9A4E-3F55-4B4F-A751-0C1BF5366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B46F-19AE-4A26-852E-1FC985C1C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CAB2-95A1-432D-BE41-E9BEBEBE4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513C-D667-4726-8B0F-4F101B137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FAC6-AEF5-47FE-8CF6-DA737EB65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5DDC-8AFB-46F3-8E2E-5DAE5FCE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7EFC-5817-48BD-89D7-26767F1B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F72F6-440B-4C20-8360-DEB7D2A8BCC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BBF30-20CA-4530-B24A-3218697DC0E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8601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b7"/>
                </a:solidFill>
                <a:latin typeface="Arial Black"/>
              </a:rPr>
              <a:t>ТРОЙНАЯ </a:t>
            </a:r>
            <a:br>
              <a:rPr sz="6600"/>
            </a:br>
            <a:r>
              <a:rPr b="1" lang="en-US" sz="6600" spc="-1" strike="noStrike">
                <a:solidFill>
                  <a:srgbClr val="ffffb7"/>
                </a:solidFill>
                <a:latin typeface="Arial Black"/>
              </a:rPr>
              <a:t> ЗАЩИТА</a:t>
            </a:r>
            <a:endParaRPr b="1" lang="en-US" sz="6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6560" y="3645000"/>
            <a:ext cx="831708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gency FB"/>
              </a:rPr>
              <a:t>Мы, Богу молясь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gency FB"/>
              </a:rPr>
              <a:t>твердо знаем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gency FB"/>
              </a:rPr>
              <a:t>Что наш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gency FB"/>
              </a:rPr>
              <a:t>защита трой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00720" y="260280"/>
            <a:ext cx="4117680" cy="619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А день тот сошествия Духа </a:t>
            </a:r>
            <a:br>
              <a:rPr sz="2800"/>
            </a:b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Все ТРОИЦЕЙ ныне зовут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903400" y="1484280"/>
            <a:ext cx="34480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250560" y="6165720"/>
            <a:ext cx="51130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МУДО ЦЕНТР ВОРОШИЛОВСКОГО РАЙОНА ВОЛГОГРАДА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ПДО Саенко Зоя Анатольевна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2020 год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250560" y="1676520"/>
            <a:ext cx="8591400" cy="81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И</a:t>
            </a: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,</a:t>
            </a: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Богу молясь</a:t>
            </a: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, </a:t>
            </a:r>
            <a:br>
              <a:rPr sz="2000"/>
            </a:b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твердо знаю</a:t>
            </a:r>
            <a:r>
              <a:rPr b="0" lang="en-US" sz="2000" spc="-1" strike="noStrike">
                <a:solidFill>
                  <a:srgbClr val="ffffb7"/>
                </a:solidFill>
                <a:latin typeface="Arial Black"/>
              </a:rPr>
              <a:t>,</a:t>
            </a: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что это</a:t>
            </a:r>
            <a:br>
              <a:rPr sz="4400"/>
            </a:b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защита</a:t>
            </a:r>
            <a:br>
              <a:rPr sz="4400"/>
            </a:b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тройна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284720" y="189000"/>
            <a:ext cx="468000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216400" y="242064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ворец наш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тец наш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бесный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ир созда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 нас сотвори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70000" y="260280"/>
            <a:ext cx="523872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Но искус</a:t>
            </a:r>
            <a:r>
              <a:rPr b="0" lang="en-US" sz="1600" spc="-1" strike="noStrike">
                <a:solidFill>
                  <a:srgbClr val="ffffb7"/>
                </a:solidFill>
                <a:latin typeface="Arial Black"/>
              </a:rPr>
              <a:t>,</a:t>
            </a: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 как Змей вероломный</a:t>
            </a:r>
            <a:r>
              <a:rPr b="0" lang="en-US" sz="1600" spc="-1" strike="noStrike">
                <a:solidFill>
                  <a:srgbClr val="ffffb7"/>
                </a:solidFill>
                <a:latin typeface="Arial Black"/>
              </a:rPr>
              <a:t>,</a:t>
            </a:r>
            <a:br>
              <a:rPr sz="2800"/>
            </a:b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Лишил нас божественных крыл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619280" y="1341360"/>
            <a:ext cx="590544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3851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И Сына </a:t>
            </a:r>
            <a:br>
              <a:rPr sz="2800"/>
            </a:b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в мир</a:t>
            </a:r>
            <a:r>
              <a:rPr b="0" lang="en-US" sz="1600" spc="-1" strike="noStrike">
                <a:solidFill>
                  <a:srgbClr val="ffffb7"/>
                </a:solidFill>
                <a:latin typeface="Arial Black"/>
              </a:rPr>
              <a:t>,</a:t>
            </a: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 ставший жестоким</a:t>
            </a:r>
            <a:r>
              <a:rPr b="0" lang="en-US" sz="1600" spc="-1" strike="noStrike">
                <a:solidFill>
                  <a:srgbClr val="ffffb7"/>
                </a:solidFill>
                <a:latin typeface="Arial Black"/>
              </a:rPr>
              <a:t>,</a:t>
            </a:r>
            <a:endParaRPr b="1" lang="en-US" sz="1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4920" y="1904760"/>
            <a:ext cx="30243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тец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сылае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корб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059280" y="1268280"/>
            <a:ext cx="578628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3851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Чтоб кровью Его</a:t>
            </a:r>
            <a:r>
              <a:rPr b="0" lang="en-US" sz="1600" spc="-1" strike="noStrike">
                <a:solidFill>
                  <a:srgbClr val="ffffb7"/>
                </a:solidFill>
                <a:latin typeface="Arial Black"/>
              </a:rPr>
              <a:t>,</a:t>
            </a: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 как потоком</a:t>
            </a:r>
            <a:r>
              <a:rPr b="0" lang="en-US" sz="1600" spc="-1" strike="noStrike">
                <a:solidFill>
                  <a:srgbClr val="ffffb7"/>
                </a:solidFill>
                <a:latin typeface="Arial Black"/>
              </a:rPr>
              <a:t>,</a:t>
            </a: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Земля очищала себя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935000" y="1413000"/>
            <a:ext cx="4613400" cy="52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Воскресший  Христос</a:t>
            </a:r>
            <a:r>
              <a:rPr b="0" lang="en-US" sz="1600" spc="-1" strike="noStrike">
                <a:solidFill>
                  <a:srgbClr val="ffffb7"/>
                </a:solidFill>
                <a:latin typeface="Arial Black"/>
              </a:rPr>
              <a:t>,</a:t>
            </a: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 как и прежде</a:t>
            </a:r>
            <a:r>
              <a:rPr b="0" lang="en-US" sz="1600" spc="-1" strike="noStrike">
                <a:solidFill>
                  <a:srgbClr val="ffffb7"/>
                </a:solidFill>
                <a:latin typeface="Arial Black"/>
              </a:rPr>
              <a:t>,</a:t>
            </a:r>
            <a:br>
              <a:rPr sz="2800"/>
            </a:b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при жизни короткой своей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14280" y="1700280"/>
            <a:ext cx="4178520" cy="4753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859280" y="1844640"/>
            <a:ext cx="38894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Нёс свет нам добра и надежды</a:t>
            </a:r>
            <a:br>
              <a:rPr sz="2800"/>
            </a:b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в сиянье бессмертных идей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917960" y="1904760"/>
            <a:ext cx="3927600" cy="41907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900000" y="1484280"/>
            <a:ext cx="72723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5888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b7"/>
                </a:solidFill>
                <a:latin typeface="Arial Black"/>
              </a:rPr>
              <a:t>О Боге учил Триедином, но только лишь ученики </a:t>
            </a:r>
            <a:br>
              <a:rPr sz="2400"/>
            </a:br>
            <a:r>
              <a:rPr b="0" lang="en-US" sz="2400" spc="-1" strike="noStrike">
                <a:solidFill>
                  <a:srgbClr val="ffffb7"/>
                </a:solidFill>
                <a:latin typeface="Arial Black"/>
              </a:rPr>
              <a:t>Дух видеть могли голубиный и огненные языки</a:t>
            </a:r>
            <a:r>
              <a:rPr b="0" lang="en-US" sz="2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b7"/>
                </a:solidFill>
                <a:latin typeface="Arial Black"/>
              </a:rPr>
              <a:t>	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2965320" cy="36003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851280" y="1341360"/>
            <a:ext cx="485136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b7"/>
                </a:solidFill>
                <a:latin typeface="Arial Black"/>
              </a:rPr>
              <a:t>И стали на разных наречьях нести они веру Христа</a:t>
            </a:r>
            <a:r>
              <a:rPr b="0" lang="en-US" sz="1600" spc="-1" strike="noStrike">
                <a:solidFill>
                  <a:srgbClr val="ffffb7"/>
                </a:solidFill>
                <a:latin typeface="Arial Black"/>
              </a:rPr>
              <a:t>,</a:t>
            </a:r>
            <a:br>
              <a:rPr sz="1600"/>
            </a:br>
            <a:r>
              <a:rPr b="0" lang="en-US" sz="2400" spc="-1" strike="noStrike">
                <a:solidFill>
                  <a:srgbClr val="ffffb7"/>
                </a:solidFill>
                <a:latin typeface="Arial Black"/>
              </a:rPr>
              <a:t>Когда нет в ней противоречья</a:t>
            </a:r>
            <a:r>
              <a:rPr b="0" lang="en-US" sz="1600" spc="-1" strike="noStrike">
                <a:solidFill>
                  <a:srgbClr val="ffffb7"/>
                </a:solidFill>
                <a:latin typeface="Arial Black"/>
              </a:rPr>
              <a:t>,</a:t>
            </a:r>
            <a:r>
              <a:rPr b="0" lang="en-US" sz="2400" spc="-1" strike="noStrike">
                <a:solidFill>
                  <a:srgbClr val="ffffb7"/>
                </a:solidFill>
                <a:latin typeface="Arial Black"/>
              </a:rPr>
              <a:t> душа и сильна</a:t>
            </a:r>
            <a:r>
              <a:rPr b="0" lang="en-US" sz="1600" spc="-1" strike="noStrike">
                <a:solidFill>
                  <a:srgbClr val="ffffb7"/>
                </a:solidFill>
                <a:latin typeface="Arial Black"/>
              </a:rPr>
              <a:t>,</a:t>
            </a:r>
            <a:r>
              <a:rPr b="0" lang="en-US" sz="2400" spc="-1" strike="noStrike">
                <a:solidFill>
                  <a:srgbClr val="ffffb7"/>
                </a:solidFill>
                <a:latin typeface="Arial Black"/>
              </a:rPr>
              <a:t> и чиста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763640" y="1614600"/>
            <a:ext cx="590400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4T11:47:04Z</dcterms:created>
  <dc:creator>home</dc:creator>
  <dc:description/>
  <dc:language>en-US</dc:language>
  <cp:lastModifiedBy>home</cp:lastModifiedBy>
  <dcterms:modified xsi:type="dcterms:W3CDTF">2020-05-27T08:48:42Z</dcterms:modified>
  <cp:revision>14</cp:revision>
  <dc:subject/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