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22.jpeg" ContentType="image/jpeg"/>
  <Override PartName="/ppt/media/image39.png" ContentType="image/png"/>
  <Override PartName="/ppt/media/image41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6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6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media/image31.png" ContentType="image/png"/>
  <Override PartName="/ppt/media/image1.png" ContentType="image/pn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88E-9C46-418B-B519-2CD0C685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4A7-9192-44B6-B678-D90CABD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B6B-D8E1-4EF5-B4FE-ED6EFC5E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7BB0-2FD3-4E45-9325-37ABBD0C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E6C8-2D29-4E8D-8659-D03D4492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A6B-BBFF-4B9D-8008-A45A4294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C2B-DD41-4F02-B0CA-9B576AC8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6360-15CC-4D1C-B981-256B1F9D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3EE-7B37-4BAB-A975-387723CD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8D68-30D4-4153-87D6-4A58F371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BB0-64D7-4FC7-A748-27D2313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6CE-87DE-4A1E-A6D0-05FFA277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AC70-ACE6-4A67-8953-AE089AB78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050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0"/>
          <p:cNvSpPr/>
          <p:nvPr/>
        </p:nvSpPr>
        <p:spPr>
          <a:xfrm>
            <a:off x="2390760" y="321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Text Box 21"/>
          <p:cNvSpPr/>
          <p:nvPr/>
        </p:nvSpPr>
        <p:spPr>
          <a:xfrm>
            <a:off x="216000" y="404640"/>
            <a:ext cx="87120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3" name="Picture 13" descr=""/>
          <p:cNvPicPr/>
          <p:nvPr/>
        </p:nvPicPr>
        <p:blipFill>
          <a:blip r:embed="rId1"/>
          <a:srcRect l="13693" t="13703" r="36223" b="2871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5" descr=""/>
          <p:cNvPicPr/>
          <p:nvPr/>
        </p:nvPicPr>
        <p:blipFill>
          <a:blip r:embed="rId2"/>
          <a:stretch/>
        </p:blipFill>
        <p:spPr>
          <a:xfrm>
            <a:off x="-36360" y="262080"/>
            <a:ext cx="918036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x_f4115ab8"/>
          <p:cNvPicPr/>
          <p:nvPr/>
        </p:nvPicPr>
        <p:blipFill>
          <a:blip r:embed="rId1"/>
          <a:stretch/>
        </p:blipFill>
        <p:spPr>
          <a:xfrm>
            <a:off x="0" y="-41400"/>
            <a:ext cx="9325080" cy="69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x_2762c58b"/>
          <p:cNvPicPr/>
          <p:nvPr/>
        </p:nvPicPr>
        <p:blipFill>
          <a:blip r:embed="rId1"/>
          <a:stretch/>
        </p:blipFill>
        <p:spPr>
          <a:xfrm>
            <a:off x="0" y="-41400"/>
            <a:ext cx="9325080" cy="699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14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96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s://arhivurokov.ru/kopilka/uploads/user_file_5557526193bf5/img_user_file_5557526193bf5_34.jpg"/>
          <p:cNvPicPr/>
          <p:nvPr/>
        </p:nvPicPr>
        <p:blipFill>
          <a:blip r:embed="rId1"/>
          <a:srcRect l="11237" t="14221" r="8783" b="5427"/>
          <a:stretch/>
        </p:blipFill>
        <p:spPr>
          <a:xfrm>
            <a:off x="22320" y="-14400"/>
            <a:ext cx="91216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image.slidesharecdn.com/4-130518132329-phpapp02/95/4-17-638.jpg?cb=1368883503"/>
          <p:cNvPicPr/>
          <p:nvPr/>
        </p:nvPicPr>
        <p:blipFill>
          <a:blip r:embed="rId1"/>
          <a:srcRect l="32565" t="21169" r="4899" b="14968"/>
          <a:stretch/>
        </p:blipFill>
        <p:spPr>
          <a:xfrm>
            <a:off x="-468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C:\Users\Мариночка\Desktop\фото Блокады\фото 2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https://arhivurokov.ru/kopilka/uploads/user_file_566702495d68e/img_user_file_566702495d68e_0_11.jpg"/>
          <p:cNvPicPr/>
          <p:nvPr/>
        </p:nvPicPr>
        <p:blipFill>
          <a:blip r:embed="rId1"/>
          <a:srcRect l="22637" t="27845" r="20458" b="15313"/>
          <a:stretch/>
        </p:blipFill>
        <p:spPr>
          <a:xfrm>
            <a:off x="-648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WW2End_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5090048111111111111111"/>
          <p:cNvPicPr/>
          <p:nvPr/>
        </p:nvPicPr>
        <p:blipFill>
          <a:blip r:embed="rId2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title2"/>
          <p:cNvPicPr/>
          <p:nvPr/>
        </p:nvPicPr>
        <p:blipFill>
          <a:blip r:embed="rId3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picture"/>
          <p:cNvPicPr/>
          <p:nvPr/>
        </p:nvPicPr>
        <p:blipFill>
          <a:blip r:embed="rId4"/>
          <a:srcRect l="4360" t="3041" r="4978" b="5019"/>
          <a:stretch/>
        </p:blipFill>
        <p:spPr>
          <a:xfrm>
            <a:off x="2411280" y="0"/>
            <a:ext cx="6732720" cy="623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5"/>
          <a:srcRect l="0" t="1602" r="2879" b="1401"/>
          <a:stretch/>
        </p:blipFill>
        <p:spPr>
          <a:xfrm>
            <a:off x="1851120" y="77760"/>
            <a:ext cx="5526000" cy="673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Мариночка\Desktop\фото Блокады\0046-054-U-planety-nashej-serdtse-Bjotsja-gulko-kak-nabat.jpg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4292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6443640" y="131760"/>
            <a:ext cx="194616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1330200" y="476280"/>
            <a:ext cx="511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Дневник  Тани Савичевой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увековечен в граните и входит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в мемориальный комплекс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«Зелёный пояс славы»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0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Users\Мариночка\Desktop\фото Блокады\1295574823_1245433936_object_78.1114271356.24847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2"/>
          <p:cNvSpPr/>
          <p:nvPr/>
        </p:nvSpPr>
        <p:spPr>
          <a:xfrm>
            <a:off x="324000" y="331920"/>
            <a:ext cx="8424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2"/>
          <a:stretch/>
        </p:blipFill>
        <p:spPr>
          <a:xfrm>
            <a:off x="109440" y="0"/>
            <a:ext cx="892512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Мариночка\Desktop\54296683_38786301_397364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6456" t="471" r="11779" b="-465"/>
          <a:stretch/>
        </p:blipFill>
        <p:spPr>
          <a:xfrm>
            <a:off x="-252360" y="0"/>
            <a:ext cx="9385200" cy="70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9" descr="https://encrypted-tbn0.gstatic.com/images?q=tbn:ANd9GcT_XiwcwsPFkDizp1C3m9RiUWJ2XGGbO_47MknzOEbb5g_aSqA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алют в Ленинграде 27 января 1944 года.mp4" descr=""/>
          <p:cNvPicPr/>
          <p:nvPr/>
        </p:nvPicPr>
        <p:blipFill>
          <a:blip r:embed="rId1"/>
          <a:stretch/>
        </p:blipFill>
        <p:spPr>
          <a:xfrm>
            <a:off x="0" y="11160"/>
            <a:ext cx="9128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2863800" y="69840"/>
            <a:ext cx="6029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4" name="Picture 2" descr="C:\Users\Мариночка\Desktop\фото Блокады\Piskarevskoe_memorialnoe_kladbicshe_1.jpeg"/>
          <p:cNvPicPr/>
          <p:nvPr/>
        </p:nvPicPr>
        <p:blipFill>
          <a:blip r:embed="rId1"/>
          <a:srcRect l="13734" t="3620" r="4430" b="505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2863800" y="69840"/>
            <a:ext cx="6029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8" name="Picture 3" descr="C:\Users\Мариночка\Desktop\фото Блокады\63766027_3822_msgbig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468360" y="5705640"/>
            <a:ext cx="81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5" name="Picture 2" descr="C:\Users\Мариночка\Desktop\фото Блокады\480eab0e4cd5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7043760"/>
          </a:xfrm>
          <a:prstGeom prst="rect">
            <a:avLst/>
          </a:prstGeom>
          <a:ln w="0">
            <a:noFill/>
          </a:ln>
        </p:spPr>
      </p:pic>
      <p:pic>
        <p:nvPicPr>
          <p:cNvPr id="126" name="METRONOM_-_27.01_-_den_snyatiya_blokady_Leningrada_(iPleer.fm)(1).mp3" descr=""/>
          <p:cNvPicPr/>
          <p:nvPr/>
        </p:nvPicPr>
        <p:blipFill>
          <a:blip r:embed="rId2"/>
          <a:stretch/>
        </p:blipFill>
        <p:spPr>
          <a:xfrm>
            <a:off x="8156520" y="62546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8179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68360" y="333360"/>
            <a:ext cx="79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679840" y="366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539640" y="431172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203640" y="105264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468360" y="5705640"/>
            <a:ext cx="8136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1" name="METRONOM_-_27.01_-_den_snyatiya_blokady_Leningrada_(iPleer.fm)(1).mp3" descr=""/>
          <p:cNvPicPr/>
          <p:nvPr/>
        </p:nvPicPr>
        <p:blipFill>
          <a:blip r:embed="rId6"/>
          <a:stretch/>
        </p:blipFill>
        <p:spPr>
          <a:xfrm>
            <a:off x="8370720" y="6167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7"/>
          <a:srcRect l="31241" t="14971" r="29475" b="10175"/>
          <a:stretch/>
        </p:blipFill>
        <p:spPr>
          <a:xfrm>
            <a:off x="1676520" y="109440"/>
            <a:ext cx="566568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2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8179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Блокад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Объект 3" descr=""/>
          <p:cNvPicPr/>
          <p:nvPr/>
        </p:nvPicPr>
        <p:blipFill>
          <a:blip r:embed="rId1"/>
          <a:srcRect l="7877" t="9262" r="4879" b="9508"/>
          <a:stretch/>
        </p:blipFill>
        <p:spPr>
          <a:xfrm>
            <a:off x="0" y="765000"/>
            <a:ext cx="9093240" cy="609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rcRect l="3220" t="43035" r="1609" b="38945"/>
          <a:stretch/>
        </p:blipFill>
        <p:spPr>
          <a:xfrm>
            <a:off x="0" y="36360"/>
            <a:ext cx="914400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blokada"/>
          <p:cNvPicPr/>
          <p:nvPr/>
        </p:nvPicPr>
        <p:blipFill>
          <a:blip r:embed="rId1"/>
          <a:srcRect l="0" t="8901" r="12768" b="8599"/>
          <a:stretch/>
        </p:blipFill>
        <p:spPr>
          <a:xfrm>
            <a:off x="0" y="0"/>
            <a:ext cx="943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Мариночка\Desktop\фото Блокады\035bdb3394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4" name="4. Дню снятия блокады Ленинграда-Посвящается!.mp4" descr=""/>
          <p:cNvPicPr/>
          <p:nvPr/>
        </p:nvPicPr>
        <p:blipFill>
          <a:blip r:embed="rId1"/>
          <a:stretch/>
        </p:blipFill>
        <p:spPr>
          <a:xfrm>
            <a:off x="23760" y="11160"/>
            <a:ext cx="9129600" cy="684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443_big"/>
          <p:cNvPicPr/>
          <p:nvPr/>
        </p:nvPicPr>
        <p:blipFill>
          <a:blip r:embed="rId1"/>
          <a:stretch/>
        </p:blipFill>
        <p:spPr>
          <a:xfrm>
            <a:off x="2268360" y="0"/>
            <a:ext cx="431496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WW2End_1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2548080" cy="391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p5090048111111111111111"/>
          <p:cNvPicPr/>
          <p:nvPr/>
        </p:nvPicPr>
        <p:blipFill>
          <a:blip r:embed="rId3"/>
          <a:stretch/>
        </p:blipFill>
        <p:spPr>
          <a:xfrm>
            <a:off x="5146560" y="3840120"/>
            <a:ext cx="3997440" cy="3017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title2"/>
          <p:cNvPicPr/>
          <p:nvPr/>
        </p:nvPicPr>
        <p:blipFill>
          <a:blip r:embed="rId4"/>
          <a:stretch/>
        </p:blipFill>
        <p:spPr>
          <a:xfrm>
            <a:off x="0" y="3500280"/>
            <a:ext cx="2540160" cy="3357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picture"/>
          <p:cNvPicPr/>
          <p:nvPr/>
        </p:nvPicPr>
        <p:blipFill>
          <a:blip r:embed="rId5"/>
          <a:srcRect l="4360" t="3041" r="4978" b="5019"/>
          <a:stretch/>
        </p:blipFill>
        <p:spPr>
          <a:xfrm>
            <a:off x="6051600" y="-20520"/>
            <a:ext cx="3092400" cy="3860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2535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879480" y="5013360"/>
            <a:ext cx="110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539640" y="402444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4479840" y="-144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Picture 2" descr="C:\Users\Мариночка\Desktop\фото Блокады\44.jpg"/>
          <p:cNvPicPr/>
          <p:nvPr/>
        </p:nvPicPr>
        <p:blipFill>
          <a:blip r:embed="rId6"/>
          <a:stretch/>
        </p:blipFill>
        <p:spPr>
          <a:xfrm>
            <a:off x="0" y="9360"/>
            <a:ext cx="933768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1403280" y="189000"/>
            <a:ext cx="460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1332000" y="0"/>
            <a:ext cx="2663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9" name="Picture 2" descr="https://ds04.infourok.ru/uploads/ex/05a9/0001c6e0-4955372b/2/img26.jpg"/>
          <p:cNvPicPr/>
          <p:nvPr/>
        </p:nvPicPr>
        <p:blipFill>
          <a:blip r:embed="rId1"/>
          <a:srcRect l="0" t="0" r="5878" b="7575"/>
          <a:stretch/>
        </p:blipFill>
        <p:spPr>
          <a:xfrm>
            <a:off x="-36360" y="-3024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1332000" y="260280"/>
            <a:ext cx="2087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332000" y="66240"/>
            <a:ext cx="2952720" cy="459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900 дней и ночей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3"/>
          <p:cNvPicPr/>
          <p:nvPr/>
        </p:nvPicPr>
        <p:blipFill>
          <a:blip r:embed="rId1"/>
          <a:stretch/>
        </p:blipFill>
        <p:spPr>
          <a:xfrm>
            <a:off x="0" y="0"/>
            <a:ext cx="5076720" cy="335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34275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3792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0_4e48d_90f6e755_XL"/>
          <p:cNvPicPr/>
          <p:nvPr/>
        </p:nvPicPr>
        <p:blipFill>
          <a:blip r:embed="rId3"/>
          <a:stretch/>
        </p:blipFill>
        <p:spPr>
          <a:xfrm>
            <a:off x="3924360" y="3332160"/>
            <a:ext cx="5219640" cy="3525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3a1e95300d71t"/>
          <p:cNvPicPr/>
          <p:nvPr/>
        </p:nvPicPr>
        <p:blipFill>
          <a:blip r:embed="rId4"/>
          <a:stretch/>
        </p:blipFill>
        <p:spPr>
          <a:xfrm>
            <a:off x="0" y="3314880"/>
            <a:ext cx="4932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lokada"/>
          <p:cNvPicPr/>
          <p:nvPr/>
        </p:nvPicPr>
        <p:blipFill>
          <a:blip r:embed="rId1"/>
          <a:stretch/>
        </p:blipFill>
        <p:spPr>
          <a:xfrm>
            <a:off x="4680" y="-77760"/>
            <a:ext cx="9139320" cy="693576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7:31:15Z</dcterms:created>
  <dc:creator>Ольга</dc:creator>
  <dc:description/>
  <dc:language>en-US</dc:language>
  <cp:lastModifiedBy>Организатор</cp:lastModifiedBy>
  <dcterms:modified xsi:type="dcterms:W3CDTF">2020-03-20T06:48:10Z</dcterms:modified>
  <cp:revision>159</cp:revision>
  <dc:subject/>
  <dc:title>Слайд 1</dc:title>
</cp:coreProperties>
</file>