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91A-8568-4DAA-B728-43AEF403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E3F-1DDF-4949-BC10-4D475CB2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5B6-441B-4C96-BD6A-5BAD0A3E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B45-8467-45B1-B979-1FCD90E1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EFBE-0F02-4B44-A384-D4B93793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1B68-0161-4550-A32D-419179E4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AA6E-5C3A-4DBB-95AC-325E0C50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8C76-4A8E-422D-9238-620ED053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F414-16F6-42CB-A5F3-A1FD1974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0F06-85F5-4243-9F9D-FD6ABDF3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979F-E00F-4FFA-B894-99454AB1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2F9-45A7-4A3F-96E6-639B816A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8CE5-3F6C-4891-856A-FD219BDE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CF35-D832-453A-8E8C-BD2856F1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B58D-63D9-4D61-8E91-A3C56505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441C-E6C2-4977-BB40-2DCF9037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42D9-1E89-4929-9269-7842294C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B99-9AF5-41AA-AE48-769839DF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940-345E-41FF-A9FA-68BCB777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9B8-7C13-4FDF-9092-56C2D949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3F2-9342-42B7-B5B5-A9BDD787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E98-5179-4F3B-90D1-19FAA85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A4A-9379-469E-8E0F-2EF8C0B8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FD4-5DCB-4C2C-BC45-37950D94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C0F9-B85C-46D7-B230-03320562D6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7BE1-0531-4F5E-9589-F2936AE298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лассный час  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освященный Дню защитника Отечеств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в  5 В класс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201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i?id=74264323-07"/>
          <p:cNvPicPr/>
          <p:nvPr/>
        </p:nvPicPr>
        <p:blipFill>
          <a:blip r:embed="rId1"/>
          <a:stretch/>
        </p:blipFill>
        <p:spPr>
          <a:xfrm>
            <a:off x="533520" y="30492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i?id=127477487-04"/>
          <p:cNvPicPr/>
          <p:nvPr/>
        </p:nvPicPr>
        <p:blipFill>
          <a:blip r:embed="rId2"/>
          <a:stretch/>
        </p:blipFill>
        <p:spPr>
          <a:xfrm>
            <a:off x="4572000" y="3808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304560"/>
            <a:ext cx="3352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3 февраля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– красный день календаря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 этот день отца и дед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здравляет вся семья!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i?id=73307647-04"/>
          <p:cNvPicPr/>
          <p:nvPr/>
        </p:nvPicPr>
        <p:blipFill>
          <a:blip r:embed="rId1"/>
          <a:stretch/>
        </p:blipFill>
        <p:spPr>
          <a:xfrm>
            <a:off x="457200" y="228600"/>
            <a:ext cx="198108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185350315-01"/>
          <p:cNvPicPr/>
          <p:nvPr/>
        </p:nvPicPr>
        <p:blipFill>
          <a:blip r:embed="rId2"/>
          <a:stretch/>
        </p:blipFill>
        <p:spPr>
          <a:xfrm>
            <a:off x="6248520" y="228600"/>
            <a:ext cx="2590560" cy="434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3200400" y="4952880"/>
            <a:ext cx="2355840" cy="1587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96840" y="328680"/>
            <a:ext cx="9096480" cy="151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407880" y="1547640"/>
            <a:ext cx="84074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БУДЬТЕ МУЖЕСТВЕННЫМИ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6" descr="правда о 23 февраля, или история возникновения мифа"/>
          <p:cNvPicPr/>
          <p:nvPr/>
        </p:nvPicPr>
        <p:blipFill>
          <a:blip r:embed="rId1"/>
          <a:stretch/>
        </p:blipFill>
        <p:spPr>
          <a:xfrm>
            <a:off x="2362320" y="2590920"/>
            <a:ext cx="533376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РИЯ ПРАЗДН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9568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начальн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3 феврал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аздновался как день рожден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расной арм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 честь победы под Нарвой и Псковом над немецкими войска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нь первой победы принялся днем рождения арм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i?id=136837392-04"/>
          <p:cNvPicPr/>
          <p:nvPr/>
        </p:nvPicPr>
        <p:blipFill>
          <a:blip r:embed="rId1"/>
          <a:stretch/>
        </p:blipFill>
        <p:spPr>
          <a:xfrm>
            <a:off x="457200" y="213372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Красная армия"/>
          <p:cNvPicPr/>
          <p:nvPr/>
        </p:nvPicPr>
        <p:blipFill>
          <a:blip r:embed="rId1"/>
          <a:stretch/>
        </p:blipFill>
        <p:spPr>
          <a:xfrm>
            <a:off x="5486400" y="457200"/>
            <a:ext cx="3247920" cy="5867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33520" y="1772280"/>
            <a:ext cx="4876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революции этот праздник оказался под запрето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смену ему 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у была учреждена новая да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 февраля – День Красной Арми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72406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1922 года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3 феврал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обрело характер большого всенародн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здника, как День Рождения Красной Арм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2 февраля 1922 год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Красной площади состоялся парад войск Московского гарнизона, а вечером - торжественное заседание Моссовета совместно с представителями воинских частей Московского гарнизо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i?id=108877333-10"/>
          <p:cNvPicPr/>
          <p:nvPr/>
        </p:nvPicPr>
        <p:blipFill>
          <a:blip r:embed="rId1"/>
          <a:stretch/>
        </p:blipFill>
        <p:spPr>
          <a:xfrm>
            <a:off x="3200400" y="0"/>
            <a:ext cx="312408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i?id=16106486-10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272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i?id=103402861-08"/>
          <p:cNvPicPr/>
          <p:nvPr/>
        </p:nvPicPr>
        <p:blipFill>
          <a:blip r:embed="rId3"/>
          <a:stretch/>
        </p:blipFill>
        <p:spPr>
          <a:xfrm>
            <a:off x="380880" y="3049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6995160"/>
            <a:ext cx="68580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4" descr="С 1946 года праздник стал называться Днем Советской Армии и Военно-Морского Флота"/>
          <p:cNvPicPr/>
          <p:nvPr/>
        </p:nvPicPr>
        <p:blipFill>
          <a:blip r:embed="rId1"/>
          <a:stretch/>
        </p:blipFill>
        <p:spPr>
          <a:xfrm>
            <a:off x="533520" y="380880"/>
            <a:ext cx="3962160" cy="5791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4800600" y="686520"/>
            <a:ext cx="37339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22 году эта дата была официальн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а Днем Красной Арм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нее 23 февра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отмечался в ССС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народный праздни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 Советской Армии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енно-Морского Фл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распада Советского Союза да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переименова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нь защитника Отече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1993 года этот праздник ст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ывать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нем Защитника Оте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ом понятии заключен огром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мысл – любить, почит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остойно защищать нашу Отчизну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наши солдаты и офицеры доказал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они с гордостью могут носи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вание Защитника Отечества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праздник для всего народ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ь в каждой семье в это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ь будут звучать поздравлен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рые слова для наших дед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цов, сыновей, вну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сть их жизнь всегда освещ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ликая слава побед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оссийской Арм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мощь русского оруж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овь и преданность к своей Родин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i?id=76028084-02"/>
          <p:cNvPicPr/>
          <p:nvPr/>
        </p:nvPicPr>
        <p:blipFill>
          <a:blip r:embed="rId1"/>
          <a:stretch/>
        </p:blipFill>
        <p:spPr>
          <a:xfrm>
            <a:off x="6477120" y="3352680"/>
            <a:ext cx="236196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?id=40191216-10"/>
          <p:cNvPicPr/>
          <p:nvPr/>
        </p:nvPicPr>
        <p:blipFill>
          <a:blip r:embed="rId2"/>
          <a:stretch/>
        </p:blipFill>
        <p:spPr>
          <a:xfrm>
            <a:off x="6400800" y="38088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952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ерь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3 феврал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оспринимае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только как праздник военны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теранов представителей силовых структур, но и просто всех муж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ников Родины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ироком смысле этого слов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ерь поздравления и пода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этот день принимает кажд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ставитель сильной половины человечества в нашей стран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i?id=24498538-11"/>
          <p:cNvPicPr/>
          <p:nvPr/>
        </p:nvPicPr>
        <p:blipFill>
          <a:blip r:embed="rId1"/>
          <a:stretch/>
        </p:blipFill>
        <p:spPr>
          <a:xfrm>
            <a:off x="5486400" y="3886200"/>
            <a:ext cx="3124080" cy="2666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i?id=153534506-05"/>
          <p:cNvPicPr/>
          <p:nvPr/>
        </p:nvPicPr>
        <p:blipFill>
          <a:blip r:embed="rId2"/>
          <a:stretch/>
        </p:blipFill>
        <p:spPr>
          <a:xfrm>
            <a:off x="5562720" y="304920"/>
            <a:ext cx="3124080" cy="327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ы от всей души поздравляем всех Россиян 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нем защитника Отече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елаем вам и вашим близким крепкого здоровья, счастья и благополучия, пусть вашу жизнь всегда освещает великая слава побед российской армии, сила и мощь русского оружия, любовь и преданность своей Отчиз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i?id=16664188-07"/>
          <p:cNvPicPr/>
          <p:nvPr/>
        </p:nvPicPr>
        <p:blipFill>
          <a:blip r:embed="rId1"/>
          <a:stretch/>
        </p:blipFill>
        <p:spPr>
          <a:xfrm>
            <a:off x="609480" y="4495680"/>
            <a:ext cx="221004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?id=70294558-03"/>
          <p:cNvPicPr/>
          <p:nvPr/>
        </p:nvPicPr>
        <p:blipFill>
          <a:blip r:embed="rId2"/>
          <a:stretch/>
        </p:blipFill>
        <p:spPr>
          <a:xfrm>
            <a:off x="3276720" y="4572000"/>
            <a:ext cx="2361960" cy="188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i?id=24303100-12"/>
          <p:cNvPicPr/>
          <p:nvPr/>
        </p:nvPicPr>
        <p:blipFill>
          <a:blip r:embed="rId3"/>
          <a:stretch/>
        </p:blipFill>
        <p:spPr>
          <a:xfrm>
            <a:off x="6172200" y="45720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о помнить, что это единственный день в календаре страны, позволяющий, соответственно мужчинам - иметь сугубо свой, "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ужск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" праздни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женщинам - лишний раз поблагодарить и поздравить сильную половину человечеств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i?id=114678996-10"/>
          <p:cNvPicPr/>
          <p:nvPr/>
        </p:nvPicPr>
        <p:blipFill>
          <a:blip r:embed="rId1"/>
          <a:stretch/>
        </p:blipFill>
        <p:spPr>
          <a:xfrm>
            <a:off x="5410080" y="380880"/>
            <a:ext cx="3276720" cy="243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i?id=56829628-00"/>
          <p:cNvPicPr/>
          <p:nvPr/>
        </p:nvPicPr>
        <p:blipFill>
          <a:blip r:embed="rId2"/>
          <a:stretch/>
        </p:blipFill>
        <p:spPr>
          <a:xfrm>
            <a:off x="5715000" y="29718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17T18:36:4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