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B72F-A361-4AE3-9921-4B6E0634C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9AD7-89DA-4D96-80D3-0CC915D67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A8E7-8342-45EC-8827-F59F97A82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3E24-68CE-4633-859C-9EE6E8A98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B7E5-3B6E-4756-AC55-F5912473B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EE2C-0946-4EB0-BE59-53477E877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8C4D-5ED8-4A67-8D3A-72E469DA4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9154-8A71-4CBE-AA29-C33E99640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705-D963-4C56-BC7B-872C96E80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8EF5-E55F-4508-A3FF-5206EB20A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61DC-CC28-4D55-BFAE-A44AB358FA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65CD-26B1-466D-82AD-A86965537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657-2A0F-42E7-A36E-4463E668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71D-CFFA-4576-863F-FDB36F59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89A-8DE3-432F-A939-68AC3449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B24-599C-447F-BD1F-EB3BAA54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7D0-A180-4586-BD28-2EF43254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57B-3580-494D-BFF5-D495E979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A59-F181-48B8-BB2B-FC70B98A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CFB-119E-4A1B-869F-53E79BE8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FEA-21C3-47A3-A323-B251936C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08F-FB7B-4847-BD94-513FDE9C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F9D-E001-4288-A737-BD4A91E6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0EB-F8E2-4F6D-89EC-A021ADF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6F99-AF25-42C6-88C6-94B82EFD8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729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овицы 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720108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служит родине верно, тот долг исполняет пример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на — мать, умей за нее посто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без родины — соловей без пес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за родину дерется, тому сила двойная д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ода во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5977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сколько родов войск, которые должны обеспечить армию и флот всем необходимым. Это служба тыла, главное военно-медицинское управление, федеральное агентство по специальному строительству и службы расквартирования и обустройства и железнодорожные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469200" y="4005360"/>
            <a:ext cx="1162080" cy="14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8424720" y="6305400"/>
            <a:ext cx="7192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059520" cy="333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116000" y="4797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ляем победит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войс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ухопутные вой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оенно-воздушные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оенно-морской фл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23280" y="6305400"/>
            <a:ext cx="720720" cy="5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хопутны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ы для ведения боя на суше. Они способны в совокупности с другими видами ВС вести наступление, отражать вторжение противника, наносить огневые удары и удерживать занимаемые территории и рубе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619280" y="4581360"/>
            <a:ext cx="1873080" cy="97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цццц"/>
          <p:cNvPicPr/>
          <p:nvPr/>
        </p:nvPicPr>
        <p:blipFill>
          <a:blip r:embed="rId4"/>
          <a:stretch/>
        </p:blipFill>
        <p:spPr>
          <a:xfrm>
            <a:off x="4356000" y="422100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-воздуш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6913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 разведку, важные военно-экономические объекты и сухопутные войска обороняются от ударов с воздуха, перевозятся ценные грузы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2160360" cy="118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уввва"/>
          <p:cNvPicPr/>
          <p:nvPr/>
        </p:nvPicPr>
        <p:blipFill>
          <a:blip r:embed="rId4"/>
          <a:stretch/>
        </p:blipFill>
        <p:spPr>
          <a:xfrm>
            <a:off x="4427640" y="3933720"/>
            <a:ext cx="242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-морской ф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199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ает интересы нашей страны во время ведения боевых действий на морских и океанических просторах, поддерживает сухопутные войска в операциях на континентальных театрах военных действи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160720" cy="10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прнеп"/>
          <p:cNvPicPr/>
          <p:nvPr/>
        </p:nvPicPr>
        <p:blipFill>
          <a:blip r:embed="rId4"/>
          <a:stretch/>
        </p:blipFill>
        <p:spPr>
          <a:xfrm>
            <a:off x="3059280" y="3860640"/>
            <a:ext cx="19904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ьоррр"/>
          <p:cNvPicPr/>
          <p:nvPr/>
        </p:nvPicPr>
        <p:blipFill>
          <a:blip r:embed="rId5"/>
          <a:stretch/>
        </p:blipFill>
        <p:spPr>
          <a:xfrm>
            <a:off x="5435640" y="393372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а войс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627552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кет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ичес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шно-дес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8388360" y="6278400"/>
            <a:ext cx="75564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кетны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6826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ются главным компонентом стратегических ядерных сил России, так как предназначены для поражения групповыми, массированными или одиночными ракетно-ядерными ударами стратегических объектов проти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2158920" cy="1265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8317080" y="6222960"/>
            <a:ext cx="826920" cy="63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шгнн"/>
          <p:cNvPicPr/>
          <p:nvPr/>
        </p:nvPicPr>
        <p:blipFill>
          <a:blip r:embed="rId3"/>
          <a:stretch/>
        </p:blipFill>
        <p:spPr>
          <a:xfrm>
            <a:off x="3276720" y="4076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лор"/>
          <p:cNvPicPr/>
          <p:nvPr/>
        </p:nvPicPr>
        <p:blipFill>
          <a:blip r:embed="rId4"/>
          <a:stretch/>
        </p:blipFill>
        <p:spPr>
          <a:xfrm>
            <a:off x="5435640" y="4005360"/>
            <a:ext cx="2219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ически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0675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 собой принципиально новый род войск, имеющих целью обеспечить безопасность РФ в космической 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8388360" y="6276960"/>
            <a:ext cx="755640" cy="58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нек"/>
          <p:cNvPicPr/>
          <p:nvPr/>
        </p:nvPicPr>
        <p:blipFill>
          <a:blip r:embed="rId2"/>
          <a:stretch/>
        </p:blipFill>
        <p:spPr>
          <a:xfrm>
            <a:off x="2843280" y="378936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ыцц"/>
          <p:cNvPicPr/>
          <p:nvPr/>
        </p:nvPicPr>
        <p:blipFill>
          <a:blip r:embed="rId3"/>
          <a:stretch/>
        </p:blipFill>
        <p:spPr>
          <a:xfrm>
            <a:off x="5219640" y="2924280"/>
            <a:ext cx="2352600" cy="142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мпе"/>
          <p:cNvPicPr/>
          <p:nvPr/>
        </p:nvPicPr>
        <p:blipFill>
          <a:blip r:embed="rId4"/>
          <a:stretch/>
        </p:blipFill>
        <p:spPr>
          <a:xfrm>
            <a:off x="684360" y="2924280"/>
            <a:ext cx="2114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шно-десантны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6923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од войск вооруженных сил, обладающий высокой мобильностью. Их главная задача — ведение боевых действий в тылу проти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1368360" cy="1354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рррр"/>
          <p:cNvPicPr/>
          <p:nvPr/>
        </p:nvPicPr>
        <p:blipFill>
          <a:blip r:embed="rId3"/>
          <a:stretch/>
        </p:blipFill>
        <p:spPr>
          <a:xfrm>
            <a:off x="2556000" y="3789360"/>
            <a:ext cx="242892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хъъъзщ"/>
          <p:cNvPicPr/>
          <p:nvPr/>
        </p:nvPicPr>
        <p:blipFill>
          <a:blip r:embed="rId4"/>
          <a:stretch/>
        </p:blipFill>
        <p:spPr>
          <a:xfrm>
            <a:off x="5292720" y="38606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18:34Z</dcterms:created>
  <dc:creator>Семова</dc:creator>
  <dc:description/>
  <dc:language>en-US</dc:language>
  <cp:lastModifiedBy>user</cp:lastModifiedBy>
  <dcterms:modified xsi:type="dcterms:W3CDTF">2015-02-17T20:49:05Z</dcterms:modified>
  <cp:revision>29</cp:revision>
  <dc:subject/>
  <dc:title>23 февраля – День защитника Отечества</dc:title>
</cp:coreProperties>
</file>