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03E5-67C3-4669-A431-B1F6589570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5FCE-8CB5-4887-B36F-5C10991EBE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693B-47E8-4774-8CC8-2584A66619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2AF2-19C4-42A2-94BC-59FB4EB3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8D6B-0EBA-49A4-8D88-B6D27958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86EE-15E5-4DBB-85DE-4344EACA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7F02-87C3-44B5-98FF-A6FF8AE8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EE6E-2ECC-428A-BA09-0B43730C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5F6D-4274-429D-AA5C-C42D8C2D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893-3A8B-429E-8D22-C38F71DD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A24C-1B68-4FC8-9ADD-F0151541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781D-6FF1-47CB-8662-028ACF17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B66E-2895-4E4F-B0C3-1B81D2F8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B4BE-93E5-44F8-B5F1-D9C82E35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84C6-3B7D-4D6E-BF0F-DADE3CA3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00E9-F05A-4A86-A7EA-43DB394C98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7"/>
          <p:cNvSpPr txBox="1"/>
          <p:nvPr/>
        </p:nvSpPr>
        <p:spPr>
          <a:xfrm>
            <a:off x="1143000" y="152388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 жалей себя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1371600" y="1073160"/>
            <a:ext cx="678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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я семья вместе и душа на мес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ываться человеком легко, быть им тру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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ез добрых дел нет доброго им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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брое слово человеку - что дождь в засух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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брое слово лучше мягкого пиро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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бы делать добро, надо им облад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ff"/>
                </a:solidFill>
                <a:latin typeface="Monotype Corsiva"/>
              </a:rPr>
              <a:t>Доброта – это Солнц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Monotype Corsiva"/>
              </a:rPr>
              <a:t>которое согревает душу челове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Monotype Corsiva"/>
              </a:rPr>
              <a:t>Всё хорошее в природе - от солнц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Monotype Corsiva"/>
              </a:rPr>
              <a:t>а всё лучшее в жизни – от человека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М.Пришв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521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Monotype Corsiva"/>
              </a:rPr>
              <a:t>«Если ты хочешь, чтобы вокруг тебя были хорошие, добрые люди, попробуй относиться к ним внимательно, ласково, вежливо - увидишь, что все станет лучше. Все в жизни зависит от тебя самого, поверь мне…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          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(М.Горьки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мать тереза"/>
          <p:cNvPicPr/>
          <p:nvPr/>
        </p:nvPicPr>
        <p:blipFill>
          <a:blip r:embed="rId1"/>
          <a:stretch/>
        </p:blipFill>
        <p:spPr>
          <a:xfrm>
            <a:off x="990720" y="2286000"/>
            <a:ext cx="3551040" cy="29019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51" name="Прямоугольник 4"/>
          <p:cNvSpPr/>
          <p:nvPr/>
        </p:nvSpPr>
        <p:spPr>
          <a:xfrm>
            <a:off x="4724280" y="2971800"/>
            <a:ext cx="383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ть Тере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&amp;Dcy;&amp;ocy;&amp;kcy;&amp;tcy;&amp;ocy;&amp;rcy; &amp;Lcy;&amp;icy;&amp;zcy;&amp;acy; &amp;Gcy;&amp;lcy;&amp;icy;&amp;ncy;&amp;kcy;&amp;acy;"/>
          <p:cNvPicPr/>
          <p:nvPr/>
        </p:nvPicPr>
        <p:blipFill>
          <a:blip r:embed="rId1"/>
          <a:stretch/>
        </p:blipFill>
        <p:spPr>
          <a:xfrm>
            <a:off x="1295280" y="846000"/>
            <a:ext cx="6248520" cy="55548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2666880" y="216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лизавета Петровна Гл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&amp;Rcy;&amp;ocy;&amp;shcy;&amp;acy;&amp;lcy;&amp;softcy; &amp;Lcy;&amp;iecy;&amp;ocy;&amp;ncy;&amp;icy;&amp;dcy; &amp;Mcy;&amp;icy;&amp;khcy;&amp;acy;&amp;jcy;&amp;lcy;&amp;ocy;&amp;vcy;&amp;icy;&amp;chcy;"/>
          <p:cNvPicPr/>
          <p:nvPr/>
        </p:nvPicPr>
        <p:blipFill>
          <a:blip r:embed="rId1"/>
          <a:stretch/>
        </p:blipFill>
        <p:spPr>
          <a:xfrm>
            <a:off x="1371600" y="933480"/>
            <a:ext cx="6858000" cy="53150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2057400" y="5335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тор Рошаль Леонид Михайлович - врач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ётчик –Герой Дамир Юсуп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D:\на сайт\Милосердие\Снимок.JPG"/>
          <p:cNvPicPr/>
          <p:nvPr/>
        </p:nvPicPr>
        <p:blipFill>
          <a:blip r:embed="rId1"/>
          <a:stretch/>
        </p:blipFill>
        <p:spPr>
          <a:xfrm>
            <a:off x="1295280" y="1676520"/>
            <a:ext cx="6327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74680"/>
            <a:ext cx="792468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ff"/>
                </a:solidFill>
                <a:latin typeface="Monotype Corsiva"/>
              </a:rPr>
              <a:t>Милосердие- сердолюбие, сочувствие, любовь на деле, готовность делать добро каждому……..</a:t>
            </a:r>
            <a:br>
              <a:rPr sz="5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В.Да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З-«Земля»</a:t>
            </a:r>
            <a:br>
              <a:rPr sz="4000"/>
            </a:b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Л-«Люди»</a:t>
            </a:r>
            <a:br>
              <a:rPr sz="4000"/>
            </a:b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М-«Мысль»</a:t>
            </a:r>
            <a:br>
              <a:rPr sz="4000"/>
            </a:b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Д-«Доб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380880" y="4191120"/>
            <a:ext cx="8458200" cy="78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юди Земли, Мыслите, Думайте и Творите Добро.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Diagram 4"/>
          <p:cNvGrpSpPr/>
          <p:nvPr/>
        </p:nvGrpSpPr>
        <p:grpSpPr>
          <a:xfrm>
            <a:off x="1079280" y="609480"/>
            <a:ext cx="6984720" cy="5532480"/>
            <a:chOff x="1079280" y="609480"/>
            <a:chExt cx="6984720" cy="5532480"/>
          </a:xfrm>
        </p:grpSpPr>
        <p:sp>
          <p:nvSpPr>
            <p:cNvPr id="63" name="_s1028"/>
            <p:cNvSpPr/>
            <p:nvPr/>
          </p:nvSpPr>
          <p:spPr>
            <a:xfrm flipH="1" flipV="1">
              <a:off x="3447000" y="2397960"/>
              <a:ext cx="425880" cy="37044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29"/>
            <p:cNvSpPr/>
            <p:nvPr/>
          </p:nvSpPr>
          <p:spPr>
            <a:xfrm>
              <a:off x="1218960" y="1216800"/>
              <a:ext cx="2459160" cy="1383120"/>
            </a:xfrm>
            <a:prstGeom prst="ellipse">
              <a:avLst/>
            </a:prstGeom>
            <a:solidFill>
              <a:srgbClr val="939ea9">
                <a:alpha val="50000"/>
              </a:srgbClr>
            </a:solidFill>
            <a:ln w="57240">
              <a:solidFill>
                <a:srgbClr val="939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Память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0"/>
            <p:cNvSpPr/>
            <p:nvPr/>
          </p:nvSpPr>
          <p:spPr>
            <a:xfrm flipH="1">
              <a:off x="3314160" y="3376080"/>
              <a:ext cx="279000" cy="72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1"/>
            <p:cNvSpPr/>
            <p:nvPr/>
          </p:nvSpPr>
          <p:spPr>
            <a:xfrm>
              <a:off x="1079280" y="2684160"/>
              <a:ext cx="2235240" cy="1383120"/>
            </a:xfrm>
            <a:prstGeom prst="ellipse">
              <a:avLst/>
            </a:prstGeom>
            <a:solidFill>
              <a:srgbClr val="6d776e">
                <a:alpha val="50000"/>
              </a:srgbClr>
            </a:solidFill>
            <a:ln w="57240">
              <a:solidFill>
                <a:srgbClr val="6d77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Жалость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2"/>
            <p:cNvSpPr/>
            <p:nvPr/>
          </p:nvSpPr>
          <p:spPr>
            <a:xfrm flipH="1">
              <a:off x="3447000" y="3864600"/>
              <a:ext cx="561960" cy="48708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33"/>
            <p:cNvSpPr/>
            <p:nvPr/>
          </p:nvSpPr>
          <p:spPr>
            <a:xfrm>
              <a:off x="1358640" y="4151160"/>
              <a:ext cx="2320560" cy="13831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Сочувств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4"/>
            <p:cNvSpPr/>
            <p:nvPr/>
          </p:nvSpPr>
          <p:spPr>
            <a:xfrm>
              <a:off x="4572000" y="4066920"/>
              <a:ext cx="360" cy="69012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5"/>
            <p:cNvSpPr/>
            <p:nvPr/>
          </p:nvSpPr>
          <p:spPr>
            <a:xfrm>
              <a:off x="3174840" y="4758840"/>
              <a:ext cx="2793960" cy="1383120"/>
            </a:xfrm>
            <a:prstGeom prst="ellipse">
              <a:avLst/>
            </a:prstGeom>
            <a:solidFill>
              <a:srgbClr val="bd8949">
                <a:alpha val="50000"/>
              </a:srgbClr>
            </a:solidFill>
            <a:ln w="57240">
              <a:solidFill>
                <a:srgbClr val="bd89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Доброта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6"/>
            <p:cNvSpPr/>
            <p:nvPr/>
          </p:nvSpPr>
          <p:spPr>
            <a:xfrm>
              <a:off x="5270400" y="3982680"/>
              <a:ext cx="426960" cy="37008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7"/>
            <p:cNvSpPr/>
            <p:nvPr/>
          </p:nvSpPr>
          <p:spPr>
            <a:xfrm>
              <a:off x="5465160" y="4150440"/>
              <a:ext cx="2319840" cy="1383120"/>
            </a:xfrm>
            <a:prstGeom prst="ellipse">
              <a:avLst/>
            </a:prstGeom>
            <a:solidFill>
              <a:srgbClr val="0099cc">
                <a:alpha val="50000"/>
              </a:srgbClr>
            </a:solidFill>
            <a:ln w="57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Уважен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8"/>
            <p:cNvSpPr/>
            <p:nvPr/>
          </p:nvSpPr>
          <p:spPr>
            <a:xfrm>
              <a:off x="5689440" y="3375360"/>
              <a:ext cx="279000" cy="36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9"/>
            <p:cNvSpPr/>
            <p:nvPr/>
          </p:nvSpPr>
          <p:spPr>
            <a:xfrm>
              <a:off x="5968800" y="2683440"/>
              <a:ext cx="2095200" cy="1383120"/>
            </a:xfrm>
            <a:prstGeom prst="ellipse">
              <a:avLst/>
            </a:prstGeom>
            <a:solidFill>
              <a:srgbClr val="939ea9">
                <a:alpha val="50000"/>
              </a:srgbClr>
            </a:solidFill>
            <a:ln w="57240">
              <a:solidFill>
                <a:srgbClr val="939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Чуткость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40"/>
            <p:cNvSpPr/>
            <p:nvPr/>
          </p:nvSpPr>
          <p:spPr>
            <a:xfrm flipV="1">
              <a:off x="5270400" y="2283840"/>
              <a:ext cx="419040" cy="48528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41"/>
            <p:cNvSpPr/>
            <p:nvPr/>
          </p:nvSpPr>
          <p:spPr>
            <a:xfrm>
              <a:off x="5464440" y="1216800"/>
              <a:ext cx="2320560" cy="1383120"/>
            </a:xfrm>
            <a:prstGeom prst="ellipse">
              <a:avLst/>
            </a:prstGeom>
            <a:solidFill>
              <a:srgbClr val="6d776e">
                <a:alpha val="50000"/>
              </a:srgbClr>
            </a:solidFill>
            <a:ln w="57240">
              <a:solidFill>
                <a:srgbClr val="6d77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Терпимость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42"/>
            <p:cNvSpPr/>
            <p:nvPr/>
          </p:nvSpPr>
          <p:spPr>
            <a:xfrm flipV="1">
              <a:off x="4572000" y="1992240"/>
              <a:ext cx="0" cy="69156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3"/>
            <p:cNvSpPr/>
            <p:nvPr/>
          </p:nvSpPr>
          <p:spPr>
            <a:xfrm>
              <a:off x="3035160" y="609480"/>
              <a:ext cx="2933640" cy="13831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Сопережи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44"/>
            <p:cNvSpPr/>
            <p:nvPr/>
          </p:nvSpPr>
          <p:spPr>
            <a:xfrm>
              <a:off x="3593880" y="2647800"/>
              <a:ext cx="2095560" cy="1383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572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Милосерди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20-03-13T06:21:5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