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DDB7-A4F5-4877-A9D9-16EB0AA8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A77-8BDF-4AE2-A94F-61198F35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BED-6F95-4653-8500-F6BBB063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35E-7542-4A82-9456-B42F59FE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A72-1887-40C5-9812-5D10C2CA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820-CE41-4D65-8FAF-87288BA7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9FB-4074-467E-9D1F-A054452F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774-2C16-40D0-AB3D-253C6BE7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8E4-E1D1-4FB4-AD72-69EE8848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DB6-BFDE-49B1-89D1-022F8D45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6BF-BE08-43BC-9EDD-1AA3813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850-7F32-498A-9B74-E830CC7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21C-2B5D-4E40-94B2-9BE86FE4C486}" type="slidenum">
              <a:rPr b="0" lang="ru-RU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3.xml"/><Relationship Id="rId9" Type="http://schemas.openxmlformats.org/officeDocument/2006/relationships/slide" Target="slide30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10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9"/>
          <p:cNvPicPr/>
          <p:nvPr/>
        </p:nvPicPr>
        <p:blipFill>
          <a:blip r:embed="rId1"/>
          <a:stretch/>
        </p:blipFill>
        <p:spPr>
          <a:xfrm>
            <a:off x="-203040" y="-178596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«Многопрофильный лицей №11 им. В.Г.Мендельсона»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Мастер-класс</a:t>
            </a:r>
            <a:br>
              <a:rPr sz="2400"/>
            </a:br>
            <a:r>
              <a:rPr b="0" lang="ru-RU" sz="5400" spc="-1" strike="noStrike">
                <a:solidFill>
                  <a:srgbClr val="ffcc00"/>
                </a:solidFill>
                <a:latin typeface="Times New Roman"/>
              </a:rPr>
              <a:t>Новогодние сувениры и открытки</a:t>
            </a:r>
            <a:br>
              <a:rPr sz="5400"/>
            </a:b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43160" y="3785760"/>
            <a:ext cx="62294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cc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гапитова Людмила Дмитриевна,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технологии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Ульяновск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9"/>
          <p:cNvPicPr/>
          <p:nvPr/>
        </p:nvPicPr>
        <p:blipFill>
          <a:blip r:embed="rId1"/>
          <a:stretch/>
        </p:blipFill>
        <p:spPr>
          <a:xfrm>
            <a:off x="-533520" y="-571500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негурочка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imes New Roman"/>
              </a:rPr>
              <a:t>Возьмите белый квадрат или квадрат голубого цвета с одной стороны и выполните действия по рисункам 1-3 по рисункам Деда Мороза. (см. ссылку 1-2, и  3-… ; для возврата нажмите на картинку на странице)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49"/>
          <p:cNvPicPr/>
          <p:nvPr/>
        </p:nvPicPr>
        <p:blipFill>
          <a:blip r:embed="rId1"/>
          <a:stretch/>
        </p:blipFill>
        <p:spPr>
          <a:xfrm>
            <a:off x="-228600" y="-541008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343040"/>
            <a:ext cx="365760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Опустите верхний угол (один слой) на одну треть высоты треугольника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87" name="Picture 9" descr="1снег"/>
          <p:cNvPicPr/>
          <p:nvPr/>
        </p:nvPicPr>
        <p:blipFill>
          <a:blip r:embed="rId2"/>
          <a:stretch/>
        </p:blipFill>
        <p:spPr>
          <a:xfrm>
            <a:off x="380880" y="1657440"/>
            <a:ext cx="3873600" cy="230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2снег"/>
          <p:cNvPicPr/>
          <p:nvPr/>
        </p:nvPicPr>
        <p:blipFill>
          <a:blip r:embed="rId3"/>
          <a:stretch/>
        </p:blipFill>
        <p:spPr>
          <a:xfrm>
            <a:off x="4960800" y="1739880"/>
            <a:ext cx="3573720" cy="2222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952880" y="4419720"/>
            <a:ext cx="365760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огните уголок от себя. Согните правую часть и переверните фигур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49"/>
          <p:cNvPicPr/>
          <p:nvPr/>
        </p:nvPicPr>
        <p:blipFill>
          <a:blip r:embed="rId1"/>
          <a:stretch/>
        </p:blipFill>
        <p:spPr>
          <a:xfrm>
            <a:off x="0" y="-449568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71640"/>
            <a:ext cx="373356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Согните-углы руки от себя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4495680"/>
            <a:ext cx="3733920" cy="198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огните угол-руку от линии перегиба. Повторяя действия 2-3 (см. ссылку 2,  3.) сложите вторую руку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3" name="Picture 7" descr="3снег"/>
          <p:cNvPicPr/>
          <p:nvPr/>
        </p:nvPicPr>
        <p:blipFill>
          <a:blip r:embed="rId2"/>
          <a:stretch/>
        </p:blipFill>
        <p:spPr>
          <a:xfrm>
            <a:off x="609480" y="1371600"/>
            <a:ext cx="3622680" cy="254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4снег"/>
          <p:cNvPicPr/>
          <p:nvPr/>
        </p:nvPicPr>
        <p:blipFill>
          <a:blip r:embed="rId3"/>
          <a:stretch/>
        </p:blipFill>
        <p:spPr>
          <a:xfrm>
            <a:off x="5029200" y="1447920"/>
            <a:ext cx="291924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49"/>
          <p:cNvPicPr/>
          <p:nvPr/>
        </p:nvPicPr>
        <p:blipFill>
          <a:blip r:embed="rId1"/>
          <a:stretch/>
        </p:blipFill>
        <p:spPr>
          <a:xfrm>
            <a:off x="0" y="-480060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4280" y="4190760"/>
            <a:ext cx="373392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исуйте детали лица, пряди волос и косы, мех на шубке; украсьте шубку и корону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3733560" cy="1981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ните уголки. Переверните</a:t>
            </a: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98" name="Picture 7" descr="5снег"/>
          <p:cNvPicPr/>
          <p:nvPr/>
        </p:nvPicPr>
        <p:blipFill>
          <a:blip r:embed="rId2"/>
          <a:stretch/>
        </p:blipFill>
        <p:spPr>
          <a:xfrm>
            <a:off x="838080" y="1371600"/>
            <a:ext cx="3281400" cy="265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6снег"/>
          <p:cNvPicPr/>
          <p:nvPr/>
        </p:nvPicPr>
        <p:blipFill>
          <a:blip r:embed="rId3"/>
          <a:stretch/>
        </p:blipFill>
        <p:spPr>
          <a:xfrm>
            <a:off x="5257800" y="762120"/>
            <a:ext cx="2610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49"/>
          <p:cNvPicPr/>
          <p:nvPr/>
        </p:nvPicPr>
        <p:blipFill>
          <a:blip r:embed="rId1"/>
          <a:stretch/>
        </p:blipFill>
        <p:spPr>
          <a:xfrm>
            <a:off x="0" y="-5105520"/>
            <a:ext cx="9677520" cy="12573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Что получилось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2" name="Picture 8" descr="снегурка"/>
          <p:cNvPicPr/>
          <p:nvPr/>
        </p:nvPicPr>
        <p:blipFill>
          <a:blip r:embed="rId2"/>
          <a:stretch/>
        </p:blipFill>
        <p:spPr>
          <a:xfrm>
            <a:off x="609480" y="1066680"/>
            <a:ext cx="3457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66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Открытка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</a:rPr>
              <a:t>ЁЛОЧКА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”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готовьте: прямоугольник формата А4 из плотной белой (или пастельных тонов) бумаги для основы открытки;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тыре зелёных квадрата размером 5х5 см, 7,5х7,5 см, 10х10 см, 15х15 см. Все детали складываются одинаково.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4876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Согните квадрат пополам, получая зелёный прямоугольник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0" y="487692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2. Перегните прямоугольник пополам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07" name="Picture 5" descr="откр01"/>
          <p:cNvPicPr/>
          <p:nvPr/>
        </p:nvPicPr>
        <p:blipFill>
          <a:blip r:embed="rId2"/>
          <a:stretch/>
        </p:blipFill>
        <p:spPr>
          <a:xfrm>
            <a:off x="838080" y="1676520"/>
            <a:ext cx="2600280" cy="265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откр02"/>
          <p:cNvPicPr/>
          <p:nvPr/>
        </p:nvPicPr>
        <p:blipFill>
          <a:blip r:embed="rId3"/>
          <a:stretch/>
        </p:blipFill>
        <p:spPr>
          <a:xfrm>
            <a:off x="4267080" y="1752480"/>
            <a:ext cx="4191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7168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3. Опустите углы к линии перегиба</a:t>
            </a:r>
            <a:r>
              <a:rPr b="1" lang="ru-RU" sz="28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10" name="Picture 7" descr="откр03"/>
          <p:cNvPicPr/>
          <p:nvPr/>
        </p:nvPicPr>
        <p:blipFill>
          <a:blip r:embed="rId2"/>
          <a:stretch/>
        </p:blipFill>
        <p:spPr>
          <a:xfrm>
            <a:off x="533520" y="1905120"/>
            <a:ext cx="3809880" cy="1954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откр04"/>
          <p:cNvPicPr/>
          <p:nvPr/>
        </p:nvPicPr>
        <p:blipFill>
          <a:blip r:embed="rId3"/>
          <a:stretch/>
        </p:blipFill>
        <p:spPr>
          <a:xfrm>
            <a:off x="5029200" y="1905120"/>
            <a:ext cx="35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4800600" y="4648320"/>
            <a:ext cx="3581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4. Согните треугольники, поднимая стороны от середины фигурки к боковым сторонам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откр05"/>
          <p:cNvPicPr/>
          <p:nvPr/>
        </p:nvPicPr>
        <p:blipFill>
          <a:blip r:embed="rId2"/>
          <a:stretch/>
        </p:blipFill>
        <p:spPr>
          <a:xfrm>
            <a:off x="533520" y="1471680"/>
            <a:ext cx="4190760" cy="241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ткр06"/>
          <p:cNvPicPr/>
          <p:nvPr/>
        </p:nvPicPr>
        <p:blipFill>
          <a:blip r:embed="rId3"/>
          <a:stretch/>
        </p:blipFill>
        <p:spPr>
          <a:xfrm>
            <a:off x="5334120" y="1509840"/>
            <a:ext cx="2504880" cy="2344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5257800" y="4343400"/>
            <a:ext cx="3505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6. Согните пополам.6. Согните треугольники, совмещая стороны со сгибом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4343400"/>
            <a:ext cx="4572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5. Согните пополам</a:t>
            </a:r>
            <a:r>
              <a:rPr b="0" lang="ru-RU" sz="2800" spc="-1" strike="noStrike">
                <a:solidFill>
                  <a:srgbClr val="d22d0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00240" y="4723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8. Перегните прямоугольник формата А4 пополам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7. Сложите остальные детали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0" name="Picture 7" descr="откр07"/>
          <p:cNvPicPr/>
          <p:nvPr/>
        </p:nvPicPr>
        <p:blipFill>
          <a:blip r:embed="rId2"/>
          <a:stretch/>
        </p:blipFill>
        <p:spPr>
          <a:xfrm>
            <a:off x="1046160" y="1143000"/>
            <a:ext cx="237960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откр08"/>
          <p:cNvPicPr/>
          <p:nvPr/>
        </p:nvPicPr>
        <p:blipFill>
          <a:blip r:embed="rId3"/>
          <a:stretch/>
        </p:blipFill>
        <p:spPr>
          <a:xfrm>
            <a:off x="4572000" y="1289160"/>
            <a:ext cx="314640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ff"/>
                </a:solidFill>
                <a:latin typeface="Times New Roman"/>
              </a:rPr>
              <a:t>Предисловие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05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ff"/>
                </a:solidFill>
                <a:latin typeface="Times New Roman"/>
              </a:rPr>
              <a:t>Приближается праздник -Новый год – это всегда радостное событие. Ведь именно он сулит хорошее настроение, приятные встречи, добрые пожелания и подарки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ff"/>
                </a:solidFill>
                <a:latin typeface="Times New Roman"/>
              </a:rPr>
              <a:t>К подаркам, сделанным своими руками, особое отношение: создавая их, вы вкладываете тепло своей души, огромное желание доставить радость близким людям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ff"/>
                </a:solidFill>
                <a:latin typeface="Times New Roman"/>
              </a:rPr>
              <a:t>Откройте мир оригами и вы принесёте радость себе и окружающим!.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723920" y="426708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10. Нанесите клей на ближнюю поверхность и закройте открытку, хорошо прижимая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9. Приклейте дальнюю поверхность большой детали, располагая её в нижней части открытки под углом к сгибу (верхний угол как можно ближе к сгибу)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4" name="Picture 7" descr="откр09"/>
          <p:cNvPicPr/>
          <p:nvPr/>
        </p:nvPicPr>
        <p:blipFill>
          <a:blip r:embed="rId2"/>
          <a:stretch/>
        </p:blipFill>
        <p:spPr>
          <a:xfrm>
            <a:off x="777960" y="1143000"/>
            <a:ext cx="2795400" cy="281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откр010"/>
          <p:cNvPicPr/>
          <p:nvPr/>
        </p:nvPicPr>
        <p:blipFill>
          <a:blip r:embed="rId3"/>
          <a:stretch/>
        </p:blipFill>
        <p:spPr>
          <a:xfrm>
            <a:off x="4724280" y="1160640"/>
            <a:ext cx="2828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4343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11. Приклейте вторую деталь, немного меньшую размером, чем первая: при этом следует совместить указанные точки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7" name="Picture 7" descr="откр011"/>
          <p:cNvPicPr/>
          <p:nvPr/>
        </p:nvPicPr>
        <p:blipFill>
          <a:blip r:embed="rId2"/>
          <a:stretch/>
        </p:blipFill>
        <p:spPr>
          <a:xfrm>
            <a:off x="2590920" y="1030320"/>
            <a:ext cx="29908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3962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12.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Приклейте остальные детали, составляя из них ёлочку. 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Сюрприз состоит в том, что, когда открытка закрыта, ёлочка внутри её согнута пополам, а когда открытка открывается, то появляется ёлочка, раскрывающаяся как по волшебству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29" name="Picture 6" descr="откр012"/>
          <p:cNvPicPr/>
          <p:nvPr/>
        </p:nvPicPr>
        <p:blipFill>
          <a:blip r:embed="rId2"/>
          <a:stretch/>
        </p:blipFill>
        <p:spPr>
          <a:xfrm>
            <a:off x="2743200" y="228600"/>
            <a:ext cx="3424320" cy="3581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0" y="0"/>
            <a:ext cx="2743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(нажмите на картинку, чтобы вернуться на страницу выбора)</a:t>
            </a:r>
            <a:endParaRPr b="0" lang="en-US" sz="18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Times New Roman"/>
              </a:rPr>
              <a:t>Открытка-конверт с ёлочкой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172200" cy="4496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Ёлочка может быть белой на любом фоне, для этого нужно взять лист формата А4, окрашенный с одной стороны, и положить его белой стороной к себе. Чтобы ёлочка была 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зелёно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необходимо лист положить 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зелёно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ороной к себе.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48320" y="3886200"/>
            <a:ext cx="358128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2. Согните треугольник, совмещая его вершины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Times New Roman"/>
              </a:rPr>
              <a:t>1. Согните нижний левый угол, совмещая его левую сторону с верхней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37" name="Picture 6" descr="откр1"/>
          <p:cNvPicPr/>
          <p:nvPr/>
        </p:nvPicPr>
        <p:blipFill>
          <a:blip r:embed="rId2"/>
          <a:stretch/>
        </p:blipFill>
        <p:spPr>
          <a:xfrm>
            <a:off x="762120" y="1316160"/>
            <a:ext cx="3200400" cy="234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откр2"/>
          <p:cNvPicPr/>
          <p:nvPr/>
        </p:nvPicPr>
        <p:blipFill>
          <a:blip r:embed="rId3"/>
          <a:stretch/>
        </p:blipFill>
        <p:spPr>
          <a:xfrm>
            <a:off x="4495680" y="1295280"/>
            <a:ext cx="3353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8320" y="4190760"/>
            <a:ext cx="4038480" cy="19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4. Раскройте и расплющите «карман»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3. Согните треугольник на одну треть верхнего угла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42" name="Picture 6" descr="откр3"/>
          <p:cNvPicPr/>
          <p:nvPr/>
        </p:nvPicPr>
        <p:blipFill>
          <a:blip r:embed="rId2"/>
          <a:stretch/>
        </p:blipFill>
        <p:spPr>
          <a:xfrm>
            <a:off x="990720" y="1371600"/>
            <a:ext cx="24890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откр4"/>
          <p:cNvPicPr/>
          <p:nvPr/>
        </p:nvPicPr>
        <p:blipFill>
          <a:blip r:embed="rId3"/>
          <a:stretch/>
        </p:blipFill>
        <p:spPr>
          <a:xfrm>
            <a:off x="5029200" y="1523880"/>
            <a:ext cx="2265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23920" y="4267080"/>
            <a:ext cx="4038840" cy="190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6. Сделайте надрезы под прямым углом к сгибу, начиная снизу и немного уменьшая расстояние между ними. Отогните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43430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5. Согните «карман» пополам</a:t>
            </a: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47" name="Picture 6" descr="откр5"/>
          <p:cNvPicPr/>
          <p:nvPr/>
        </p:nvPicPr>
        <p:blipFill>
          <a:blip r:embed="rId2"/>
          <a:stretch/>
        </p:blipFill>
        <p:spPr>
          <a:xfrm>
            <a:off x="990720" y="1295280"/>
            <a:ext cx="2743200" cy="256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откр6"/>
          <p:cNvPicPr/>
          <p:nvPr/>
        </p:nvPicPr>
        <p:blipFill>
          <a:blip r:embed="rId3"/>
          <a:stretch/>
        </p:blipFill>
        <p:spPr>
          <a:xfrm>
            <a:off x="4952880" y="1219320"/>
            <a:ext cx="26672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440" y="47242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7. Согните угол</a:t>
            </a:r>
            <a:r>
              <a:rPr b="0" lang="ru-RU" sz="24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800600"/>
            <a:ext cx="304776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Согните угол вместе с «глухим» углом от себ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52" name="Picture 5" descr="откр7"/>
          <p:cNvPicPr/>
          <p:nvPr/>
        </p:nvPicPr>
        <p:blipFill>
          <a:blip r:embed="rId2"/>
          <a:stretch/>
        </p:blipFill>
        <p:spPr>
          <a:xfrm>
            <a:off x="914400" y="1523880"/>
            <a:ext cx="2895480" cy="2822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откр8"/>
          <p:cNvPicPr/>
          <p:nvPr/>
        </p:nvPicPr>
        <p:blipFill>
          <a:blip r:embed="rId3"/>
          <a:stretch/>
        </p:blipFill>
        <p:spPr>
          <a:xfrm>
            <a:off x="5029200" y="1601640"/>
            <a:ext cx="284940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44197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9. Согните углы от себя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4343040"/>
            <a:ext cx="380988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ff"/>
                </a:solidFill>
                <a:latin typeface="Times New Roman"/>
              </a:rPr>
              <a:t>10. В верхней части можно написать новогоднее поздравление или вложить его в кармашек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157" name="Picture 6" descr="откр9"/>
          <p:cNvPicPr/>
          <p:nvPr/>
        </p:nvPicPr>
        <p:blipFill>
          <a:blip r:embed="rId2"/>
          <a:stretch/>
        </p:blipFill>
        <p:spPr>
          <a:xfrm>
            <a:off x="914400" y="1447920"/>
            <a:ext cx="2743200" cy="269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откр10"/>
          <p:cNvPicPr/>
          <p:nvPr/>
        </p:nvPicPr>
        <p:blipFill>
          <a:blip r:embed="rId3"/>
          <a:stretch/>
        </p:blipFill>
        <p:spPr>
          <a:xfrm>
            <a:off x="5334120" y="228600"/>
            <a:ext cx="2539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56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81280" y="380880"/>
            <a:ext cx="4724640" cy="144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ff"/>
                </a:solidFill>
                <a:latin typeface="Times New Roman"/>
              </a:rPr>
              <a:t>Что </a:t>
            </a:r>
            <a:br>
              <a:rPr sz="4400"/>
            </a:br>
            <a:r>
              <a:rPr b="0" lang="ru-RU" sz="4400" spc="-1" strike="noStrike">
                <a:solidFill>
                  <a:srgbClr val="ff99ff"/>
                </a:solidFill>
                <a:latin typeface="Times New Roman"/>
              </a:rPr>
              <a:t>получилось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Picture 4" descr="елка"/>
          <p:cNvPicPr/>
          <p:nvPr/>
        </p:nvPicPr>
        <p:blipFill>
          <a:blip r:embed="rId2"/>
          <a:stretch/>
        </p:blipFill>
        <p:spPr>
          <a:xfrm>
            <a:off x="533520" y="380880"/>
            <a:ext cx="351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Times New Roman"/>
              </a:rPr>
              <a:t>Итак, начнём…</a:t>
            </a:r>
            <a:br>
              <a:rPr sz="4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(выбрать нужный сувенир или открытку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2" action="ppaction://hlinksldjump"/>
              </a:rPr>
              <a:t>Дед Мороз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3" action="ppaction://hlinksldjump"/>
              </a:rPr>
              <a:t>Снегурочка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4" action="ppaction://hlinksldjump"/>
              </a:rPr>
              <a:t>Открытка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5" action="ppaction://hlinksldjump"/>
              </a:rPr>
              <a:t>“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6" action="ppaction://hlinksldjump"/>
              </a:rPr>
              <a:t>ЁЛОЧКА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7" action="ppaction://hlinksldjump"/>
              </a:rPr>
              <a:t>”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cc"/>
                </a:solidFill>
                <a:uFillTx/>
                <a:latin typeface="Times New Roman"/>
                <a:hlinkClick r:id="rId8" action="ppaction://hlinksldjump"/>
              </a:rPr>
              <a:t>Открытка-конверт с ёлочкой</a:t>
            </a:r>
            <a:endParaRPr b="0" lang="en-US" sz="28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33760" y="58672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  <a:hlinkClick r:id="rId9" action="ppaction://hlinksldjump"/>
              </a:rPr>
              <a:t>(щёлкните для перехода к концу презентации)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Times New Roman"/>
              </a:rPr>
              <a:t>Послесловие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366ff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телось бы, чтобы именно ваш Новый год был полон тепла, любви и самых ярких впечатлений, а так же незабываемых приятных сюрпризов и подарков. 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НОВЫМ ГОДОМ!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59"/>
          <p:cNvPicPr/>
          <p:nvPr/>
        </p:nvPicPr>
        <p:blipFill>
          <a:blip r:embed="rId1"/>
          <a:stretch/>
        </p:blipFill>
        <p:spPr>
          <a:xfrm>
            <a:off x="0" y="-365760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56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487692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1080"/>
            <a:ext cx="7886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Times New Roman"/>
              </a:rPr>
              <a:t>1. Соколова С.В . Праздник оригами. Открытки , письма, сувениры. М.: Эксмо; СПб, 2008. </a:t>
            </a: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58120" y="1981080"/>
            <a:ext cx="100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59"/>
          <p:cNvPicPr/>
          <p:nvPr/>
        </p:nvPicPr>
        <p:blipFill>
          <a:blip r:embed="rId1"/>
          <a:stretch/>
        </p:blipFill>
        <p:spPr>
          <a:xfrm>
            <a:off x="0" y="0"/>
            <a:ext cx="9347040" cy="1318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CD327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2209680"/>
            <a:ext cx="3279600" cy="323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снегов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2209680"/>
            <a:ext cx="315756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575964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cc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33"/>
                </a:solidFill>
                <a:latin typeface="Times New Roman"/>
              </a:rPr>
              <a:t>Дед Мороз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зьмите красный с одной стороны квадрат и положите белой стороной к себ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5181480"/>
            <a:ext cx="4572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876920" y="533412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57913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1. Перегните по диагонал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4876920" y="586728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2. Согните боковые уголк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59"/>
          <p:cNvPicPr/>
          <p:nvPr/>
        </p:nvPicPr>
        <p:blipFill>
          <a:blip r:embed="rId1"/>
          <a:stretch/>
        </p:blipFill>
        <p:spPr>
          <a:xfrm>
            <a:off x="0" y="-4876920"/>
            <a:ext cx="9144000" cy="12877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5181120"/>
            <a:ext cx="37339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3. Согните по намеченной линии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61" name="Picture 7" descr="3снеговик"/>
          <p:cNvPicPr/>
          <p:nvPr/>
        </p:nvPicPr>
        <p:blipFill>
          <a:blip r:embed="rId2"/>
          <a:stretch/>
        </p:blipFill>
        <p:spPr>
          <a:xfrm>
            <a:off x="1066680" y="1371600"/>
            <a:ext cx="284184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4снеговик"/>
          <p:cNvPicPr/>
          <p:nvPr/>
        </p:nvPicPr>
        <p:blipFill>
          <a:blip r:embed="rId3"/>
          <a:stretch/>
        </p:blipFill>
        <p:spPr>
          <a:xfrm>
            <a:off x="4724280" y="1447920"/>
            <a:ext cx="4092840" cy="2842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4800600" y="5029200"/>
            <a:ext cx="3733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4. Согните угол (один слой), немного не доводя его до нижней стороны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59"/>
          <p:cNvPicPr/>
          <p:nvPr/>
        </p:nvPicPr>
        <p:blipFill>
          <a:blip r:embed="rId1"/>
          <a:stretch/>
        </p:blipFill>
        <p:spPr>
          <a:xfrm>
            <a:off x="0" y="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4876560"/>
            <a:ext cx="39625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5. Согните верхний треугольник, опуская его левую сторону к нижнему треугольнику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66" name="Picture 7" descr="5снеговик"/>
          <p:cNvPicPr/>
          <p:nvPr/>
        </p:nvPicPr>
        <p:blipFill>
          <a:blip r:embed="rId2"/>
          <a:stretch/>
        </p:blipFill>
        <p:spPr>
          <a:xfrm>
            <a:off x="380880" y="1600200"/>
            <a:ext cx="3886200" cy="2417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6снеговик"/>
          <p:cNvPicPr/>
          <p:nvPr/>
        </p:nvPicPr>
        <p:blipFill>
          <a:blip r:embed="rId3"/>
          <a:stretch/>
        </p:blipFill>
        <p:spPr>
          <a:xfrm>
            <a:off x="4800600" y="1676520"/>
            <a:ext cx="4191120" cy="2260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4876920" y="4800600"/>
            <a:ext cx="3962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6. Отогните часть угла, оставляя небольшую полоску красной бумаг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59"/>
          <p:cNvPicPr/>
          <p:nvPr/>
        </p:nvPicPr>
        <p:blipFill>
          <a:blip r:embed="rId1"/>
          <a:stretch/>
        </p:blipFill>
        <p:spPr>
          <a:xfrm>
            <a:off x="0" y="-182880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5028840"/>
            <a:ext cx="4114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7. Согните боковые части, опуская стороны к линии перегиба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71" name="Picture 7" descr="7снеговик"/>
          <p:cNvPicPr/>
          <p:nvPr/>
        </p:nvPicPr>
        <p:blipFill>
          <a:blip r:embed="rId2"/>
          <a:stretch/>
        </p:blipFill>
        <p:spPr>
          <a:xfrm>
            <a:off x="457200" y="1600200"/>
            <a:ext cx="3884760" cy="219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8снеговик"/>
          <p:cNvPicPr/>
          <p:nvPr/>
        </p:nvPicPr>
        <p:blipFill>
          <a:blip r:embed="rId3"/>
          <a:stretch/>
        </p:blipFill>
        <p:spPr>
          <a:xfrm>
            <a:off x="5181480" y="1523880"/>
            <a:ext cx="3113280" cy="24004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4800600" y="525780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8. Отогните нижние части. Перевернит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59"/>
          <p:cNvPicPr/>
          <p:nvPr/>
        </p:nvPicPr>
        <p:blipFill>
          <a:blip r:embed="rId1"/>
          <a:stretch/>
        </p:blipFill>
        <p:spPr>
          <a:xfrm>
            <a:off x="0" y="-365760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56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9. Опустите боковые части – руки Деда Мороза (сгиб проходит вдоль шубки). Согните уголок на шапк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  <p:pic>
        <p:nvPicPr>
          <p:cNvPr id="76" name="Picture 7" descr="9снеговик"/>
          <p:cNvPicPr/>
          <p:nvPr/>
        </p:nvPicPr>
        <p:blipFill>
          <a:blip r:embed="rId2"/>
          <a:stretch/>
        </p:blipFill>
        <p:spPr>
          <a:xfrm>
            <a:off x="762120" y="1335240"/>
            <a:ext cx="3504960" cy="262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10снеговик"/>
          <p:cNvPicPr/>
          <p:nvPr/>
        </p:nvPicPr>
        <p:blipFill>
          <a:blip r:embed="rId3"/>
          <a:stretch/>
        </p:blipFill>
        <p:spPr>
          <a:xfrm>
            <a:off x="5105520" y="1295280"/>
            <a:ext cx="2948040" cy="2606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0"/>
          <p:cNvSpPr/>
          <p:nvPr/>
        </p:nvSpPr>
        <p:spPr>
          <a:xfrm>
            <a:off x="4876920" y="4572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10. С помощью аппликации сделайте нос, щёки. Нарисуйте рот, глаза усы, бороду и узор на шубе.</a:t>
            </a:r>
            <a:endParaRPr b="0" lang="en-US" sz="2400" spc="-1" strike="noStrike">
              <a:solidFill>
                <a:srgbClr val="99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59"/>
          <p:cNvPicPr/>
          <p:nvPr/>
        </p:nvPicPr>
        <p:blipFill>
          <a:blip r:embed="rId1"/>
          <a:stretch/>
        </p:blipFill>
        <p:spPr>
          <a:xfrm>
            <a:off x="0" y="0"/>
            <a:ext cx="9347040" cy="13182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66ff"/>
                </a:solidFill>
                <a:latin typeface="Times New Roman"/>
              </a:rPr>
              <a:t>Что получилось…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1" name="Picture 5" descr="дм"/>
          <p:cNvPicPr/>
          <p:nvPr/>
        </p:nvPicPr>
        <p:blipFill>
          <a:blip r:embed="rId2"/>
          <a:stretch/>
        </p:blipFill>
        <p:spPr>
          <a:xfrm>
            <a:off x="3733920" y="1219320"/>
            <a:ext cx="4981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4:06:44Z</dcterms:created>
  <dc:creator>МВВ</dc:creator>
  <dc:description/>
  <dc:language>en-US</dc:language>
  <cp:lastModifiedBy>user</cp:lastModifiedBy>
  <dcterms:modified xsi:type="dcterms:W3CDTF">2017-12-13T16:46:31Z</dcterms:modified>
  <cp:revision>79</cp:revision>
  <dc:subject/>
  <dc:title>Новогодние сувениры и открытки</dc:title>
</cp:coreProperties>
</file>