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9B1-0629-4493-AC89-3A3563BB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AB9-DBFF-4DA3-AC8C-DB41ED8A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79E-29DF-4EB9-83BE-FA8D0F3B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99C-5BF5-4A96-8F12-E1313B54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002E-1F60-4221-A788-6A8F152E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D9F3-59E1-4C43-B8F0-048A0BF6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937A-27DD-4930-B0BF-40296C35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F02C-1350-40E4-9211-A1B71958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AAD4-8625-4B2C-806E-AF34CA6B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ADCB-AED5-42CC-997F-4B06438D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3D19-7BA4-4EBB-BEAA-E5B9CEFD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967-97A7-4148-9655-9F27E1D6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492B-4D55-41AC-8B92-74D4BEF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10CB-BB33-4DBE-AB8C-2A0CDF8F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00F8-4D93-4F29-8184-CCFFA4CA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87CF-8411-43CC-95BA-AF030AF9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31AF-14FB-4079-AC53-31860AB3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879-A2CC-470F-B702-D316C6F2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51B-D2FE-471A-8B0C-BC0A4AF7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4ED-08C8-424A-96D0-4BA4CAD2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6D2-A625-4E80-B53F-A4141735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9E6-BB31-477A-9242-2525CB4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085-93A9-404B-A067-138A7F6C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79D-BA5F-4FE6-A0AC-BD79142B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7110-55D1-4266-AA9E-FCCB449CE1D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D6C3-5E20-415C-89D1-AE068ADE54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3;&#1072;_&#1090;&#1088;&#1077;&#1085;&#1080;&#1103;" TargetMode="External"/><Relationship Id="rId2" Type="http://schemas.openxmlformats.org/officeDocument/2006/relationships/hyperlink" Target="http://www.edu.yar.ru/russian/projects/socnav/prep/phis001/dyn/dyn11.html" TargetMode="External"/><Relationship Id="rId3" Type="http://schemas.openxmlformats.org/officeDocument/2006/relationships/hyperlink" Target="http://kular.ucoz.ru/forum/33-115-28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 Black"/>
              </a:rPr>
              <a:t>Сила трения</a:t>
            </a:r>
            <a:br>
              <a:rPr sz="4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урок физики, 10 класс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457200"/>
            <a:ext cx="68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БПОУ РСЯ Намский технику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920040" y="4800600"/>
            <a:ext cx="41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 Мальцева Мария Иванов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подаватель физи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Изучить зависимости силы трения скольжения от силы давления и   от площади трущихся поверхносте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т ли сила трения скольж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от силы давления, и если зависит, т    то ка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от площади трущихся поверхностей        при постоянной силе давлен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Измерить коэффициент трения покоя  деревянного бруска на деревянной доск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будет изменяться коэффициент трения, если мы будем использовать различные поверхност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Домашнее задание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полните таблицу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133720"/>
          <a:ext cx="7772400" cy="3819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лые” дела силы тр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брые” дела силы тр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писок используемых источник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мке А.И.  «Нестандартные задачи по физике».- Ярославль: Академия развития, 2007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Иванов А.С., Проказа А.Г. " Мир механики и техники ", Просвещение, 1993 г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ru.wikipedia.org/wiki/Сила_т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edu.yar.ru/russian/projects/socnav/prep/phis001/dyn/dyn11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kular.ucoz.ru/forum/33-115-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Цель: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Исследовать факторы, от которых зависит сила трения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10680" y="7086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перов трой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шка за Жучк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учка за внучк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чка за бабк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бка за дедк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дка за реп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янут – потянут, вытянуть не могу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репка67"/>
          <p:cNvPicPr/>
          <p:nvPr/>
        </p:nvPicPr>
        <p:blipFill>
          <a:blip r:embed="rId1"/>
          <a:stretch/>
        </p:blipFill>
        <p:spPr>
          <a:xfrm>
            <a:off x="3809880" y="685800"/>
            <a:ext cx="518184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зимние сумерки нянины сказк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ша любила. Поутру в салазк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ша садилась, летела стрелой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ная счастья, с горы ледян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. А. Некр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sani5-1"/>
          <p:cNvPicPr/>
          <p:nvPr/>
        </p:nvPicPr>
        <p:blipFill>
          <a:blip r:embed="rId1"/>
          <a:stretch/>
        </p:blipFill>
        <p:spPr>
          <a:xfrm>
            <a:off x="1828800" y="32767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304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ть тяжело подчас в ней брем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ега на ходу легк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мщик лихой, седое врем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зет не слезет с облу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. С. Пушки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gl_0007"/>
          <p:cNvPicPr/>
          <p:nvPr/>
        </p:nvPicPr>
        <p:blipFill>
          <a:blip r:embed="rId1"/>
          <a:stretch/>
        </p:blipFill>
        <p:spPr>
          <a:xfrm>
            <a:off x="1905120" y="3429000"/>
            <a:ext cx="4952880" cy="3100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товь сани летом, а телегу зим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drovni"/>
          <p:cNvPicPr/>
          <p:nvPr/>
        </p:nvPicPr>
        <p:blipFill>
          <a:blip r:embed="rId1"/>
          <a:stretch/>
        </p:blipFill>
        <p:spPr>
          <a:xfrm>
            <a:off x="304920" y="3156120"/>
            <a:ext cx="3657600" cy="213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rost_telega"/>
          <p:cNvPicPr/>
          <p:nvPr/>
        </p:nvPicPr>
        <p:blipFill>
          <a:blip r:embed="rId2"/>
          <a:stretch/>
        </p:blipFill>
        <p:spPr>
          <a:xfrm>
            <a:off x="5029200" y="3200400"/>
            <a:ext cx="378468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руппа: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Изучить зависимости силы трения скольжения от рода трущихся поверхнос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2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руппа: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Изучить зависимости силы трения скольжения от силы давления и  от площади трущихся поверхнос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3 группа: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Измерить коэффициент трения покоя и трения скольжения деревянного бруска на деревянной дос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Изучить зависимости силы трения скольжения от рода трущихся поверхносте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т ли сила трения скольж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от рода трущихся поверхност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от шероховатости трущихся поверхност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12-13T08:26:4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