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86B7-B81E-4928-9715-9DC23CDB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1EF6-C005-49B1-B9BE-F61A38A9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99CD-53A1-4637-8F62-8E3D8503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13A4-D473-4F9E-A3FB-BFA058D4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FF6B-C0FA-4D42-AF28-51838166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33E-39D5-4E93-B529-0627B848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9260-2E6F-499D-A2A8-37B036C0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5FB0-8224-438C-99BB-FF372729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A771-92F2-41BE-8167-7EC8CBAD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04F-D33F-4E11-AE1B-84C853A1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5E2-BF77-4D25-A5C5-0A082ED6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9F8B-21B5-407B-A88B-D29C74A5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FBC8-A5F2-4AFE-B89D-A25101E40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ительское собр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УТЬ К УСПЕХ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Картинка 8 из 9"/>
          <p:cNvPicPr/>
          <p:nvPr/>
        </p:nvPicPr>
        <p:blipFill>
          <a:blip r:embed="rId1"/>
          <a:stretch/>
        </p:blipFill>
        <p:spPr>
          <a:xfrm>
            <a:off x="324000" y="260280"/>
            <a:ext cx="475272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чества родителей, способных воспитать успешного уче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Способность выявить возможности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Умение создавать условия для всестороннего развития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Терпимость к своему ребё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Способность быть приме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Умение поощрять, корректировать и тактично направлять действия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Быть в контакте с социумом ребёнка (школа, друзья, знакомые, учителя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цепт воспитания успешного ученика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зьмите         Терпения, влейте туда полное          Любви, бросьте две пригоршни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Щедрост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плесните туда же </a:t>
            </a:r>
            <a:r>
              <a:rPr b="1" lang="en-US" sz="3200" spc="-1" strike="noStrike">
                <a:solidFill>
                  <a:srgbClr val="777777"/>
                </a:solidFill>
                <a:latin typeface="Arial"/>
              </a:rPr>
              <a:t>Юмо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посыпьте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Доброто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добавьте как можно больше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Вер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Надежд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всё хорошо перемешайте. Затем полученный состав положите на отрезок отведенной вам жизни и щедро делитесь со всеми окружающими вас людь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720720" cy="647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Red Hearts Holidays Desktop Hd Cool Tattoos"/>
          <p:cNvPicPr/>
          <p:nvPr/>
        </p:nvPicPr>
        <p:blipFill>
          <a:blip r:embed="rId2"/>
          <a:stretch/>
        </p:blipFill>
        <p:spPr>
          <a:xfrm>
            <a:off x="2484360" y="2060640"/>
            <a:ext cx="10080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4358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58920" y="2276640"/>
            <a:ext cx="8785080" cy="2303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бросайте своих детей, поставьте реальную цел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могите им взобраться на вершину успех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10 класс"/>
          <p:cNvPicPr/>
          <p:nvPr/>
        </p:nvPicPr>
        <p:blipFill>
          <a:blip r:embed="rId1"/>
          <a:stretch/>
        </p:blipFill>
        <p:spPr>
          <a:xfrm>
            <a:off x="324000" y="4221000"/>
            <a:ext cx="2520720" cy="2159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84720" y="189000"/>
            <a:ext cx="2829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ченик – учитель – род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Лента записей из дневника блогера CrazyLog.co.ua. Страница 45 :: BlogRider.ru"/>
          <p:cNvPicPr/>
          <p:nvPr/>
        </p:nvPicPr>
        <p:blipFill>
          <a:blip r:embed="rId1"/>
          <a:stretch/>
        </p:blipFill>
        <p:spPr>
          <a:xfrm>
            <a:off x="1116000" y="1700280"/>
            <a:ext cx="597708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питание – дело трудное, и улучшение его условий – одна из священных обязанностей каждого человека, ибо нет ничего более важного, как образование самого себя и своих ближних.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кр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940360" y="333360"/>
            <a:ext cx="26240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должите фраз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Мой ребенок...»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2708280"/>
          <a:ext cx="8229600" cy="3417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41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куратен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невнимателен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2130480" cy="1411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88000" y="3573360"/>
            <a:ext cx="2305080" cy="2897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8440" y="1556640"/>
            <a:ext cx="6526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-я — те, которые вас устраивают в вашем ребен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133000"/>
            <a:ext cx="6131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-я — те, которые вы бы хотели изменить в н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427120" y="2009880"/>
            <a:ext cx="4240440" cy="3671280"/>
            <a:chOff x="2427120" y="2009880"/>
            <a:chExt cx="4240440" cy="3671280"/>
          </a:xfrm>
        </p:grpSpPr>
        <p:sp>
          <p:nvSpPr>
            <p:cNvPr id="58" name="_s38920"/>
            <p:cNvSpPr/>
            <p:nvPr/>
          </p:nvSpPr>
          <p:spPr>
            <a:xfrm flipV="1">
              <a:off x="3840120" y="2009880"/>
              <a:ext cx="1414440" cy="1224000"/>
            </a:xfrm>
            <a:custGeom>
              <a:avLst/>
              <a:gdLst>
                <a:gd name="textAreaLeft" fmla="*/ 507600 w 1414440"/>
                <a:gd name="textAreaRight" fmla="*/ 906840 w 1414440"/>
                <a:gd name="textAreaTop" fmla="*/ 439200 h 1224000"/>
                <a:gd name="textAreaBottom" fmla="*/ 78480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амые лучш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ачественные това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8921"/>
            <p:cNvSpPr/>
            <p:nvPr/>
          </p:nvSpPr>
          <p:spPr>
            <a:xfrm flipV="1">
              <a:off x="3133800" y="3233880"/>
              <a:ext cx="2827440" cy="1224000"/>
            </a:xfrm>
            <a:custGeom>
              <a:avLst/>
              <a:gdLst>
                <a:gd name="textAreaLeft" fmla="*/ 621720 w 2827440"/>
                <a:gd name="textAreaRight" fmla="*/ 2205720 w 2827440"/>
                <a:gd name="textAreaTop" fmla="*/ 268920 h 1224000"/>
                <a:gd name="textAreaBottom" fmla="*/ 95508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бычные товары средней цен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и кач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8922"/>
            <p:cNvSpPr/>
            <p:nvPr/>
          </p:nvSpPr>
          <p:spPr>
            <a:xfrm flipV="1">
              <a:off x="2427120" y="4457160"/>
              <a:ext cx="4240440" cy="1223640"/>
            </a:xfrm>
            <a:custGeom>
              <a:avLst/>
              <a:gdLst>
                <a:gd name="textAreaLeft" fmla="*/ 736200 w 4240440"/>
                <a:gd name="textAreaRight" fmla="*/ 3504240 w 4240440"/>
                <a:gd name="textAreaTop" fmla="*/ 212400 h 1223640"/>
                <a:gd name="textAreaBottom" fmla="*/ 101124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 заведомым браком, низкого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796000" y="260280"/>
            <a:ext cx="3168720" cy="244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438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поведь дл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родителей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ребенок растет в терпимости, он учится понимать друг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ребенка хвалят, он учится быть благород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ребенок растет в безопасности, он учится верить в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ребенка поддерживают, он учится ценить себ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ребенок живет в понимании и дружелюбии, он учится находить любовь в этом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ED00019_"/>
          <p:cNvPicPr/>
          <p:nvPr/>
        </p:nvPicPr>
        <p:blipFill>
          <a:blip r:embed="rId1"/>
          <a:stretch/>
        </p:blipFill>
        <p:spPr>
          <a:xfrm>
            <a:off x="6300720" y="260280"/>
            <a:ext cx="20322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Успех- это умение добиваться поставленных целей, получая от этого удовольстви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енно эффективное  приме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ний и умений делает ученика успеш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Картинка 1 из 9"/>
          <p:cNvPicPr/>
          <p:nvPr/>
        </p:nvPicPr>
        <p:blipFill>
          <a:blip r:embed="rId1"/>
          <a:stretch/>
        </p:blipFill>
        <p:spPr>
          <a:xfrm>
            <a:off x="3780000" y="1700280"/>
            <a:ext cx="5184720" cy="4753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9640" y="443700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Что необходимо родителям и учителям, чтобы воспитать успешного учен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Какими качествами должны обладать  учителя, чтобы воспитать успешного ученика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Фото на тему 6класс по математике смешные истории. - 22 Января 2014 - Blog - Mobirostov"/>
          <p:cNvPicPr/>
          <p:nvPr/>
        </p:nvPicPr>
        <p:blipFill>
          <a:blip r:embed="rId1"/>
          <a:stretch/>
        </p:blipFill>
        <p:spPr>
          <a:xfrm>
            <a:off x="539640" y="1413000"/>
            <a:ext cx="40388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то необходимо  учителю, чтобы создать успешного учени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Чётко управлять учебным процессом и внеурочной деятельностью уче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Хорошо знать и любить свой предм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Уметь терпеть, сдерживаться, не раздражаться, ждать, когда ученики будут делать так, как он планирует. Учить, предпочитая тёплое, человеческое общение с уче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Быть всегда организованным, собранным, активным, энергичным, подготовленным к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Считать своей главной задачей внимание к личности ученика, обеспечение его индивидуального развития, обучения, вос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Владеть образовательными технологиями, уметь объяснять, спрашивать, организовывать работу учеников, применяя разные мет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7:57:39Z</dcterms:created>
  <dc:creator>Admin</dc:creator>
  <dc:description/>
  <dc:language>en-US</dc:language>
  <cp:lastModifiedBy>сергей</cp:lastModifiedBy>
  <dcterms:modified xsi:type="dcterms:W3CDTF">2014-12-13T07:28:46Z</dcterms:modified>
  <cp:revision>11</cp:revision>
  <dc:subject/>
  <dc:title>Родительское собрание</dc:title>
</cp:coreProperties>
</file>