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03F-5086-4F6F-9858-4801B8D7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CFE-E111-4009-8A20-8F3EB93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E19-5586-45FF-AB04-BDB2F979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344-876D-48D5-BE04-A47B8BD0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39A2-B96A-440D-9089-68DADC7E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E24-8A84-4E24-B71F-6370E4F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B31E-B830-4D76-940F-1D8D45C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22C-9710-44B7-A460-0DF5A10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0DED-7D00-476E-98D5-88529D4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5A96-FAC9-43DF-A836-F75C97B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90B-6FEA-4E9E-8494-0346CF7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C58-B1AF-44CF-88FF-86876C3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05C-BD29-461E-BF8F-8C724F8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817-96B0-405C-B933-0A21284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9E1E-4F32-4846-ADDF-05D5498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1626-AF7B-451D-83D1-70B94C6D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2FA-9BE3-4DC5-87FB-1E723AA1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429-5BFE-4056-97A0-396148D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BF1-D9FF-41EA-81B8-527455F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7A0-7FCA-4ADC-B17C-B59F8D15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B81-6D04-48F5-9E73-C16B4AA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D17-F587-4F6C-BB56-EFAF8CF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A61-CCF6-4734-A7E1-9D5DF59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BA3-C5FB-43C3-9D40-5CCF92D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E52-8037-45D2-AAAC-E3547DF52C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FCF-327D-4A69-9929-9776831788A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F:\фото для презентации\10.jpg"/>
          <p:cNvPicPr/>
          <p:nvPr/>
        </p:nvPicPr>
        <p:blipFill>
          <a:blip r:embed="rId1"/>
          <a:stretch/>
        </p:blipFill>
        <p:spPr>
          <a:xfrm>
            <a:off x="0" y="214200"/>
            <a:ext cx="485784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фото для презентации\12.jpeg"/>
          <p:cNvPicPr/>
          <p:nvPr/>
        </p:nvPicPr>
        <p:blipFill>
          <a:blip r:embed="rId2"/>
          <a:stretch/>
        </p:blipFill>
        <p:spPr>
          <a:xfrm>
            <a:off x="4460760" y="25718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F:\фото для презентации\16451.jpg"/>
          <p:cNvPicPr/>
          <p:nvPr/>
        </p:nvPicPr>
        <p:blipFill>
          <a:blip r:embed="rId1"/>
          <a:stretch/>
        </p:blipFill>
        <p:spPr>
          <a:xfrm>
            <a:off x="214200" y="285840"/>
            <a:ext cx="423864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фото для презентации\Mugs_metal_handle_1.jpg"/>
          <p:cNvPicPr/>
          <p:nvPr/>
        </p:nvPicPr>
        <p:blipFill>
          <a:blip r:embed="rId2"/>
          <a:stretch/>
        </p:blipFill>
        <p:spPr>
          <a:xfrm>
            <a:off x="4429080" y="315432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F:\фото для презентации\p-52676.png"/>
          <p:cNvPicPr/>
          <p:nvPr/>
        </p:nvPicPr>
        <p:blipFill>
          <a:blip r:embed="rId1"/>
          <a:stretch/>
        </p:blipFill>
        <p:spPr>
          <a:xfrm>
            <a:off x="0" y="357120"/>
            <a:ext cx="421956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фото для презентации\image.jpeg"/>
          <p:cNvPicPr/>
          <p:nvPr/>
        </p:nvPicPr>
        <p:blipFill>
          <a:blip r:embed="rId2"/>
          <a:stretch/>
        </p:blipFill>
        <p:spPr>
          <a:xfrm>
            <a:off x="4572000" y="2786040"/>
            <a:ext cx="3809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F:\фото для презентации\viking-spoon.jpg"/>
          <p:cNvPicPr/>
          <p:nvPr/>
        </p:nvPicPr>
        <p:blipFill>
          <a:blip r:embed="rId1"/>
          <a:stretch/>
        </p:blipFill>
        <p:spPr>
          <a:xfrm>
            <a:off x="357120" y="500040"/>
            <a:ext cx="476244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фото для презентации\35165830-lozka.jpeg"/>
          <p:cNvPicPr/>
          <p:nvPr/>
        </p:nvPicPr>
        <p:blipFill>
          <a:blip r:embed="rId2"/>
          <a:stretch/>
        </p:blipFill>
        <p:spPr>
          <a:xfrm>
            <a:off x="4714920" y="314316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948520" cy="229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7:40:30Z</dcterms:created>
  <dc:creator>Биология</dc:creator>
  <dc:description/>
  <dc:language>en-US</dc:language>
  <cp:lastModifiedBy>сош3</cp:lastModifiedBy>
  <dcterms:modified xsi:type="dcterms:W3CDTF">2012-12-18T06:05:47Z</dcterms:modified>
  <cp:revision>2</cp:revision>
  <dc:subject/>
  <dc:title>Слайд 1</dc:title>
</cp:coreProperties>
</file>