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F54B-4372-4ACA-A26D-BB5CD798D8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7120-A4A0-4134-BAD6-674659F4BE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C2E-BE03-476C-AB51-185D9EB6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F43-DB36-4447-8D61-2A6A21DA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062D-FF57-4E75-B5F1-BE23B9B5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8ECB-2A6F-4D5E-8C32-A308B9C9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A2C3-8F58-4E32-9E69-539E50A9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5F75-CA44-4350-9C95-FADBAF22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D95C-B45B-4639-8F77-6826AB40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6928-AB98-4A53-97A0-2B712AC2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F76A-F711-425C-9306-7529B796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AE01-2DFE-45FA-83D9-6E6A634D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B32F-6373-4E54-9495-27C22BF7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0892-F93E-487B-B4FD-CF15F7AD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2F80-A160-4FF0-98DB-8FB20098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C838-D968-4A75-AEDB-4403B389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A24C-F612-4265-96EF-120349A2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C4E5-0113-45A6-BD91-CBBF7C51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7AA0-D4D6-44CA-9425-066C8A8E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E040-BEDB-46FA-88AC-AD6D04A0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719-B815-4E40-B5C3-64D54DDF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EEF-A33B-4BAF-998C-55C5BA1A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7A2-6F4D-4ACC-A166-D196EAB9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D7DF-039B-44C7-8E8E-CF557BFB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EA86-EC81-4F6D-9D47-111C5DEB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C3F9-8A02-4397-BFDE-072D2987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0FE0-890C-4917-B744-C78B543011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8651-220F-4564-8270-5978F926BF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менеджмент для управления своей жизнью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нинг для педагог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ак успевать жить и работа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готовила: Донская Е.П. педагог-психолог МБОУ «СОШ№12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Пять  Пальцев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 Л. Зайверту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 (мизинец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Мысли, знания, информация. Что новое сегодня я узнал? Узнал ли я что-то новое о своем времени? Придумал ли новые «хитрости», чтобы лучше управлять и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 (безымянный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Близость к цели. Какие оперативные задачи, приближающие меня к достижению важных целей (долгосрочных стратегических), я сегодня решил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(средний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Состояние. Какие дела были особенно интересными? Что было связано с положительными эмоциями и высокой мотивацией? Напротив, какие дела были скучными, субъективно тяжелыми, делались «через силу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(указательный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слуга, помощь, сотрудничество. Кому я помог, кому оказал ценную услугу, с кем нашел общий язык, с кем вместе хорошо работал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 (большой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Бодрость. На какие задачи я затратил больше всего энергии, физических сил? Что сделано мною сегодня для поддержания здоровья и физической форм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c0039"/>
                </a:solidFill>
                <a:latin typeface="Arial"/>
              </a:rPr>
              <a:t>…</a:t>
            </a:r>
            <a:r>
              <a:rPr b="1" i="1" lang="ru-RU" sz="2800" spc="-1" strike="noStrike">
                <a:solidFill>
                  <a:srgbClr val="8c0039"/>
                </a:solidFill>
                <a:latin typeface="Arial"/>
              </a:rPr>
              <a:t>каждый – кузнец своего…</a:t>
            </a:r>
            <a:br>
              <a:rPr sz="2800"/>
            </a:br>
            <a:r>
              <a:rPr b="1" i="1" lang="ru-RU" sz="2800" spc="-1" strike="noStrike">
                <a:solidFill>
                  <a:srgbClr val="8c0039"/>
                </a:solidFill>
                <a:latin typeface="Arial"/>
              </a:rPr>
              <a:t>времени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6" name="Picture 5" descr="время"/>
          <p:cNvPicPr/>
          <p:nvPr/>
        </p:nvPicPr>
        <p:blipFill>
          <a:blip r:embed="rId1"/>
          <a:stretch/>
        </p:blipFill>
        <p:spPr>
          <a:xfrm>
            <a:off x="2843280" y="1746360"/>
            <a:ext cx="4681440" cy="458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rebenok"/>
          <p:cNvPicPr/>
          <p:nvPr/>
        </p:nvPicPr>
        <p:blipFill>
          <a:blip r:embed="rId1"/>
          <a:stretch/>
        </p:blipFill>
        <p:spPr>
          <a:xfrm>
            <a:off x="2340000" y="4076640"/>
            <a:ext cx="2073240" cy="2530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старшеклассник"/>
          <p:cNvPicPr/>
          <p:nvPr/>
        </p:nvPicPr>
        <p:blipFill>
          <a:blip r:embed="rId2"/>
          <a:stretch/>
        </p:blipFill>
        <p:spPr>
          <a:xfrm>
            <a:off x="2916360" y="2060640"/>
            <a:ext cx="2635200" cy="2171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мужчина"/>
          <p:cNvPicPr/>
          <p:nvPr/>
        </p:nvPicPr>
        <p:blipFill>
          <a:blip r:embed="rId3"/>
          <a:stretch/>
        </p:blipFill>
        <p:spPr>
          <a:xfrm>
            <a:off x="4788000" y="1052640"/>
            <a:ext cx="1523880" cy="215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пожилой мужчина 1"/>
          <p:cNvPicPr/>
          <p:nvPr/>
        </p:nvPicPr>
        <p:blipFill>
          <a:blip r:embed="rId4"/>
          <a:stretch/>
        </p:blipFill>
        <p:spPr>
          <a:xfrm>
            <a:off x="6372360" y="620640"/>
            <a:ext cx="2557440" cy="2060640"/>
          </a:xfrm>
          <a:prstGeom prst="rect">
            <a:avLst/>
          </a:prstGeom>
          <a:ln w="0">
            <a:noFill/>
          </a:ln>
        </p:spPr>
      </p:pic>
      <p:sp>
        <p:nvSpPr>
          <p:cNvPr id="99" name="WordArt 18"/>
          <p:cNvSpPr txBox="1"/>
          <p:nvPr/>
        </p:nvSpPr>
        <p:spPr>
          <a:xfrm>
            <a:off x="4140360" y="4292640"/>
            <a:ext cx="2158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...врем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WordArt 19"/>
          <p:cNvSpPr txBox="1"/>
          <p:nvPr/>
        </p:nvSpPr>
        <p:spPr>
          <a:xfrm>
            <a:off x="5796000" y="5013360"/>
            <a:ext cx="10810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WordArt 20"/>
          <p:cNvSpPr txBox="1"/>
          <p:nvPr/>
        </p:nvSpPr>
        <p:spPr>
          <a:xfrm>
            <a:off x="6732720" y="5229360"/>
            <a:ext cx="22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д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и социальные роли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3" name="Picture 2" descr="C:\Documents and Settings\Учитель\Рабочий стол\7461_html_1cd5960.png"/>
          <p:cNvPicPr/>
          <p:nvPr/>
        </p:nvPicPr>
        <p:blipFill>
          <a:blip r:embed="rId1"/>
          <a:stretch/>
        </p:blipFill>
        <p:spPr>
          <a:xfrm>
            <a:off x="2928960" y="1643040"/>
            <a:ext cx="2428920" cy="1751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Documents and Settings\Учитель\Рабочий стол\mamõ3.jpg"/>
          <p:cNvPicPr/>
          <p:nvPr/>
        </p:nvPicPr>
        <p:blipFill>
          <a:blip r:embed="rId2"/>
          <a:stretch/>
        </p:blipFill>
        <p:spPr>
          <a:xfrm>
            <a:off x="2552760" y="3929040"/>
            <a:ext cx="2895480" cy="221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Documents and Settings\Учитель\Рабочий стол\efed177e214f.jpg"/>
          <p:cNvPicPr/>
          <p:nvPr/>
        </p:nvPicPr>
        <p:blipFill>
          <a:blip r:embed="rId3"/>
          <a:stretch/>
        </p:blipFill>
        <p:spPr>
          <a:xfrm>
            <a:off x="5829480" y="39243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C:\Documents and Settings\Учитель\Рабочий стол\1301658280_zapoved002.jpg"/>
          <p:cNvPicPr/>
          <p:nvPr/>
        </p:nvPicPr>
        <p:blipFill>
          <a:blip r:embed="rId4"/>
          <a:stretch/>
        </p:blipFill>
        <p:spPr>
          <a:xfrm>
            <a:off x="6024600" y="1600200"/>
            <a:ext cx="250488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часы"/>
          <p:cNvPicPr/>
          <p:nvPr/>
        </p:nvPicPr>
        <p:blipFill>
          <a:blip r:embed="rId1"/>
          <a:stretch/>
        </p:blipFill>
        <p:spPr>
          <a:xfrm>
            <a:off x="2484360" y="1197000"/>
            <a:ext cx="6659640" cy="4176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5"/>
          <p:cNvSpPr/>
          <p:nvPr/>
        </p:nvSpPr>
        <p:spPr>
          <a:xfrm>
            <a:off x="2800440" y="402120"/>
            <a:ext cx="589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Каждый из н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хотя бы раз в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роизносит с сожаление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«на это у меня не хватило време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429120" y="5371920"/>
            <a:ext cx="844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Как извест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время – это единственный невосполнимый ресур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оэтому, когда мы теряем время, мы теряем 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57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днажды ученик спросил Учителя: «Учитель, подскажи что делать: мне никогда ни на что не хватает времени! Я разрываюсь между несколькими делами и в результате не выполняю достаточно хорошо ни одного из них…»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Это случается часто? – поинтересовался Учитель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Да, – сказал ученик, – мне кажется, что гораздо чаще, чем у моих коллег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Скажи, а в туалет ты в этих случаях ходить успеваешь?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еник удивился: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Ну да, конечно, но почему ты спросил об этом?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А что будет, если не сходишь? Ученик замялся: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Ну, как это «не сходишь»? Это же потребность!…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Ага! – воскликнул Учитель. – Значит,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огда желание ест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оно действительно большое, ты н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го врем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е-так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аходиш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2571840" y="2643120"/>
            <a:ext cx="6072120" cy="3500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торопись медленно"/>
          <p:cNvPicPr/>
          <p:nvPr/>
        </p:nvPicPr>
        <p:blipFill>
          <a:blip r:embed="rId2"/>
          <a:stretch/>
        </p:blipFill>
        <p:spPr>
          <a:xfrm>
            <a:off x="3929040" y="285840"/>
            <a:ext cx="481644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1497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2714760"/>
            <a:ext cx="640080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4" descr=""/>
          <p:cNvPicPr/>
          <p:nvPr/>
        </p:nvPicPr>
        <p:blipFill>
          <a:blip r:embed="rId1"/>
          <a:stretch/>
        </p:blipFill>
        <p:spPr>
          <a:xfrm>
            <a:off x="2428920" y="500040"/>
            <a:ext cx="642924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ирог времен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3" descr=""/>
          <p:cNvPicPr/>
          <p:nvPr/>
        </p:nvPicPr>
        <p:blipFill>
          <a:blip r:embed="rId1"/>
          <a:stretch/>
        </p:blipFill>
        <p:spPr>
          <a:xfrm>
            <a:off x="3143160" y="1857240"/>
            <a:ext cx="514368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Поглотители времени»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11280" y="155736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чины потерь време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умею отделить важные дела от второстепе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планирую предварительно свой д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чная неорганизованность (беспорядок на письменном столе, в комнате и т.п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всегда знаю, что нужно дела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лекаюсь на телефонные звонки (и надолг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умею сказать «нет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я личная недисциплинирован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довожу начатое до кон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го раскачиваюсь в начале каждого де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 времени трачу на мелкую и рутинную работу, а до важных дел руки не доходя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знаю своего личного ритма физической и умственной актив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чень легко отвлекаюсь (например, на шум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20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2-09T10:00:27Z</dcterms:modified>
  <cp:revision>19</cp:revision>
  <dc:subject/>
  <dc:title>PowerPoint Presentation</dc:title>
</cp:coreProperties>
</file>