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5AD3-FC7A-4BD6-80F4-B3C0BA56E4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0694-0110-467B-8D14-8FE5B7627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147-C3D9-4632-BE57-B0E16DD4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262-75E9-4761-9636-ED854534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E04-6223-4431-AE48-34BD4587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722-CC1A-4885-934A-5495A615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39CE-AA10-44CD-9D1A-811EECEA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4601-F1C2-40FC-92D6-410C93D4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EDD0-840F-4D66-AE78-6A8A8491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EE2C-44EF-49FC-9DCC-DEF83EFF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0D83-5ECA-4A33-94C4-A2F6A92C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7169-83F0-40BB-8F51-EB151978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026B-9A6D-475F-90EC-E297C0B1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022-0B3D-49D3-AA80-AF8DB405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4DBB-AD3C-46EC-9751-230C4088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5B21-126E-4570-9484-CD4CACEA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9B65-C97E-4665-91A0-A7B250FC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D22D-A065-4AAD-95CC-B405997A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431A-E7F9-4166-856F-C4E8EFFD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4DB-265D-4518-8C4E-F8219CED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845-936F-4F70-916F-FCA4C96A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D79-9039-45BE-A213-3CFDF30E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5F7-EB3F-4053-844C-A6D49D20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634-F2EC-4E05-AAD2-458E1984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C66-0B62-4DAA-9E08-05946217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DDD-3907-4F11-89DA-2F1E2E3C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B1F1-0846-499C-A50D-27DCE62917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7EE1-617D-4813-80B7-0B150325C4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менеджмент для управления своей жизнью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нг для педагог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ак успевать жить и работа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а: Донская Е.П. педагог-психолог МБОУ «СОШ№12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ять  Пальцев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 Л. Зайверту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 (мизинец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Мысли, знания, информация. Что новое сегодня я узнал? Узнал ли я что-то новое о своем времени? Придумал ли новые «хитрости», чтобы лучше управлять 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 (безымянны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Близость к цели. Какие оперативные задачи, приближающие меня к достижению важных целей (долгосрочных стратегических), я сегодня решил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(средни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Состояние. Какие дела были особенно интересными? Что было связано с положительными эмоциями и высокой мотивацией? Напротив, какие дела были скучными, субъективно тяжелыми, делались «через силу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(указательны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слуга, помощь, сотрудничество. Кому я помог, кому оказал ценную услугу, с кем нашел общий язык, с кем вместе хорошо работал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 (большо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Бодрость. На какие задачи я затратил больше всего энергии, физических сил? Что сделано мною сегодня для поддержания здоровья и физической форм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c0039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8c0039"/>
                </a:solidFill>
                <a:latin typeface="Arial"/>
              </a:rPr>
              <a:t>каждый – кузнец своего…</a:t>
            </a:r>
            <a:br>
              <a:rPr sz="2800"/>
            </a:br>
            <a:r>
              <a:rPr b="1" i="1" lang="ru-RU" sz="2800" spc="-1" strike="noStrike">
                <a:solidFill>
                  <a:srgbClr val="8c0039"/>
                </a:solidFill>
                <a:latin typeface="Arial"/>
              </a:rPr>
              <a:t>времени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6" name="Picture 5" descr="время"/>
          <p:cNvPicPr/>
          <p:nvPr/>
        </p:nvPicPr>
        <p:blipFill>
          <a:blip r:embed="rId1"/>
          <a:stretch/>
        </p:blipFill>
        <p:spPr>
          <a:xfrm>
            <a:off x="2843280" y="1746360"/>
            <a:ext cx="4681440" cy="45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rebenok"/>
          <p:cNvPicPr/>
          <p:nvPr/>
        </p:nvPicPr>
        <p:blipFill>
          <a:blip r:embed="rId1"/>
          <a:stretch/>
        </p:blipFill>
        <p:spPr>
          <a:xfrm>
            <a:off x="2340000" y="4076640"/>
            <a:ext cx="2073240" cy="2530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старшеклассник"/>
          <p:cNvPicPr/>
          <p:nvPr/>
        </p:nvPicPr>
        <p:blipFill>
          <a:blip r:embed="rId2"/>
          <a:stretch/>
        </p:blipFill>
        <p:spPr>
          <a:xfrm>
            <a:off x="2916360" y="2060640"/>
            <a:ext cx="2635200" cy="2171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мужчина"/>
          <p:cNvPicPr/>
          <p:nvPr/>
        </p:nvPicPr>
        <p:blipFill>
          <a:blip r:embed="rId3"/>
          <a:stretch/>
        </p:blipFill>
        <p:spPr>
          <a:xfrm>
            <a:off x="4788000" y="1052640"/>
            <a:ext cx="1523880" cy="215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пожилой мужчина 1"/>
          <p:cNvPicPr/>
          <p:nvPr/>
        </p:nvPicPr>
        <p:blipFill>
          <a:blip r:embed="rId4"/>
          <a:stretch/>
        </p:blipFill>
        <p:spPr>
          <a:xfrm>
            <a:off x="6372360" y="620640"/>
            <a:ext cx="2557440" cy="2060640"/>
          </a:xfrm>
          <a:prstGeom prst="rect">
            <a:avLst/>
          </a:prstGeom>
          <a:ln w="0">
            <a:noFill/>
          </a:ln>
        </p:spPr>
      </p:pic>
      <p:sp>
        <p:nvSpPr>
          <p:cNvPr id="99" name="WordArt 18"/>
          <p:cNvSpPr txBox="1"/>
          <p:nvPr/>
        </p:nvSpPr>
        <p:spPr>
          <a:xfrm>
            <a:off x="4140360" y="4292640"/>
            <a:ext cx="215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..врем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WordArt 19"/>
          <p:cNvSpPr txBox="1"/>
          <p:nvPr/>
        </p:nvSpPr>
        <p:spPr>
          <a:xfrm>
            <a:off x="5796000" y="5013360"/>
            <a:ext cx="1081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6732720" y="522936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и социальные роли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Picture 2" descr="C:\Documents and Settings\Учитель\Рабочий стол\7461_html_1cd5960.png"/>
          <p:cNvPicPr/>
          <p:nvPr/>
        </p:nvPicPr>
        <p:blipFill>
          <a:blip r:embed="rId1"/>
          <a:stretch/>
        </p:blipFill>
        <p:spPr>
          <a:xfrm>
            <a:off x="2928960" y="1643040"/>
            <a:ext cx="2428920" cy="1751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Учитель\Рабочий стол\mamõ3.jpg"/>
          <p:cNvPicPr/>
          <p:nvPr/>
        </p:nvPicPr>
        <p:blipFill>
          <a:blip r:embed="rId2"/>
          <a:stretch/>
        </p:blipFill>
        <p:spPr>
          <a:xfrm>
            <a:off x="2552760" y="3929040"/>
            <a:ext cx="2895480" cy="221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Учитель\Рабочий стол\efed177e214f.jpg"/>
          <p:cNvPicPr/>
          <p:nvPr/>
        </p:nvPicPr>
        <p:blipFill>
          <a:blip r:embed="rId3"/>
          <a:stretch/>
        </p:blipFill>
        <p:spPr>
          <a:xfrm>
            <a:off x="582948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Documents and Settings\Учитель\Рабочий стол\1301658280_zapoved002.jpg"/>
          <p:cNvPicPr/>
          <p:nvPr/>
        </p:nvPicPr>
        <p:blipFill>
          <a:blip r:embed="rId4"/>
          <a:stretch/>
        </p:blipFill>
        <p:spPr>
          <a:xfrm>
            <a:off x="6024600" y="1600200"/>
            <a:ext cx="250488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часы"/>
          <p:cNvPicPr/>
          <p:nvPr/>
        </p:nvPicPr>
        <p:blipFill>
          <a:blip r:embed="rId1"/>
          <a:stretch/>
        </p:blipFill>
        <p:spPr>
          <a:xfrm>
            <a:off x="2484360" y="1197000"/>
            <a:ext cx="6659640" cy="4176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5"/>
          <p:cNvSpPr/>
          <p:nvPr/>
        </p:nvSpPr>
        <p:spPr>
          <a:xfrm>
            <a:off x="2800440" y="402120"/>
            <a:ext cx="589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аждый из н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хотя бы раз в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роизносит с сожаление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«на это у меня не хватило време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429120" y="5371920"/>
            <a:ext cx="844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ак извест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ремя – это единственный невосполнимый ресур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оэтому, когда мы теряем время, мы теряем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57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ажды ученик спросил Учителя: «Учитель, подскажи что делать: мне никогда ни на что не хватает времени! Я разрываюсь между несколькими делами и в результате не выполняю достаточно хорошо ни одного из них…»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Это случается часто? – поинтересовался Учитель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Да, – сказал ученик, – мне кажется, что гораздо чаще, чем у моих коллег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Скажи, а в туалет ты в этих случаях ходить успеваешь?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ник удивился: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Ну да, конечно, но почему ты спросил об этом?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А что будет, если не сходишь? Ученик замялся: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Ну, как это «не сходишь»? Это же потребность!…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Ага! – воскликнул Учитель. – Значит,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гда желание ес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оно действительно большое, ты н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го врем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-та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ходиш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2571840" y="2643120"/>
            <a:ext cx="6072120" cy="350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торопись медленно"/>
          <p:cNvPicPr/>
          <p:nvPr/>
        </p:nvPicPr>
        <p:blipFill>
          <a:blip r:embed="rId2"/>
          <a:stretch/>
        </p:blipFill>
        <p:spPr>
          <a:xfrm>
            <a:off x="3929040" y="285840"/>
            <a:ext cx="48164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1497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2714760"/>
            <a:ext cx="640080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4" descr=""/>
          <p:cNvPicPr/>
          <p:nvPr/>
        </p:nvPicPr>
        <p:blipFill>
          <a:blip r:embed="rId1"/>
          <a:stretch/>
        </p:blipFill>
        <p:spPr>
          <a:xfrm>
            <a:off x="2428920" y="500040"/>
            <a:ext cx="642924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рог времен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3143160" y="1857240"/>
            <a:ext cx="514368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оглотители времени»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11280" y="155736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чины потерь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умею отделить важные дела от второстепе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планирую предварительно свой д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ая неорганизованность (беспорядок на письменном столе, в комнате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сегда знаю, что нужно дела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лекаюсь на телефонные звонки (и надолг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умею сказать «нет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я личная недисциплинирова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довожу начатое до кон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го раскачиваюсь в начале каждого де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времени трачу на мелкую и рутинную работу, а до важных дел руки не доходя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наю своего личного ритма физической и умственной актив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легко отвлекаюсь (например, на шум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2-09T10:00:27Z</dcterms:modified>
  <cp:revision>19</cp:revision>
  <dc:subject/>
  <dc:title>PowerPoint Presentation</dc:title>
</cp:coreProperties>
</file>