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A54-259D-4238-AC7C-482690E0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26E-807E-40F7-A010-02078EA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54B-99BB-46F1-94D4-C5F223E3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9EE-828B-44AF-B53F-D2188C12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046E-7BCA-4C50-9763-D61D2613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4E77-A615-4241-B60D-191530D1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C066-A436-44DF-B86A-F31EB6F3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70CD-55D1-4C27-B5D3-36162E9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6CA2-AC8F-404E-906E-0A2774BC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FEBB-11FD-44DE-AB97-4C0C4D60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0AE0-D946-412E-9F66-D177B2F7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72F-6364-4610-BEF2-D333EC27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4EAB-E8BA-4B3F-B09A-59CDEE93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E995-71D6-42BD-9507-3BEB6B54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15C2-EDF2-4CA7-8F21-F0EA9AE6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F17B-8C03-41F1-A011-3A240191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0EF8-F9C4-459B-AF5C-B528522A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328-7362-471F-8A57-9F83B795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677-0A7E-4B12-801C-FEA3F606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6C5-3ED4-4F76-B66B-FC2A0E7C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9A4-5C92-40F5-8960-BF6B7C3B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180-516F-4322-B40C-F4640A2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262-DF80-4281-96CE-3E73A60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954-FB6D-42D3-B8C6-24A739B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9DA8-1941-49C9-A4A4-24D8496071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D0AD-8D8C-4EFE-BE82-B5B54BB1AD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oto.rambler.ru/public/vorotnikov1960/1/22/1-we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ryanskobl.ru/region/law/img/brflag_b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zone-x.ru/66/64313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colibri.ru/photos/2006/138542.gif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tatic.obnovlenie.ru/foto/original/4500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dmsel.debryansk.ru/img/mainpic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hrono.ru/heraldicum/russia/subjects/towns/images/selco.gif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xillographia.ru/russia/subjects/towns/images/selco.gif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g-fotki.yandex.ru/get/9/aof40.7/0_650c_35246c9a_X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Картинка 12 из 15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0"/>
            <a:ext cx="56754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523880" y="4648320"/>
            <a:ext cx="6400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Герб России</a:t>
            </a:r>
            <a:endParaRPr b="1" lang="en-US" sz="1800" spc="1" strike="noStrike">
              <a:ln w="414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Картинка 6 из 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57200" y="0"/>
            <a:ext cx="102106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952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Текст Государственного гимна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ff"/>
                </a:solidFill>
                <a:latin typeface="Tahoma"/>
              </a:rPr>
              <a:t>слова С.В.Михалкова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) 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Россия - священная наша держава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Россия - любимая наша страна.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Могучая воля, великая слава -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Твое достоянье на все времена! Славься, Отечество наше свободное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Братских народов союз вековой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Предками данная мудрость народная!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Славься, страна! Мы гордимся тобой! От южных морей до полярного края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Раскинулись наши леса и поля.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Одна ты на свете! Одна ты такая -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Хранимая Богом родная земля! Славься, Отечество наше свободное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Братских народов союз вековой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Предками данная мудрость народная!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Славься, страна! Мы гордимся тобой! Широкий простор для мечты и для жизни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Грядущие нам открывают года.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Нам силу дает наша верность Отчизне.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Так было, так есть и так будет всегда! Славься, Отечество наше свободное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Братских народов союз вековой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Предками данная мудрость народная!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Славься, страна! Мы гордимся тобой!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162920" cy="51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523880" y="4648320"/>
            <a:ext cx="6400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Флаг России</a:t>
            </a:r>
            <a:endParaRPr b="1" lang="en-US" sz="1800" spc="1" strike="noStrike">
              <a:ln w="414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Картинка 13 из 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3689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11 из 4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838080" y="2895480"/>
            <a:ext cx="7620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47520">
                  <a:solidFill>
                    <a:srgbClr val="0000ff"/>
                  </a:solidFill>
                  <a:miter/>
                </a:ln>
                <a:solidFill>
                  <a:srgbClr val="e5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Конституция РФ</a:t>
            </a:r>
            <a:endParaRPr b="1" lang="en-US" sz="4400" spc="1" strike="noStrike">
              <a:ln w="47520">
                <a:solidFill>
                  <a:srgbClr val="0000ff"/>
                </a:solidFill>
                <a:miter/>
              </a:ln>
              <a:solidFill>
                <a:srgbClr val="e5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Картинка 8 из 104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Картинка 20 из 6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Картинка 1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0" y="152280"/>
            <a:ext cx="4495680" cy="6324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523880" y="4648320"/>
            <a:ext cx="6400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Герб г. Сельцо</a:t>
            </a:r>
            <a:endParaRPr b="1" lang="en-US" sz="1800" spc="1" strike="noStrike">
              <a:ln w="414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Картинка 2 из 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57200" y="-50760"/>
            <a:ext cx="10363320" cy="690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523880" y="4648320"/>
            <a:ext cx="6400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Флаг г. Сельцо</a:t>
            </a:r>
            <a:endParaRPr b="1" lang="en-US" sz="1800" spc="1" strike="noStrike">
              <a:ln w="414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Картинка 1 из 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0"/>
            <a:ext cx="63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14T09:17:0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