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8D8-B8E1-4437-93F1-7EF2AF5C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EE9-E2CC-4CB7-B588-8918D6E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68-49D8-44E8-A34B-AD5B0E89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911-E565-4394-9064-C1DF82A1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845-C006-495A-9DFB-BFE53C32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A3A-7A78-44B0-A02C-448199C7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89C-A234-457D-96BA-68543BC7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CDC-83D9-43CE-BD1A-CEE866AA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1BF-50B2-471B-9C4A-3AD82FE0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CD9-CBC7-4CE0-A541-803E25D8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D39-A382-4C51-B710-7B6FBCA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2F9-969E-4DC6-9A03-0AFC2024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84A9-5997-44F0-97F4-2251040407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358920" y="311796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24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спользование ИОС Учи.ру для повышения уровня образовательных результатов обучающихся в начальной шк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58920" y="33480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780000" y="5097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 семинар в рамках интернет-фестиваля «Интерактивные среды в образовательной деятельности: опыт, проблемы, перспекти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95640" y="5842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2.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8604360" y="6245280"/>
            <a:ext cx="8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User\Desktop\1.png"/>
          <p:cNvPicPr/>
          <p:nvPr/>
        </p:nvPicPr>
        <p:blipFill>
          <a:blip r:embed="rId1"/>
          <a:stretch/>
        </p:blipFill>
        <p:spPr>
          <a:xfrm>
            <a:off x="4859280" y="992160"/>
            <a:ext cx="3921120" cy="54975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4E5-74E1-44FE-B618-EEC3381541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2.png"/>
          <p:cNvPicPr/>
          <p:nvPr/>
        </p:nvPicPr>
        <p:blipFill>
          <a:blip r:embed="rId2"/>
          <a:stretch/>
        </p:blipFill>
        <p:spPr>
          <a:xfrm>
            <a:off x="395280" y="404640"/>
            <a:ext cx="4032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User\Desktop\3.png"/>
          <p:cNvPicPr/>
          <p:nvPr/>
        </p:nvPicPr>
        <p:blipFill>
          <a:blip r:embed="rId1"/>
          <a:stretch/>
        </p:blipFill>
        <p:spPr>
          <a:xfrm rot="387600">
            <a:off x="4374720" y="604800"/>
            <a:ext cx="4010040" cy="569448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8AC4-C0C9-4E64-A578-E5D3042884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User\Desktop\2.png"/>
          <p:cNvPicPr/>
          <p:nvPr/>
        </p:nvPicPr>
        <p:blipFill>
          <a:blip r:embed="rId2"/>
          <a:stretch/>
        </p:blipFill>
        <p:spPr>
          <a:xfrm rot="21210000">
            <a:off x="704880" y="606240"/>
            <a:ext cx="4021200" cy="57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79640" y="2276640"/>
            <a:ext cx="622944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и развития образования, которые определяют вектор развития современ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4400" y="1557360"/>
            <a:ext cx="79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е темпы обновления научных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изация и персонализац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парадигма сдвигается в сторону использования моделей онлайн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ия учащегося становится более а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образовательное пространство ребёнка не ограничивается образовательной средо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ие концепции «эдьютеймент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 учащихся предметных, метапредметных и личностных качеств, формируемых в специализированной информационной образовательной среде, требования к которой прописаны в ФГ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51E-12DA-4163-AA06-46682A9418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4365" r="0" b="11250"/>
          <a:stretch/>
        </p:blipFill>
        <p:spPr>
          <a:xfrm>
            <a:off x="250920" y="641520"/>
            <a:ext cx="8713800" cy="473220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8674-0C83-47E6-BAD5-70C14098B6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97000"/>
            <a:ext cx="8178840" cy="412416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592-274F-4423-B925-874E8F07FA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95280" y="1089000"/>
            <a:ext cx="835344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E588-4F09-4EC2-8BDE-C440316769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71520" y="836640"/>
            <a:ext cx="8372520" cy="46083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FB70-087A-4C1C-AAF4-25BE524022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D094-07DF-48BB-81D6-EA6E7D838D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-30240" y="907920"/>
            <a:ext cx="921708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C8C4-F210-476C-BA8D-91F0EA3AD4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ст.png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6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82600"/>
            <a:ext cx="8207280" cy="438480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245-4976-4A1E-A84A-0BF1FE23F7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2-24T19:52:15Z</dcterms:modified>
  <cp:revision>798</cp:revision>
  <dc:subject/>
  <dc:title>Diapositiva 1</dc:title>
</cp:coreProperties>
</file>