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0BE-21A5-4B30-A5E8-F26403C4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2EC-2719-474B-B928-814FCCE2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AE2-137A-4CDC-8A6C-410EC9C2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6B9-BEBC-4145-ACF8-03A87FFB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251-E3AC-4246-B4FA-6A063B0C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7F1-43DE-49AF-A5A9-B59C81A9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F7C-8684-4D3F-90A9-6BB734D8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28D-625D-4B4A-80BF-89998ED0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890-E6CD-46F3-83DF-5D811D4B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72A-3FCA-4537-8066-A6A1BB26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3E4-0CD9-4F23-AB11-600D62B6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D5C-7471-4004-87B3-07510851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C64E-B81D-4557-A450-BDDE25014A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0"/>
          <p:cNvSpPr/>
          <p:nvPr/>
        </p:nvSpPr>
        <p:spPr>
          <a:xfrm>
            <a:off x="358920" y="311796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240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Использование ИОС Учи.ру для повышения уровня образовательных результатов обучающихся в начальной шко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358920" y="334800"/>
            <a:ext cx="1547640" cy="154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3780000" y="50976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 семинар в рамках интернет-фестиваля «Интерактивные среды в образовательной деятельности: опыт, проблемы, перспектив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995640" y="58420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02.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рг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8604360" y="6245280"/>
            <a:ext cx="8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Users\User\Desktop\1.png"/>
          <p:cNvPicPr/>
          <p:nvPr/>
        </p:nvPicPr>
        <p:blipFill>
          <a:blip r:embed="rId1"/>
          <a:stretch/>
        </p:blipFill>
        <p:spPr>
          <a:xfrm>
            <a:off x="4859280" y="992160"/>
            <a:ext cx="3921120" cy="549756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6E8D-984A-4825-AEA3-802DF71F84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User\Desktop\2.png"/>
          <p:cNvPicPr/>
          <p:nvPr/>
        </p:nvPicPr>
        <p:blipFill>
          <a:blip r:embed="rId2"/>
          <a:stretch/>
        </p:blipFill>
        <p:spPr>
          <a:xfrm>
            <a:off x="395280" y="404640"/>
            <a:ext cx="4032360" cy="57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User\Desktop\3.png"/>
          <p:cNvPicPr/>
          <p:nvPr/>
        </p:nvPicPr>
        <p:blipFill>
          <a:blip r:embed="rId1"/>
          <a:stretch/>
        </p:blipFill>
        <p:spPr>
          <a:xfrm rot="387600">
            <a:off x="4374720" y="604800"/>
            <a:ext cx="4010040" cy="569448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C60B-48ED-4A0C-933C-E848E85432E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User\Desktop\2.png"/>
          <p:cNvPicPr/>
          <p:nvPr/>
        </p:nvPicPr>
        <p:blipFill>
          <a:blip r:embed="rId2"/>
          <a:stretch/>
        </p:blipFill>
        <p:spPr>
          <a:xfrm rot="21210000">
            <a:off x="704880" y="606240"/>
            <a:ext cx="4021200" cy="571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979640" y="2276640"/>
            <a:ext cx="6229440" cy="32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нденции развития образования, которые определяют вектор развития современного образ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644400" y="1557360"/>
            <a:ext cx="799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е темпы обновления научных зн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изация и персонализация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ая парадигма сдвигается в сторону использования моделей онлайн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ция учащегося становится более а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е образовательное пространство ребёнка не ограничивается образовательной средой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остранение концепции «эдьютеймент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 учащихся предметных, метапредметных и личностных качеств, формируемых в специализированной информационной образовательной среде, требования к которой прописаны в ФГ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215F-E008-4AA5-9213-6D5C0D6079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0" t="4365" r="0" b="11250"/>
          <a:stretch/>
        </p:blipFill>
        <p:spPr>
          <a:xfrm>
            <a:off x="250920" y="641520"/>
            <a:ext cx="8713800" cy="4732200"/>
          </a:xfrm>
          <a:prstGeom prst="rect">
            <a:avLst/>
          </a:prstGeom>
          <a:ln w="0">
            <a:noFill/>
          </a:ln>
        </p:spPr>
      </p:pic>
      <p:sp>
        <p:nvSpPr>
          <p:cNvPr id="5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3B2A-DC29-499B-B650-4FD8E149639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468360" y="1197000"/>
            <a:ext cx="8178840" cy="412416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02A2-B3EB-4F86-B89A-40283D8EA4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395280" y="1089000"/>
            <a:ext cx="8353440" cy="457992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A1AB-EBE7-48F7-9981-00A6BDF879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371520" y="836640"/>
            <a:ext cx="8372520" cy="460836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F0A2-EF0A-4C83-AC9D-3314085224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5158-2C3B-422B-8640-6E51BD75D3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-30240" y="907920"/>
            <a:ext cx="9217080" cy="502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11EC-9A35-457B-B72F-D7E8BA6980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USER\Desktop\ст.png"/>
          <p:cNvPicPr/>
          <p:nvPr/>
        </p:nvPicPr>
        <p:blipFill>
          <a:blip r:embed="rId1"/>
          <a:stretch/>
        </p:blipFill>
        <p:spPr>
          <a:xfrm>
            <a:off x="0" y="958680"/>
            <a:ext cx="9144000" cy="460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468360" y="1182600"/>
            <a:ext cx="8207280" cy="4384800"/>
          </a:xfrm>
          <a:prstGeom prst="rect">
            <a:avLst/>
          </a:prstGeom>
          <a:ln w="0">
            <a:noFill/>
          </a:ln>
        </p:spPr>
      </p:pic>
      <p:sp>
        <p:nvSpPr>
          <p:cNvPr id="6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70DE-F110-486A-8505-4B11249194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0-02-24T19:52:15Z</dcterms:modified>
  <cp:revision>798</cp:revision>
  <dc:subject/>
  <dc:title>Diapositiva 1</dc:title>
</cp:coreProperties>
</file>