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A61-D046-4EC0-A30E-FD6A38B19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40FA-4EB1-47BB-8FB0-A320E0852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B3F4-9126-4B8F-A51B-6A605522A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41B-26CA-40A8-A6EF-EA03AF1A5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2F5-5296-4291-B610-9D19EB6F1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325F-6EA3-4046-9A38-66211BBBB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4E6C-C5F4-4F9B-8D46-7D24A11E8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E26-F81C-4CFF-B8AC-C1509E8B20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C8A-1EDE-45D4-8DB1-A0480C694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923E-7466-493C-9267-0F588EDE0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CF6-5F7B-4E0C-83E0-DBEE9ADC1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299-E252-4783-A9B4-DB8D6E8C54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F4D-2729-4437-B279-54AD19FD36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CA08-7E6A-40AA-A042-D599E26AB6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CD02-3AE6-4A73-B30D-5F2B56BE20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AF86-A39B-4C6F-A978-99B4670567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2BE-A237-469C-85AC-1D8F6701F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5DD-C8F3-42A0-BC28-735FB62695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FED-E7B5-483D-81CA-949C4505D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60D-E2C4-4732-AC23-87D498B10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B4A-D8C8-4CC1-8FB6-EB9408ED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769-A8DA-4FD1-B8BD-95ABCB5D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579-A870-4B3C-8853-5A65B770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71E-25A1-438C-BC54-64EB747D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4C35-9510-4863-9A6C-D7AADF4D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5F8-1510-447C-8021-487A1DD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5F5F-6C39-4CB7-B5FC-903FC4BC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F32-DF51-4CF7-B193-BD442D1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EB55-3229-4735-817F-79698BC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1B77-7AA8-4373-A29F-09BC9F0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9F06-8013-43D3-98F9-F54B388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DA-3497-4E35-BB6C-483E3F5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7201-6387-4292-81E0-EBDED03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5AED-A600-46A8-8358-9B43B83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0ACA-4340-49ED-83B2-6B3CE5C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039-72CD-4A0A-9A8C-3B10FFBC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D48-1BBF-465A-9005-135F3EE0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F2A9-3353-4490-A84C-67DBD0BB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8DA0-406E-4019-8C94-532923D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B344-AD75-4750-BD79-D82B450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BF0E-7A6C-4154-ABB0-08634A5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0404-B2DB-4F75-978F-45DB09AE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221-7530-463C-83D1-117E803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402B-36F3-427C-AF43-404F743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6A0C-F307-4A82-ACB7-2296C4A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70DF-621D-45A7-A0DC-327C4B37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5FAF-8005-4680-9D7C-9A49376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D319-32AB-40B8-AAD0-62DD9E3C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9265-C6F1-47AD-8E21-D849DFB5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B682-5ACA-41A7-910E-C28EE40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5F32-04C1-4795-A543-9F2C59A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FDB0-54FA-40EE-B84F-90FD78E2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408D-C798-4AD2-A14F-8BD21B1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4A8-B928-43CC-BAAE-17726DD4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ECB6-A10E-4167-BF20-49032558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E276-1C5C-41C5-8BF5-F595048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D4CB-5908-4224-B947-E8BD1F40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099E-F9BD-4499-A74D-287AF382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9BA6-9FD8-48BD-861C-01FC507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1685-487B-4123-8E55-78224F3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EB835-88EE-4952-856C-98F2BAF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23F0-1D48-4707-B290-E68BA7F3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D1D2-6EB3-4F41-BD71-804B9F84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735-E538-45D1-A491-01443CC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6D3-B208-4B06-9B41-45DA826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DD5-3488-47CD-B335-A269DBC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E76-D40C-4DAF-A789-BD8571E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E76-9E62-4E68-B1BC-1B52B39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5D9-6338-4FA0-AAB1-865EC1D4DCF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D50B-6475-42AE-95D3-246E7731487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5EAF-6962-4AC7-8320-0BA3AB8528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3D7-EF05-4DD4-976B-A6CEA2C4862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1.jpg"/>
          <p:cNvPicPr/>
          <p:nvPr/>
        </p:nvPicPr>
        <p:blipFill>
          <a:blip r:embed="rId2"/>
          <a:stretch/>
        </p:blipFill>
        <p:spPr>
          <a:xfrm>
            <a:off x="250920" y="255600"/>
            <a:ext cx="8642160" cy="634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2.gif"/>
          <p:cNvPicPr/>
          <p:nvPr/>
        </p:nvPicPr>
        <p:blipFill>
          <a:blip r:embed="rId3"/>
          <a:stretch/>
        </p:blipFill>
        <p:spPr>
          <a:xfrm>
            <a:off x="2459160" y="1428840"/>
            <a:ext cx="47559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Содержимое 3" descr="10.jpg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Содержимое 3" descr="12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одержимое 3" descr="13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s://region.center/source/OREL/vremennie/pamaytniki/25_big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Содержимое 3" descr="14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06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3" descr="15.jpg"/>
          <p:cNvPicPr/>
          <p:nvPr/>
        </p:nvPicPr>
        <p:blipFill>
          <a:blip r:embed="rId2"/>
          <a:stretch/>
        </p:blipFill>
        <p:spPr>
          <a:xfrm>
            <a:off x="179280" y="136440"/>
            <a:ext cx="878544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Содержимое 3" descr="16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Содержимое 3" descr="17.jpg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260" name="Давид Тухманов — Марш 'День Победы' (www.mixmuz.ru).mp3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024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Рисунок 5" descr="18 -1 копия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63" name="минута молчания — Метроном (www.mixmuz.ru)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827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3" descr="3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Содержимое 3" descr="19.jpg"/>
          <p:cNvPicPr/>
          <p:nvPr/>
        </p:nvPicPr>
        <p:blipFill>
          <a:blip r:embed="rId2"/>
          <a:stretch/>
        </p:blipFill>
        <p:spPr>
          <a:xfrm>
            <a:off x="250920" y="235080"/>
            <a:ext cx="871380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3" descr="3-1.jpg"/>
          <p:cNvPicPr/>
          <p:nvPr/>
        </p:nvPicPr>
        <p:blipFill>
          <a:blip r:embed="rId2"/>
          <a:stretch/>
        </p:blipFill>
        <p:spPr>
          <a:xfrm>
            <a:off x="250920" y="18720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Содержимое 3" descr="4.jpg"/>
          <p:cNvPicPr/>
          <p:nvPr/>
        </p:nvPicPr>
        <p:blipFill>
          <a:blip r:embed="rId2"/>
          <a:stretch/>
        </p:blipFill>
        <p:spPr>
          <a:xfrm>
            <a:off x="250920" y="190440"/>
            <a:ext cx="8713800" cy="6478560"/>
          </a:xfrm>
          <a:prstGeom prst="rect">
            <a:avLst/>
          </a:prstGeom>
          <a:ln w="0">
            <a:noFill/>
          </a:ln>
        </p:spPr>
      </p:pic>
      <p:pic>
        <p:nvPicPr>
          <p:cNvPr id="231" name="В.М.Молотов - В.И.Лебедев-Кумач - А.В. Александров — Речь Молотова - Священная в (www.mixmuz.ru)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48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3" descr="5.jpg"/>
          <p:cNvPicPr/>
          <p:nvPr/>
        </p:nvPicPr>
        <p:blipFill>
          <a:blip r:embed="rId2"/>
          <a:stretch/>
        </p:blipFill>
        <p:spPr>
          <a:xfrm>
            <a:off x="250920" y="182520"/>
            <a:ext cx="8713800" cy="6486480"/>
          </a:xfrm>
          <a:prstGeom prst="rect">
            <a:avLst/>
          </a:prstGeom>
          <a:ln w="0">
            <a:noFill/>
          </a:ln>
        </p:spPr>
      </p:pic>
      <p:pic>
        <p:nvPicPr>
          <p:cNvPr id="234" name="Прощание — Слованки (www.mixmuz.ru)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937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7.jpg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7 -1.jpg"/>
          <p:cNvPicPr/>
          <p:nvPr/>
        </p:nvPicPr>
        <p:blipFill>
          <a:blip r:embed="rId3"/>
          <a:stretch/>
        </p:blipFill>
        <p:spPr>
          <a:xfrm>
            <a:off x="7072200" y="285840"/>
            <a:ext cx="15382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Содержимое 3" descr="6.jpg"/>
          <p:cNvPicPr/>
          <p:nvPr/>
        </p:nvPicPr>
        <p:blipFill>
          <a:blip r:embed="rId2"/>
          <a:stretch/>
        </p:blipFill>
        <p:spPr>
          <a:xfrm>
            <a:off x="250920" y="190440"/>
            <a:ext cx="86421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3" descr="7-2.jpg"/>
          <p:cNvPicPr/>
          <p:nvPr/>
        </p:nvPicPr>
        <p:blipFill>
          <a:blip r:embed="rId2"/>
          <a:stretch/>
        </p:blipFill>
        <p:spPr>
          <a:xfrm>
            <a:off x="179280" y="190440"/>
            <a:ext cx="87138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Содержимое 3" descr="9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4:37:44Z</dcterms:created>
  <dc:creator>Di Jd</dc:creator>
  <dc:description/>
  <dc:language>en-US</dc:language>
  <cp:lastModifiedBy>Admin</cp:lastModifiedBy>
  <dcterms:modified xsi:type="dcterms:W3CDTF">2019-10-30T12:57:21Z</dcterms:modified>
  <cp:revision>23</cp:revision>
  <dc:subject/>
  <dc:title>Презентация PowerPoint</dc:title>
</cp:coreProperties>
</file>