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29.jpeg" ContentType="image/jpeg"/>
  <Override PartName="/ppt/media/image8.jpeg" ContentType="image/jpeg"/>
  <Override PartName="/ppt/media/image38.png" ContentType="image/png"/>
  <Override PartName="/ppt/media/image40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43.jpeg" ContentType="image/jpeg"/>
  <Override PartName="/ppt/media/image5.png" ContentType="image/png"/>
  <Override PartName="/ppt/media/image35.png" ContentType="image/png"/>
  <Override PartName="/ppt/media/image36.png" ContentType="image/png"/>
  <Override PartName="/ppt/media/image41.jpeg" ContentType="image/jpeg"/>
  <Override PartName="/ppt/media/image45.jpeg" ContentType="image/jpeg"/>
  <Override PartName="/ppt/media/image37.png" ContentType="image/png"/>
  <Override PartName="/ppt/media/image44.jpeg" ContentType="image/jpeg"/>
  <Override PartName="/ppt/media/image13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CBDC8-4EF4-4FB8-AE83-1FA76BE95C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2263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822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6840" y="4506480"/>
            <a:ext cx="822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9043B-FA91-4B5C-B261-37F77421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2263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4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2440" y="2249280"/>
            <a:ext cx="4014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6840" y="4506480"/>
            <a:ext cx="4014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2440" y="4506480"/>
            <a:ext cx="4014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F7FB0-38E3-4D3F-9CE3-C7267912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2263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26485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8200" y="2249280"/>
            <a:ext cx="26485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19560" y="2249280"/>
            <a:ext cx="26485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6840" y="4506480"/>
            <a:ext cx="26485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8200" y="4506480"/>
            <a:ext cx="26485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19560" y="4506480"/>
            <a:ext cx="26485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4D8A5-3895-45A6-BE01-CAB4D4A1F3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EE746-47DB-4970-BF3C-8066DC6067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2263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2249280"/>
            <a:ext cx="82263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A2DF7-6137-4625-95DC-00C5B5CB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2263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822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8B99C-4219-40C3-BA53-3D01A01B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2263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4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2249280"/>
            <a:ext cx="4014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4BCDD-A6F1-47CB-AB43-46A5BAF1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2263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753A4-9312-425F-AAC5-3AC7F678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22636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A4799-A4A6-4487-8241-19E8ED9F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2263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4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2249280"/>
            <a:ext cx="4014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506480"/>
            <a:ext cx="4014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8A295-84D4-4FA3-BAEB-64B7F7C7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2263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6840" y="2249280"/>
            <a:ext cx="82263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24A4C-C175-47D1-B91E-26F04A06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2263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4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440" y="2249280"/>
            <a:ext cx="4014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2440" y="4506480"/>
            <a:ext cx="4014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1ECD2-300D-40FD-927C-9A141A7A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2263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4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2249280"/>
            <a:ext cx="4014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506480"/>
            <a:ext cx="822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77572-FF2E-430D-BB99-5A20030C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2263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822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4506480"/>
            <a:ext cx="822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C00FD-6830-43E3-AFEF-ED5B515C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2263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4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2440" y="2249280"/>
            <a:ext cx="4014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506480"/>
            <a:ext cx="4014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2440" y="4506480"/>
            <a:ext cx="4014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5BEB9-DC31-417D-8CFC-D7DD8E76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2263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26485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8200" y="2249280"/>
            <a:ext cx="26485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19560" y="2249280"/>
            <a:ext cx="26485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4506480"/>
            <a:ext cx="26485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8200" y="4506480"/>
            <a:ext cx="26485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19560" y="4506480"/>
            <a:ext cx="26485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DFB84-1E8C-49AA-B20A-AB7836828D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2263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822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A45D8-4C29-49DE-B164-F97BF537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2263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4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2249280"/>
            <a:ext cx="4014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0049E-BF97-46A9-8C3F-EEB60D80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2263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C5251-7C7B-4E2D-BF49-060B2714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22636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A491D-65BA-430C-BFCB-79444C41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2263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4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2249280"/>
            <a:ext cx="4014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506480"/>
            <a:ext cx="4014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7D339-5BCF-4168-AD88-5D4B633B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2263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4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2249280"/>
            <a:ext cx="4014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2440" y="4506480"/>
            <a:ext cx="4014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59ECA-CC20-4924-A45E-BA7CA0E0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2263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4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440" y="2249280"/>
            <a:ext cx="4014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506480"/>
            <a:ext cx="822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807C0-C355-4E65-895C-32797B37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 flipV="1">
            <a:off x="5410080" y="43704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7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Rectangle 13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2263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6840" y="2249280"/>
            <a:ext cx="822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560" y="612360"/>
            <a:ext cx="9540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Text Box 17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2"/>
          </p:nvPr>
        </p:nvSpPr>
        <p:spPr>
          <a:xfrm>
            <a:off x="8174160" y="1440"/>
            <a:ext cx="7588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7F3CD6-2F2D-4C24-B8D3-76F7DD76AE56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43EBAC-4A0B-4EF4-A559-446F1352CE57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jpeg"/><Relationship Id="rId10" Type="http://schemas.openxmlformats.org/officeDocument/2006/relationships/image" Target="../media/image42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2"/>
          <a:stretch/>
        </p:blipFill>
        <p:spPr>
          <a:xfrm>
            <a:off x="0" y="1557360"/>
            <a:ext cx="4081320" cy="5300640"/>
          </a:xfrm>
          <a:prstGeom prst="rect">
            <a:avLst/>
          </a:prstGeom>
          <a:ln w="0">
            <a:noFill/>
          </a:ln>
        </p:spPr>
      </p:pic>
      <p:pic>
        <p:nvPicPr>
          <p:cNvPr id="96" name="Песня юных мичуринцев  (audiopoisk.com)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Мой фильм.mp4" descr=""/>
          <p:cNvPicPr/>
          <p:nvPr/>
        </p:nvPicPr>
        <p:blipFill>
          <a:blip r:embed="rId1"/>
          <a:stretch/>
        </p:blipFill>
        <p:spPr>
          <a:xfrm>
            <a:off x="287280" y="549360"/>
            <a:ext cx="8423280" cy="57862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"/>
          <p:cNvSpPr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0" y="62064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54000"/>
                <a:tab algn="l" pos="5014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3560"/>
                </a:solidFill>
                <a:latin typeface="Trebuchet MS"/>
              </a:rPr>
              <a:t>Приви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250920" y="1989000"/>
            <a:ext cx="856908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Georgia"/>
                <a:ea typeface="Arial"/>
              </a:rPr>
              <a:t>Подвой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  <a:ea typeface="Arial"/>
              </a:rPr>
              <a:t> – растение, на которое прививаю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Georgia"/>
                <a:ea typeface="Arial"/>
              </a:rPr>
              <a:t>Привой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  <a:ea typeface="Arial"/>
              </a:rPr>
              <a:t> – часть растения, которую прививаю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539640" y="549360"/>
            <a:ext cx="8229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54000"/>
                <a:tab algn="l" pos="5014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Размножение клубня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0" y="1646280"/>
            <a:ext cx="4859280" cy="25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А на клубнях много глаз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И они пока закрыт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А откроются глаз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Когда землёй будут прикры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5219640" y="3284640"/>
            <a:ext cx="3522600" cy="2641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0" y="431964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0" y="476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54000"/>
                <a:tab algn="l" pos="5014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3560"/>
                </a:solidFill>
                <a:latin typeface="Trebuchet MS"/>
              </a:rPr>
              <a:t>Заряд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2425680" y="431640"/>
            <a:ext cx="8229600" cy="43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Мы растения дели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И немного утомилис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Надо нам чуть-чуть размяться 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И за дело снова бра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0" y="47628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54000"/>
                <a:tab algn="l" pos="5014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Размножение листовыми черенка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0" y="1646280"/>
            <a:ext cx="493236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Разберётся новичо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Целый куст даёт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  <a:ea typeface="Arial"/>
              </a:rPr>
              <a:t>листо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Срежь листок и поса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Новый кустик вперед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849840" cy="2519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0" y="4221000"/>
            <a:ext cx="3257640" cy="2637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3"/>
          <a:stretch/>
        </p:blipFill>
        <p:spPr>
          <a:xfrm>
            <a:off x="3203640" y="4221000"/>
            <a:ext cx="3413160" cy="26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0" y="47628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54000"/>
                <a:tab algn="l" pos="5014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Размножение луковица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0" y="1646280"/>
            <a:ext cx="5003640" cy="25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Они из долек состоя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Какие дружные семейк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И друг за друга постоя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Попробуй-ка разбей-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5543640" y="4437000"/>
            <a:ext cx="3600360" cy="2421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0" y="477828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3"/>
          <a:stretch/>
        </p:blipFill>
        <p:spPr>
          <a:xfrm>
            <a:off x="2771640" y="4653000"/>
            <a:ext cx="273708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0" y="47628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54000"/>
                <a:tab algn="l" pos="5014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Размножение выводковыми почка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08000" y="1646280"/>
            <a:ext cx="489564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  <a:ea typeface="Arial"/>
              </a:rPr>
              <a:t>Сидели, словно в клетке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  <a:ea typeface="Arial"/>
              </a:rPr>
              <a:t>На маме эти детк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  <a:ea typeface="Arial"/>
              </a:rPr>
              <a:t>Вот это детки экстремалы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  <a:ea typeface="Arial"/>
              </a:rPr>
              <a:t>Прыжки, полёты - всё им мал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651640" y="4076640"/>
            <a:ext cx="3492360" cy="2781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0" y="4076640"/>
            <a:ext cx="2203560" cy="2781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3"/>
          <a:stretch/>
        </p:blipFill>
        <p:spPr>
          <a:xfrm>
            <a:off x="2195640" y="4076640"/>
            <a:ext cx="345600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468360" y="476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54000"/>
                <a:tab algn="l" pos="5014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3560"/>
                </a:solidFill>
                <a:latin typeface="Trebuchet MS"/>
              </a:rPr>
              <a:t>Модуль; задание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179280" y="1413000"/>
            <a:ext cx="878544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Следующий способ вегетативного размножения вы изучите сами, пользуясь учебником. С. 93-94, последний абзац, этот способ называется </a:t>
            </a:r>
            <a:r>
              <a:rPr b="0" lang="ru-RU" sz="2800" spc="-1" strike="noStrike" u="sng">
                <a:solidFill>
                  <a:srgbClr val="c00000"/>
                </a:solidFill>
                <a:uFillTx/>
                <a:latin typeface="Georgia"/>
                <a:ea typeface="Arial"/>
              </a:rPr>
              <a:t>культура тканей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Ответьте на вопрос: 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«Данный способ размножения растений очень трудоёмкий и дорогостоящий.  Для размножения каких растений его использование будет оправдано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324000" y="55166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54000"/>
                <a:tab algn="l" pos="5014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Кедр, гинкго, ель, декоративные раст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45720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54000"/>
                <a:tab algn="l" pos="5014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3560"/>
                </a:solidFill>
                <a:latin typeface="Trebuchet MS"/>
              </a:rPr>
              <a:t>Модуль; задание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2249640"/>
            <a:ext cx="91440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В кластер (схема задания 1.) прикрепите картинки, иллюстрирующие тот, или иной способ вегетативного размнож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059280" y="476280"/>
            <a:ext cx="2808000" cy="10080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cap="sq"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ПОСОБЫ ВЕГЕТАТИВНОГО РАЗМН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0" y="836640"/>
            <a:ext cx="1979640" cy="863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cap="sq"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ТЕБЛЕВЫМИ ЧЕРЕНК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1908000" y="1700280"/>
            <a:ext cx="1800360" cy="86508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cap="sq"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ОТВОДК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0" y="3500280"/>
            <a:ext cx="1908000" cy="8654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cap="sq"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ЛИСТОВЫМИ ЧЕРЕНК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7164360" y="3429000"/>
            <a:ext cx="1979640" cy="863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cap="sq"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ПРИВИВК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3780000" y="4365720"/>
            <a:ext cx="1800000" cy="863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cap="sq"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ВЫВОДК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ВЫМИ ПОЧК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5651640" y="4365720"/>
            <a:ext cx="1800000" cy="863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cap="sq"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КУЛЬТУРОЙ ТКА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1908000" y="4365720"/>
            <a:ext cx="1800360" cy="863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cap="sq"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ЛУКОВИ-Ц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7451640" y="907920"/>
            <a:ext cx="1692360" cy="8654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cap="sq"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КЛУБН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3780000" y="1700280"/>
            <a:ext cx="1368360" cy="86508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cap="sq"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УС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292720" y="1700280"/>
            <a:ext cx="2158920" cy="86508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cap="sq"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КОРНЕВИЩ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12" descr=""/>
          <p:cNvPicPr/>
          <p:nvPr/>
        </p:nvPicPr>
        <p:blipFill>
          <a:blip r:embed="rId1"/>
          <a:stretch/>
        </p:blipFill>
        <p:spPr>
          <a:xfrm>
            <a:off x="108000" y="1700280"/>
            <a:ext cx="1619280" cy="1224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"/>
          <p:cNvPicPr/>
          <p:nvPr/>
        </p:nvPicPr>
        <p:blipFill>
          <a:blip r:embed="rId2"/>
          <a:stretch/>
        </p:blipFill>
        <p:spPr>
          <a:xfrm>
            <a:off x="2050920" y="2565360"/>
            <a:ext cx="1584360" cy="1079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4" descr=""/>
          <p:cNvPicPr/>
          <p:nvPr/>
        </p:nvPicPr>
        <p:blipFill>
          <a:blip r:embed="rId3"/>
          <a:stretch/>
        </p:blipFill>
        <p:spPr>
          <a:xfrm>
            <a:off x="3708360" y="2565360"/>
            <a:ext cx="1584360" cy="1079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" descr=""/>
          <p:cNvPicPr/>
          <p:nvPr/>
        </p:nvPicPr>
        <p:blipFill>
          <a:blip r:embed="rId4"/>
          <a:stretch/>
        </p:blipFill>
        <p:spPr>
          <a:xfrm>
            <a:off x="5580000" y="2565360"/>
            <a:ext cx="1584360" cy="100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6" descr=""/>
          <p:cNvPicPr/>
          <p:nvPr/>
        </p:nvPicPr>
        <p:blipFill>
          <a:blip r:embed="rId5"/>
          <a:stretch/>
        </p:blipFill>
        <p:spPr>
          <a:xfrm>
            <a:off x="7524720" y="1773360"/>
            <a:ext cx="1474920" cy="1295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7" descr=""/>
          <p:cNvPicPr/>
          <p:nvPr/>
        </p:nvPicPr>
        <p:blipFill>
          <a:blip r:embed="rId6"/>
          <a:stretch/>
        </p:blipFill>
        <p:spPr>
          <a:xfrm>
            <a:off x="108000" y="4508640"/>
            <a:ext cx="1511280" cy="1368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8" descr=""/>
          <p:cNvPicPr/>
          <p:nvPr/>
        </p:nvPicPr>
        <p:blipFill>
          <a:blip r:embed="rId7"/>
          <a:stretch/>
        </p:blipFill>
        <p:spPr>
          <a:xfrm>
            <a:off x="2124000" y="5300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9" descr=""/>
          <p:cNvPicPr/>
          <p:nvPr/>
        </p:nvPicPr>
        <p:blipFill>
          <a:blip r:embed="rId8"/>
          <a:stretch/>
        </p:blipFill>
        <p:spPr>
          <a:xfrm>
            <a:off x="4284720" y="5229360"/>
            <a:ext cx="934920" cy="1439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0" descr=""/>
          <p:cNvPicPr/>
          <p:nvPr/>
        </p:nvPicPr>
        <p:blipFill>
          <a:blip r:embed="rId9"/>
          <a:stretch/>
        </p:blipFill>
        <p:spPr>
          <a:xfrm>
            <a:off x="5651640" y="5229360"/>
            <a:ext cx="1800000" cy="1295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1" descr=""/>
          <p:cNvPicPr/>
          <p:nvPr/>
        </p:nvPicPr>
        <p:blipFill>
          <a:blip r:embed="rId10"/>
          <a:stretch/>
        </p:blipFill>
        <p:spPr>
          <a:xfrm>
            <a:off x="7740720" y="4437000"/>
            <a:ext cx="129528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46836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54000"/>
                <a:tab algn="l" pos="5014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3560"/>
                </a:solidFill>
                <a:latin typeface="Trebuchet MS"/>
              </a:rPr>
              <a:t>Модуль; задание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30280" y="1547640"/>
            <a:ext cx="8253360" cy="3524400"/>
          </a:xfrm>
          <a:prstGeom prst="rect">
            <a:avLst/>
          </a:prstGeom>
          <a:ln w="0">
            <a:noFill/>
          </a:ln>
        </p:spPr>
      </p:pic>
      <p:cxnSp>
        <p:nvCxnSpPr>
          <p:cNvPr id="99" name="AutoShape 3"/>
          <p:cNvCxnSpPr/>
          <p:nvPr/>
        </p:nvCxnSpPr>
        <p:spPr>
          <a:xfrm flipH="1">
            <a:off x="1258920" y="4652640"/>
            <a:ext cx="2449800" cy="1081800"/>
          </a:xfrm>
          <a:prstGeom prst="straightConnector1">
            <a:avLst/>
          </a:prstGeom>
          <a:ln cap="sq" w="2844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100" name="AutoShape 4"/>
          <p:cNvCxnSpPr/>
          <p:nvPr/>
        </p:nvCxnSpPr>
        <p:spPr>
          <a:xfrm flipH="1">
            <a:off x="1402920" y="4723920"/>
            <a:ext cx="2305440" cy="1585080"/>
          </a:xfrm>
          <a:prstGeom prst="straightConnector1">
            <a:avLst/>
          </a:prstGeom>
          <a:ln cap="sq" w="31680">
            <a:solidFill>
              <a:srgbClr val="53548a"/>
            </a:solidFill>
            <a:miter/>
            <a:tailEnd len="med" type="triangle" w="med"/>
          </a:ln>
        </p:spPr>
      </p:cxnSp>
      <p:cxnSp>
        <p:nvCxnSpPr>
          <p:cNvPr id="101" name="AutoShape 5"/>
          <p:cNvCxnSpPr/>
          <p:nvPr/>
        </p:nvCxnSpPr>
        <p:spPr>
          <a:xfrm flipH="1">
            <a:off x="2626920" y="4625640"/>
            <a:ext cx="1153440" cy="2043720"/>
          </a:xfrm>
          <a:prstGeom prst="straightConnector1">
            <a:avLst/>
          </a:prstGeom>
          <a:ln cap="sq" w="2844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102" name="AutoShape 6"/>
          <p:cNvCxnSpPr/>
          <p:nvPr/>
        </p:nvCxnSpPr>
        <p:spPr>
          <a:xfrm>
            <a:off x="4067280" y="4653000"/>
            <a:ext cx="2160" cy="2016720"/>
          </a:xfrm>
          <a:prstGeom prst="straightConnector1">
            <a:avLst/>
          </a:prstGeom>
          <a:ln cap="sq" w="2844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103" name="AutoShape 7"/>
          <p:cNvCxnSpPr/>
          <p:nvPr/>
        </p:nvCxnSpPr>
        <p:spPr>
          <a:xfrm>
            <a:off x="4642920" y="4653000"/>
            <a:ext cx="3960" cy="2016720"/>
          </a:xfrm>
          <a:prstGeom prst="straightConnector1">
            <a:avLst/>
          </a:prstGeom>
          <a:ln cap="sq" w="2844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104" name="AutoShape 8"/>
          <p:cNvCxnSpPr/>
          <p:nvPr/>
        </p:nvCxnSpPr>
        <p:spPr>
          <a:xfrm>
            <a:off x="5219280" y="4653000"/>
            <a:ext cx="3960" cy="2016720"/>
          </a:xfrm>
          <a:prstGeom prst="straightConnector1">
            <a:avLst/>
          </a:prstGeom>
          <a:ln cap="sq" w="2844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105" name="AutoShape 9"/>
          <p:cNvCxnSpPr/>
          <p:nvPr/>
        </p:nvCxnSpPr>
        <p:spPr>
          <a:xfrm>
            <a:off x="5866920" y="4724280"/>
            <a:ext cx="73800" cy="1945440"/>
          </a:xfrm>
          <a:prstGeom prst="straightConnector1">
            <a:avLst/>
          </a:prstGeom>
          <a:ln cap="sq" w="2844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106" name="AutoShape 10"/>
          <p:cNvCxnSpPr/>
          <p:nvPr/>
        </p:nvCxnSpPr>
        <p:spPr>
          <a:xfrm>
            <a:off x="6372360" y="4653000"/>
            <a:ext cx="792720" cy="1900800"/>
          </a:xfrm>
          <a:prstGeom prst="straightConnector1">
            <a:avLst/>
          </a:prstGeom>
          <a:ln cap="sq" w="2844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107" name="AutoShape 11"/>
          <p:cNvCxnSpPr/>
          <p:nvPr/>
        </p:nvCxnSpPr>
        <p:spPr>
          <a:xfrm>
            <a:off x="6372360" y="4652640"/>
            <a:ext cx="2232720" cy="1802520"/>
          </a:xfrm>
          <a:prstGeom prst="straightConnector1">
            <a:avLst/>
          </a:prstGeom>
          <a:ln cap="sq" w="2844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108" name="AutoShape 12"/>
          <p:cNvCxnSpPr/>
          <p:nvPr/>
        </p:nvCxnSpPr>
        <p:spPr>
          <a:xfrm>
            <a:off x="6372000" y="4652640"/>
            <a:ext cx="2377080" cy="1152720"/>
          </a:xfrm>
          <a:prstGeom prst="straightConnector1">
            <a:avLst/>
          </a:prstGeom>
          <a:ln cap="sq" w="28440">
            <a:solidFill>
              <a:srgbClr val="53548a"/>
            </a:solidFill>
            <a:miter/>
            <a:tailEnd len="med" type="arrow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45720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54000"/>
                <a:tab algn="l" pos="5014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3560"/>
                </a:solidFill>
                <a:latin typeface="Trebuchet MS"/>
              </a:rPr>
              <a:t>Практическое зад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2249640"/>
            <a:ext cx="86868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учитесь размножать растения при помощи листовых черен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0" y="47628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54000"/>
                <a:tab algn="l" pos="5014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3560"/>
                </a:solidFill>
                <a:latin typeface="Trebuchet MS"/>
              </a:rPr>
              <a:t>Цел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0" y="16462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00000"/>
              </a:lnSpc>
              <a:buClr>
                <a:srgbClr val="a04da3"/>
              </a:buClr>
              <a:buFont typeface="Wingdings 2" charset="2"/>
              <a:buChar char="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учить основные способы вегетативного размно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0" y="321300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53548a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аучиться применять способы вегетанивного размножения на практ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0" y="4508640"/>
            <a:ext cx="896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53548a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знать значение вегетативного размнож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0" y="47628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54000"/>
                <a:tab algn="l" pos="5014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03560"/>
                </a:solidFill>
                <a:latin typeface="Trebuchet MS"/>
              </a:rPr>
              <a:t>Значение вегетативного размнож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Растения быстрее развиваются, чем при семенном размнож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Это способ расселения растений по террито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Человек часто использует этот вид размножения в сельском хозяйст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457200" y="254160"/>
            <a:ext cx="822960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54000"/>
                <a:tab algn="l" pos="5014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3560"/>
                </a:solidFill>
                <a:latin typeface="Trebuchet MS"/>
              </a:rPr>
              <a:t>Оцени себ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08000" y="1197000"/>
          <a:ext cx="9037440" cy="5410080"/>
        </p:xfrm>
        <a:graphic>
          <a:graphicData uri="http://schemas.openxmlformats.org/drawingml/2006/table">
            <a:tbl>
              <a:tblPr/>
              <a:tblGrid>
                <a:gridCol w="1322280"/>
                <a:gridCol w="1909800"/>
                <a:gridCol w="5805360"/>
              </a:tblGrid>
              <a:tr h="947880"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Бал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Отметка за уро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Рекоменд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792000"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7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Ура! Ты молодец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373040"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5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Очень неплохо! Повтори тему: «Размножение растений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2297160"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Не унывай! У тебя все получится! Внимательно прочитай параграфы 16-17  и ответь на вопросы по теме: «Размножение растений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Рефлекс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267920"/>
            <a:ext cx="8226360" cy="53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Я узнал…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не понравилось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не не понравилось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0" y="476280"/>
            <a:ext cx="8697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54000"/>
                <a:tab algn="l" pos="5014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3560"/>
                </a:solidFill>
                <a:latin typeface="Trebuchet MS"/>
              </a:rPr>
              <a:t>Домашнее зад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0" y="1628640"/>
            <a:ext cx="9144000" cy="49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араграф 17, ответить на вопросы после параграфа. Внимательно изучить модул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0" y="4581360"/>
            <a:ext cx="41036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Урок понравился, кое-что осталось непонятны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071880" cy="2304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3408480" cy="22939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4716360" y="4581360"/>
            <a:ext cx="4427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424456"/>
                </a:solidFill>
                <a:latin typeface="Trebuchet MS"/>
              </a:rPr>
              <a:t>Урок понравился, всё было понятно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0" y="54936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424456"/>
                </a:solidFill>
                <a:latin typeface="Trebuchet MS"/>
              </a:rPr>
              <a:t>Рефлекс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Благодарю за 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До новых встреч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46836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54000"/>
                <a:tab algn="l" pos="5014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3560"/>
                </a:solidFill>
                <a:latin typeface="Trebuchet MS"/>
              </a:rPr>
              <a:t>Модуль; задание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530280" y="1547640"/>
            <a:ext cx="8253360" cy="3524400"/>
          </a:xfrm>
          <a:prstGeom prst="rect">
            <a:avLst/>
          </a:prstGeom>
          <a:ln w="0">
            <a:noFill/>
          </a:ln>
        </p:spPr>
      </p:pic>
      <p:cxnSp>
        <p:nvCxnSpPr>
          <p:cNvPr id="111" name="AutoShape 3"/>
          <p:cNvCxnSpPr/>
          <p:nvPr/>
        </p:nvCxnSpPr>
        <p:spPr>
          <a:xfrm flipH="1">
            <a:off x="1258920" y="4652640"/>
            <a:ext cx="2449800" cy="1081800"/>
          </a:xfrm>
          <a:prstGeom prst="straightConnector1">
            <a:avLst/>
          </a:prstGeom>
          <a:ln cap="sq" w="2844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112" name="AutoShape 4"/>
          <p:cNvCxnSpPr/>
          <p:nvPr/>
        </p:nvCxnSpPr>
        <p:spPr>
          <a:xfrm flipH="1">
            <a:off x="1402920" y="4723920"/>
            <a:ext cx="2305440" cy="1585080"/>
          </a:xfrm>
          <a:prstGeom prst="straightConnector1">
            <a:avLst/>
          </a:prstGeom>
          <a:ln cap="sq" w="31680">
            <a:solidFill>
              <a:srgbClr val="53548a"/>
            </a:solidFill>
            <a:miter/>
            <a:tailEnd len="med" type="triangle" w="med"/>
          </a:ln>
        </p:spPr>
      </p:cxnSp>
      <p:cxnSp>
        <p:nvCxnSpPr>
          <p:cNvPr id="113" name="AutoShape 5"/>
          <p:cNvCxnSpPr/>
          <p:nvPr/>
        </p:nvCxnSpPr>
        <p:spPr>
          <a:xfrm flipH="1">
            <a:off x="2626920" y="4625640"/>
            <a:ext cx="1153440" cy="2043720"/>
          </a:xfrm>
          <a:prstGeom prst="straightConnector1">
            <a:avLst/>
          </a:prstGeom>
          <a:ln cap="sq" w="2844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114" name="AutoShape 6"/>
          <p:cNvCxnSpPr/>
          <p:nvPr/>
        </p:nvCxnSpPr>
        <p:spPr>
          <a:xfrm>
            <a:off x="4067280" y="4653000"/>
            <a:ext cx="2160" cy="2016720"/>
          </a:xfrm>
          <a:prstGeom prst="straightConnector1">
            <a:avLst/>
          </a:prstGeom>
          <a:ln cap="sq" w="2844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115" name="AutoShape 7"/>
          <p:cNvCxnSpPr/>
          <p:nvPr/>
        </p:nvCxnSpPr>
        <p:spPr>
          <a:xfrm>
            <a:off x="4642920" y="4653000"/>
            <a:ext cx="3960" cy="2016720"/>
          </a:xfrm>
          <a:prstGeom prst="straightConnector1">
            <a:avLst/>
          </a:prstGeom>
          <a:ln cap="sq" w="2844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116" name="AutoShape 8"/>
          <p:cNvCxnSpPr/>
          <p:nvPr/>
        </p:nvCxnSpPr>
        <p:spPr>
          <a:xfrm>
            <a:off x="5219280" y="4653000"/>
            <a:ext cx="3960" cy="2016720"/>
          </a:xfrm>
          <a:prstGeom prst="straightConnector1">
            <a:avLst/>
          </a:prstGeom>
          <a:ln cap="sq" w="2844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117" name="AutoShape 9"/>
          <p:cNvCxnSpPr/>
          <p:nvPr/>
        </p:nvCxnSpPr>
        <p:spPr>
          <a:xfrm>
            <a:off x="5866920" y="4724280"/>
            <a:ext cx="73800" cy="1945440"/>
          </a:xfrm>
          <a:prstGeom prst="straightConnector1">
            <a:avLst/>
          </a:prstGeom>
          <a:ln cap="sq" w="2844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118" name="AutoShape 10"/>
          <p:cNvCxnSpPr/>
          <p:nvPr/>
        </p:nvCxnSpPr>
        <p:spPr>
          <a:xfrm>
            <a:off x="6372360" y="4653000"/>
            <a:ext cx="792720" cy="1900800"/>
          </a:xfrm>
          <a:prstGeom prst="straightConnector1">
            <a:avLst/>
          </a:prstGeom>
          <a:ln cap="sq" w="2844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119" name="AutoShape 11"/>
          <p:cNvCxnSpPr/>
          <p:nvPr/>
        </p:nvCxnSpPr>
        <p:spPr>
          <a:xfrm>
            <a:off x="6372360" y="4652640"/>
            <a:ext cx="2232720" cy="1802520"/>
          </a:xfrm>
          <a:prstGeom prst="straightConnector1">
            <a:avLst/>
          </a:prstGeom>
          <a:ln cap="sq" w="2844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120" name="AutoShape 12"/>
          <p:cNvCxnSpPr/>
          <p:nvPr/>
        </p:nvCxnSpPr>
        <p:spPr>
          <a:xfrm>
            <a:off x="6372000" y="4652640"/>
            <a:ext cx="2377080" cy="1152720"/>
          </a:xfrm>
          <a:prstGeom prst="straightConnector1">
            <a:avLst/>
          </a:prstGeom>
          <a:ln cap="sq" w="28440">
            <a:solidFill>
              <a:srgbClr val="53548a"/>
            </a:solidFill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468360" y="19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 algn="ctr">
              <a:lnSpc>
                <a:spcPct val="100000"/>
              </a:lnSpc>
              <a:tabLst>
                <a:tab algn="l" pos="0"/>
                <a:tab algn="l" pos="54000"/>
                <a:tab algn="l" pos="5014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303560"/>
                </a:solidFill>
                <a:latin typeface="Trebuchet MS"/>
              </a:rPr>
              <a:t>Способы вегетативного размножения растени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53964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54000"/>
                <a:tab algn="l" pos="5014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3560"/>
                </a:solidFill>
                <a:latin typeface="Trebuchet MS"/>
              </a:rPr>
              <a:t>Цел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0" y="234936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00000"/>
              </a:lnSpc>
              <a:buClr>
                <a:srgbClr val="a04da3"/>
              </a:buClr>
              <a:buFont typeface="Wingdings 2" charset="2"/>
              <a:buChar char="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учить основные способы вегетативного размно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0" y="3500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53548a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аучиться применять способы вегетативного размножения на практ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0" y="508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53548a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знать значение вегетативного размнож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0" y="549360"/>
            <a:ext cx="8769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54000"/>
                <a:tab algn="l" pos="5014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Размножение стеблевыми черенка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0" y="1989000"/>
            <a:ext cx="4259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Посмотри сюда дружо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Пред тобою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  <a:ea typeface="Arial"/>
              </a:rPr>
              <a:t>черено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Стебель, почки и листо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Так и просятся в горшо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297400" y="1341360"/>
            <a:ext cx="3451320" cy="4175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0" y="5378400"/>
            <a:ext cx="2079720" cy="1479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2050920" y="5373720"/>
            <a:ext cx="1944720" cy="1484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4"/>
          <a:stretch/>
        </p:blipFill>
        <p:spPr>
          <a:xfrm>
            <a:off x="3995640" y="5380200"/>
            <a:ext cx="2224080" cy="147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0" y="40464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54000"/>
                <a:tab algn="l" pos="5014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Размножение отводка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0" y="1700280"/>
            <a:ext cx="4284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Ветер ветку наклони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И о ветке позабыл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И на ветке, от тос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Появились кореш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4176720" cy="3397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3132000" y="4221000"/>
            <a:ext cx="2187720" cy="2637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3"/>
          <a:stretch/>
        </p:blipFill>
        <p:spPr>
          <a:xfrm>
            <a:off x="0" y="4192560"/>
            <a:ext cx="313200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0" y="62064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54000"/>
                <a:tab algn="l" pos="5014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Размножение уса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0" y="1646280"/>
            <a:ext cx="4932360" cy="25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Можешь трогать коль не трус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У  клубники длинный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  <a:ea typeface="Arial"/>
              </a:rPr>
              <a:t> ус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Ты розетки отрез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И клубнику размнож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5219640" y="1916280"/>
            <a:ext cx="3533760" cy="2990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0" y="4292640"/>
            <a:ext cx="2747880" cy="2565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3"/>
          <a:stretch/>
        </p:blipFill>
        <p:spPr>
          <a:xfrm>
            <a:off x="2700360" y="4292640"/>
            <a:ext cx="2232000" cy="25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0" y="620640"/>
            <a:ext cx="8769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54000"/>
                <a:tab algn="l" pos="5014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Размножение делением корневищ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0" y="1700280"/>
            <a:ext cx="3780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Что там, в земле за усищ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Да это имбиря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  <a:ea typeface="Arial"/>
              </a:rPr>
              <a:t>корневищ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643280" cy="3024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0" y="4734000"/>
            <a:ext cx="1476360" cy="2124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3"/>
          <a:stretch/>
        </p:blipFill>
        <p:spPr>
          <a:xfrm>
            <a:off x="1476360" y="4724280"/>
            <a:ext cx="1727280" cy="2133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4"/>
          <a:stretch/>
        </p:blipFill>
        <p:spPr>
          <a:xfrm>
            <a:off x="3203640" y="4745160"/>
            <a:ext cx="1584360" cy="211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7:46:25Z</dcterms:created>
  <dc:creator>Сергей</dc:creator>
  <dc:description/>
  <dc:language>en-US</dc:language>
  <cp:lastModifiedBy>Сергей</cp:lastModifiedBy>
  <dcterms:modified xsi:type="dcterms:W3CDTF">2015-02-26T18:52:19Z</dcterms:modified>
  <cp:revision>55</cp:revision>
  <dc:subject/>
  <dc:title>Слайд 1</dc:title>
</cp:coreProperties>
</file>