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7CBA-49BA-433E-A7ED-7228E6B5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BAEB-5DD0-45A8-8CD8-30DF2D01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EDB3-A41D-44BA-8FEC-EB1B44985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3442-21D6-4C30-BD10-D6B4E5882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7775-4730-4DDC-B202-491BDCD8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373C-6170-4F9E-B658-DE676538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56A6-9D49-4767-A7BB-45D638CA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6907-D3CB-4117-BE18-301DF090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E01C-9D60-474F-AD8E-26B8F8F9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E423-0161-4580-8AAC-D9B050E6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0965-3224-4303-A91C-786971B0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B452-7A31-46FF-9500-3E3EE3B5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145B-F481-4270-A4FC-DB880F548A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f7efc246cc9ee64732e40cc991731e8b_fu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5"/>
          <p:cNvSpPr/>
          <p:nvPr/>
        </p:nvSpPr>
        <p:spPr>
          <a:xfrm>
            <a:off x="9396360" y="189000"/>
            <a:ext cx="1150920" cy="1224000"/>
          </a:xfrm>
          <a:custGeom>
            <a:avLst/>
            <a:gdLst>
              <a:gd name="textAreaLeft" fmla="*/ 355680 w 1150920"/>
              <a:gd name="textAreaRight" fmla="*/ 795240 w 1150920"/>
              <a:gd name="textAreaTop" fmla="*/ 467640 h 1224000"/>
              <a:gd name="textAreaBottom" fmla="*/ 935280 h 1224000"/>
            </a:gdLst>
            <a:ahLst/>
            <a:rect l="textAreaLeft" t="textAreaTop" r="textAreaRight" b="textAreaBottom"/>
            <a:pathLst>
              <a:path w="1150937" h="1223962">
                <a:moveTo>
                  <a:pt x="1" y="467511"/>
                </a:moveTo>
                <a:lnTo>
                  <a:pt x="439621" y="467514"/>
                </a:lnTo>
                <a:lnTo>
                  <a:pt x="575469" y="0"/>
                </a:lnTo>
                <a:lnTo>
                  <a:pt x="711316" y="467514"/>
                </a:lnTo>
                <a:lnTo>
                  <a:pt x="1150936" y="467511"/>
                </a:lnTo>
                <a:lnTo>
                  <a:pt x="795274" y="756446"/>
                </a:lnTo>
                <a:lnTo>
                  <a:pt x="931128" y="1223958"/>
                </a:lnTo>
                <a:lnTo>
                  <a:pt x="575469" y="935017"/>
                </a:lnTo>
                <a:lnTo>
                  <a:pt x="219809" y="1223958"/>
                </a:lnTo>
                <a:lnTo>
                  <a:pt x="355663" y="756446"/>
                </a:lnTo>
                <a:close/>
              </a:path>
            </a:pathLst>
          </a:cu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0"/>
          <p:cNvSpPr/>
          <p:nvPr/>
        </p:nvSpPr>
        <p:spPr>
          <a:xfrm>
            <a:off x="9612360" y="5300640"/>
            <a:ext cx="1150920" cy="1224000"/>
          </a:xfrm>
          <a:custGeom>
            <a:avLst/>
            <a:gdLst>
              <a:gd name="textAreaLeft" fmla="*/ 355680 w 1150920"/>
              <a:gd name="textAreaRight" fmla="*/ 795240 w 1150920"/>
              <a:gd name="textAreaTop" fmla="*/ 467640 h 1224000"/>
              <a:gd name="textAreaBottom" fmla="*/ 935280 h 1224000"/>
            </a:gdLst>
            <a:ahLst/>
            <a:rect l="textAreaLeft" t="textAreaTop" r="textAreaRight" b="textAreaBottom"/>
            <a:pathLst>
              <a:path w="1150937" h="1223962">
                <a:moveTo>
                  <a:pt x="1" y="467511"/>
                </a:moveTo>
                <a:lnTo>
                  <a:pt x="439621" y="467514"/>
                </a:lnTo>
                <a:lnTo>
                  <a:pt x="575469" y="0"/>
                </a:lnTo>
                <a:lnTo>
                  <a:pt x="711316" y="467514"/>
                </a:lnTo>
                <a:lnTo>
                  <a:pt x="1150936" y="467511"/>
                </a:lnTo>
                <a:lnTo>
                  <a:pt x="795274" y="756446"/>
                </a:lnTo>
                <a:lnTo>
                  <a:pt x="931128" y="1223958"/>
                </a:lnTo>
                <a:lnTo>
                  <a:pt x="575469" y="935017"/>
                </a:lnTo>
                <a:lnTo>
                  <a:pt x="219809" y="1223958"/>
                </a:lnTo>
                <a:lnTo>
                  <a:pt x="355663" y="756446"/>
                </a:lnTo>
                <a:close/>
              </a:path>
            </a:pathLst>
          </a:cu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1"/>
          <p:cNvSpPr/>
          <p:nvPr/>
        </p:nvSpPr>
        <p:spPr>
          <a:xfrm>
            <a:off x="9612360" y="4221000"/>
            <a:ext cx="1150920" cy="1224000"/>
          </a:xfrm>
          <a:custGeom>
            <a:avLst/>
            <a:gdLst>
              <a:gd name="textAreaLeft" fmla="*/ 355680 w 1150920"/>
              <a:gd name="textAreaRight" fmla="*/ 795240 w 1150920"/>
              <a:gd name="textAreaTop" fmla="*/ 467640 h 1224000"/>
              <a:gd name="textAreaBottom" fmla="*/ 935280 h 1224000"/>
            </a:gdLst>
            <a:ahLst/>
            <a:rect l="textAreaLeft" t="textAreaTop" r="textAreaRight" b="textAreaBottom"/>
            <a:pathLst>
              <a:path w="1150937" h="1223962">
                <a:moveTo>
                  <a:pt x="1" y="467511"/>
                </a:moveTo>
                <a:lnTo>
                  <a:pt x="439621" y="467514"/>
                </a:lnTo>
                <a:lnTo>
                  <a:pt x="575469" y="0"/>
                </a:lnTo>
                <a:lnTo>
                  <a:pt x="711316" y="467514"/>
                </a:lnTo>
                <a:lnTo>
                  <a:pt x="1150936" y="467511"/>
                </a:lnTo>
                <a:lnTo>
                  <a:pt x="795274" y="756446"/>
                </a:lnTo>
                <a:lnTo>
                  <a:pt x="931128" y="1223958"/>
                </a:lnTo>
                <a:lnTo>
                  <a:pt x="575469" y="935017"/>
                </a:lnTo>
                <a:lnTo>
                  <a:pt x="219809" y="1223958"/>
                </a:lnTo>
                <a:lnTo>
                  <a:pt x="355663" y="756446"/>
                </a:lnTo>
                <a:close/>
              </a:path>
            </a:pathLst>
          </a:cu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2"/>
          <p:cNvSpPr/>
          <p:nvPr/>
        </p:nvSpPr>
        <p:spPr>
          <a:xfrm>
            <a:off x="9396360" y="1484280"/>
            <a:ext cx="1150920" cy="1224000"/>
          </a:xfrm>
          <a:custGeom>
            <a:avLst/>
            <a:gdLst>
              <a:gd name="textAreaLeft" fmla="*/ 355680 w 1150920"/>
              <a:gd name="textAreaRight" fmla="*/ 795240 w 1150920"/>
              <a:gd name="textAreaTop" fmla="*/ 467640 h 1224000"/>
              <a:gd name="textAreaBottom" fmla="*/ 935280 h 1224000"/>
            </a:gdLst>
            <a:ahLst/>
            <a:rect l="textAreaLeft" t="textAreaTop" r="textAreaRight" b="textAreaBottom"/>
            <a:pathLst>
              <a:path w="1150937" h="1223962">
                <a:moveTo>
                  <a:pt x="1" y="467511"/>
                </a:moveTo>
                <a:lnTo>
                  <a:pt x="439621" y="467514"/>
                </a:lnTo>
                <a:lnTo>
                  <a:pt x="575469" y="0"/>
                </a:lnTo>
                <a:lnTo>
                  <a:pt x="711316" y="467514"/>
                </a:lnTo>
                <a:lnTo>
                  <a:pt x="1150936" y="467511"/>
                </a:lnTo>
                <a:lnTo>
                  <a:pt x="795274" y="756446"/>
                </a:lnTo>
                <a:lnTo>
                  <a:pt x="931128" y="1223958"/>
                </a:lnTo>
                <a:lnTo>
                  <a:pt x="575469" y="935017"/>
                </a:lnTo>
                <a:lnTo>
                  <a:pt x="219809" y="1223958"/>
                </a:lnTo>
                <a:lnTo>
                  <a:pt x="355663" y="756446"/>
                </a:lnTo>
                <a:close/>
              </a:path>
            </a:pathLst>
          </a:cu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3"/>
          <p:cNvSpPr/>
          <p:nvPr/>
        </p:nvSpPr>
        <p:spPr>
          <a:xfrm>
            <a:off x="9468000" y="2852640"/>
            <a:ext cx="1150920" cy="1224000"/>
          </a:xfrm>
          <a:custGeom>
            <a:avLst/>
            <a:gdLst>
              <a:gd name="textAreaLeft" fmla="*/ 355680 w 1150920"/>
              <a:gd name="textAreaRight" fmla="*/ 795240 w 1150920"/>
              <a:gd name="textAreaTop" fmla="*/ 467640 h 1224000"/>
              <a:gd name="textAreaBottom" fmla="*/ 935280 h 1224000"/>
            </a:gdLst>
            <a:ahLst/>
            <a:rect l="textAreaLeft" t="textAreaTop" r="textAreaRight" b="textAreaBottom"/>
            <a:pathLst>
              <a:path w="1150938" h="1223962">
                <a:moveTo>
                  <a:pt x="1" y="467511"/>
                </a:moveTo>
                <a:lnTo>
                  <a:pt x="439622" y="467514"/>
                </a:lnTo>
                <a:lnTo>
                  <a:pt x="575469" y="0"/>
                </a:lnTo>
                <a:lnTo>
                  <a:pt x="711316" y="467514"/>
                </a:lnTo>
                <a:lnTo>
                  <a:pt x="1150937" y="467511"/>
                </a:lnTo>
                <a:lnTo>
                  <a:pt x="795275" y="756446"/>
                </a:lnTo>
                <a:lnTo>
                  <a:pt x="931129" y="1223958"/>
                </a:lnTo>
                <a:lnTo>
                  <a:pt x="575469" y="935017"/>
                </a:lnTo>
                <a:lnTo>
                  <a:pt x="219809" y="1223958"/>
                </a:lnTo>
                <a:lnTo>
                  <a:pt x="355663" y="756446"/>
                </a:lnTo>
                <a:close/>
              </a:path>
            </a:pathLst>
          </a:cu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14"/>
          <p:cNvSpPr txBox="1"/>
          <p:nvPr/>
        </p:nvSpPr>
        <p:spPr>
          <a:xfrm rot="21246000">
            <a:off x="2340000" y="1915920"/>
            <a:ext cx="4991040" cy="23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Звездный час</a:t>
            </a:r>
            <a:endParaRPr b="0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45 0.32037 C -0.13281 0.5375 -0.17517 0.75463 -0.32014 0.79791 C -0.4651 0.8412 -0.84548 0.61898 -0.96076 0.57986 E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51 0.21736 C -0.23281 0.2831 -0.25052 0.34884 -0.27986 0.39398 C -0.3092 0.43912 -0.35069 0.46759 -0.3908 0.48773 C -0.4309 0.50787 -0.47014 0.51759 -0.52048 0.51481 C -0.57083 0.51203 -0.63889 0.49976 -0.6934 0.47152 C -0.74792 0.44328 -0.80573 0.40023 -0.84757 0.34537 C -0.88941 0.2905 -0.92795 0.17615 -0.94479 0.14189 E">
                                      <p:cBhvr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409 0.11574 C -0.25295 0.22824 -0.31163 0.34097 -0.37656 0.38241 C -0.44184 0.42385 -0.52378 0.38449 -0.58333 0.36435 C -0.64288 0.34398 -0.69461 0.32084 -0.73333 0.26158 C -0.77204 0.20232 -0.79878 0.09398 -0.81562 0.00926 C -0.83246 -0.07546 -0.83211 -0.2037 -0.83454 -0.24653 E">
                                      <p:cBhvr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712 0.03588 C -0.24861 0.08634 -0.28993 0.13704 -0.33142 0.15301 C -0.37291 0.16898 -0.42205 0.15185 -0.45573 0.13148 C -0.48941 0.11111 -0.50225 0.0794 -0.53403 0.03056 C -0.5658 -0.01829 -0.61962 -0.10023 -0.64618 -0.16227 C -0.67274 -0.22431 -0.68194 -0.2794 -0.69357 -0.34236 C -0.70521 -0.40532 -0.71093 -0.47292 -0.71649 -0.54051 E">
                                      <p:cBhvr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837 -0.00625 C -0.1651 0.03541 -0.19184 0.07731 -0.23298 0.06597 C -0.27413 0.05463 -0.34392 -0.00648 -0.38576 -0.07454 C -0.4276 -0.1426 -0.46163 -0.25718 -0.48437 -0.34306 C -0.50712 -0.42894 -0.51215 -0.52315 -0.52222 -0.59005 C -0.53229 -0.65695 -0.53871 -0.70093 -0.54514 -0.74491 E">
                                      <p:cBhvr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milkyway_garlick_big"/>
          <p:cNvPicPr/>
          <p:nvPr/>
        </p:nvPicPr>
        <p:blipFill>
          <a:blip r:embed="rId1"/>
          <a:stretch/>
        </p:blipFill>
        <p:spPr>
          <a:xfrm>
            <a:off x="0" y="0"/>
            <a:ext cx="10764720" cy="72388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468360" y="306864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«КОСМОНАВТИКА»</a:t>
            </a: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771640" y="76500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5508720" y="112536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2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0" y="2349360"/>
            <a:ext cx="56516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Третий тур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0.04746 L 0.49982 -0.04097 E">
                                      <p:cBhvr>
                                        <p:cTn id="358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Коллаж_17 лет_ Андреева Алина_ Полет в Космос"/>
          <p:cNvPicPr/>
          <p:nvPr/>
        </p:nvPicPr>
        <p:blipFill>
          <a:blip r:embed="rId1"/>
          <a:stretch/>
        </p:blipFill>
        <p:spPr>
          <a:xfrm>
            <a:off x="-1143000" y="-785880"/>
            <a:ext cx="10476000" cy="88646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68360" y="620640"/>
            <a:ext cx="10007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Назовите имя и отчество первого космонавта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…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39640" y="2565360"/>
            <a:ext cx="6912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) Юрий Николаеви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) Алексей Юрьеви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3) Николай Юрьеви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4) Юрий Алексе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46818964"/>
          <p:cNvPicPr/>
          <p:nvPr/>
        </p:nvPicPr>
        <p:blipFill>
          <a:blip r:embed="rId1"/>
          <a:stretch/>
        </p:blipFill>
        <p:spPr>
          <a:xfrm>
            <a:off x="0" y="0"/>
            <a:ext cx="9612360" cy="6865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250920" y="40464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зовите страну, которая первой запустила искусственный спутник Земли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116000" y="2060640"/>
            <a:ext cx="33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24000" y="1916280"/>
            <a:ext cx="619272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) С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) Советский Сою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) Великобри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) Япо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6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kosmik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395280" y="40464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то побывал в космосе первым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39640" y="2133720"/>
            <a:ext cx="705672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) челове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) обезьян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) крыс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) соба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8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000"/>
                            </p:stCondLst>
                            <p:childTnLst>
                              <p:par>
                                <p:cTn id="4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100409m106"/>
          <p:cNvPicPr/>
          <p:nvPr/>
        </p:nvPicPr>
        <p:blipFill>
          <a:blip r:embed="rId1"/>
          <a:stretch/>
        </p:blipFill>
        <p:spPr>
          <a:xfrm>
            <a:off x="0" y="0"/>
            <a:ext cx="9144000" cy="7564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dog_007"/>
          <p:cNvPicPr/>
          <p:nvPr/>
        </p:nvPicPr>
        <p:blipFill>
          <a:blip r:embed="rId2"/>
          <a:stretch/>
        </p:blipFill>
        <p:spPr>
          <a:xfrm>
            <a:off x="1979640" y="1052640"/>
            <a:ext cx="4762440" cy="4190760"/>
          </a:xfrm>
          <a:prstGeom prst="rect">
            <a:avLst/>
          </a:prstGeom>
          <a:ln w="34920">
            <a:solidFill>
              <a:srgbClr val="ffffff"/>
            </a:solidFill>
            <a:prstDash val="dash"/>
            <a:miter/>
          </a:ln>
        </p:spPr>
      </p:pic>
      <p:sp>
        <p:nvSpPr>
          <p:cNvPr id="122" name="Text Box 7"/>
          <p:cNvSpPr/>
          <p:nvPr/>
        </p:nvSpPr>
        <p:spPr>
          <a:xfrm>
            <a:off x="1619280" y="5516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Белка и Стрел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0b0f9f311006"/>
          <p:cNvPicPr/>
          <p:nvPr/>
        </p:nvPicPr>
        <p:blipFill>
          <a:blip r:embed="rId1"/>
          <a:stretch/>
        </p:blipFill>
        <p:spPr>
          <a:xfrm>
            <a:off x="0" y="0"/>
            <a:ext cx="10188720" cy="68770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539640" y="54936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ая планета самая яркая из видимых с Земли? Её называют «Утренняя звезда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332000" y="2133720"/>
            <a:ext cx="763272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Юпите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Плутон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Марс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Вене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1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3000"/>
                            </p:stCondLst>
                            <p:childTnLst>
                              <p:par>
                                <p:cTn id="5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3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332000" y="189000"/>
            <a:ext cx="42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979640" y="260280"/>
            <a:ext cx="77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зовите то место солнечной системы, куда ступала нога человек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3708360" y="1989000"/>
            <a:ext cx="51847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) Вене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2) Лу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3) Мар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4) Юпит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5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1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7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cme-x-class-26oct03"/>
          <p:cNvPicPr/>
          <p:nvPr/>
        </p:nvPicPr>
        <p:blipFill>
          <a:blip r:embed="rId1"/>
          <a:stretch/>
        </p:blipFill>
        <p:spPr>
          <a:xfrm>
            <a:off x="0" y="-1179360"/>
            <a:ext cx="9396360" cy="92581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1187280" y="189000"/>
            <a:ext cx="86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й учёный доказал, что Земля вращается вокруг Солн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2195640" y="1989000"/>
            <a:ext cx="54007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)Николай Копер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)Галилео Гали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)Исаак Ньюто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)К.Э.Циолков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a7ce095e28e5a94d3d043f6b649f50f4"/>
          <p:cNvPicPr/>
          <p:nvPr/>
        </p:nvPicPr>
        <p:blipFill>
          <a:blip r:embed="rId2"/>
          <a:stretch/>
        </p:blipFill>
        <p:spPr>
          <a:xfrm>
            <a:off x="357120" y="1285920"/>
            <a:ext cx="1727280" cy="2365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5817p"/>
          <p:cNvPicPr/>
          <p:nvPr/>
        </p:nvPicPr>
        <p:blipFill>
          <a:blip r:embed="rId3"/>
          <a:stretch/>
        </p:blipFill>
        <p:spPr>
          <a:xfrm>
            <a:off x="324000" y="4292640"/>
            <a:ext cx="1793880" cy="2492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Galileo_Galilei"/>
          <p:cNvPicPr/>
          <p:nvPr/>
        </p:nvPicPr>
        <p:blipFill>
          <a:blip r:embed="rId4"/>
          <a:stretch/>
        </p:blipFill>
        <p:spPr>
          <a:xfrm>
            <a:off x="7273800" y="1125360"/>
            <a:ext cx="1720800" cy="2502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m_33355"/>
          <p:cNvPicPr/>
          <p:nvPr/>
        </p:nvPicPr>
        <p:blipFill>
          <a:blip r:embed="rId5"/>
          <a:stretch/>
        </p:blipFill>
        <p:spPr>
          <a:xfrm>
            <a:off x="7081920" y="4022640"/>
            <a:ext cx="20620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5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7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8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1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7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1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7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1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universum15rq9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250920" y="4046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 звали первую собаку, побывавшую в космосе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68360" y="2276640"/>
            <a:ext cx="37432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) Звёздо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2) Стрел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3) Лай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4) Бел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http://www.vokrugsveta.ru/img/cmn/2007/11/02/013.jpg"/>
          <p:cNvPicPr/>
          <p:nvPr/>
        </p:nvPicPr>
        <p:blipFill>
          <a:blip r:embed="rId2"/>
          <a:stretch/>
        </p:blipFill>
        <p:spPr>
          <a:xfrm>
            <a:off x="4427640" y="1628640"/>
            <a:ext cx="4537080" cy="3402000"/>
          </a:xfrm>
          <a:prstGeom prst="rect">
            <a:avLst/>
          </a:prstGeom>
          <a:ln w="38160">
            <a:solidFill>
              <a:srgbClr val="ffffff"/>
            </a:solidFill>
            <a:prstDash val="lg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000"/>
                            </p:stCondLst>
                            <p:childTnLst>
                              <p:par>
                                <p:cTn id="7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3000"/>
                            </p:stCondLst>
                            <p:childTnLst>
                              <p:par>
                                <p:cTn id="7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8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8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4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0" y="2349360"/>
            <a:ext cx="56516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ервый тур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45 0.08842 L 0.40746 1.11111E-006 E">
                                      <p:cBhvr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54c3cef18162aee1d699d547c8d_prev"/>
          <p:cNvPicPr/>
          <p:nvPr/>
        </p:nvPicPr>
        <p:blipFill>
          <a:blip r:embed="rId1"/>
          <a:stretch/>
        </p:blipFill>
        <p:spPr>
          <a:xfrm>
            <a:off x="-18108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0" y="260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зовите фамилию первой в мире женщины-космонавта, нашей соотечественницы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5003640" y="2276640"/>
            <a:ext cx="414036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) Рюми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2) Кондаков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3) Савицка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4) Терешк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0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2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3000"/>
                            </p:stCondLst>
                            <p:childTnLst>
                              <p:par>
                                <p:cTn id="7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8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8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2720442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611280" y="333360"/>
            <a:ext cx="82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му равна первая космическая скорость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611280" y="2492280"/>
            <a:ext cx="568800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) 7,9 км/с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) 12,4км/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) 17, 8км/с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) 29, 1км/с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0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6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2000"/>
                            </p:stCondLst>
                            <p:childTnLst>
                              <p:par>
                                <p:cTn id="8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2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3000"/>
                            </p:stCondLst>
                            <p:childTnLst>
                              <p:par>
                                <p:cTn id="8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8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2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8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4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galaxysample_block_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"/>
          <p:cNvSpPr/>
          <p:nvPr/>
        </p:nvSpPr>
        <p:spPr>
          <a:xfrm>
            <a:off x="395280" y="476280"/>
            <a:ext cx="85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ша Вселенная насчитывает огромное количество созвездий. Названия некоторых связанны с животными. Прочитайте названия созвездий и назовите лишнее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1332000" y="2708280"/>
            <a:ext cx="63370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) Большая Медведиц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) Малая Медведиц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3) Большой Пё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4) Кентав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0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6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2000"/>
                            </p:stCondLst>
                            <p:childTnLst>
                              <p:par>
                                <p:cTn id="8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2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8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8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4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324000" y="33336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нашем городе, как и во многих городах России, в честь лётчиков-космонавтов названы улицы, проспекты, бульвары. Какой улицы не существует в нашем горо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4211640" y="2781360"/>
            <a:ext cx="3889440" cy="31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) Гага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2) Терешк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3) Комар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4) Пацае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0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6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2000"/>
                            </p:stCondLst>
                            <p:childTnLst>
                              <p:par>
                                <p:cTn id="9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2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3000"/>
                            </p:stCondLst>
                            <p:childTnLst>
                              <p:par>
                                <p:cTn id="9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8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uploaded_135594d01b1255f50de717c1b08bd5d2c31dc671"/>
          <p:cNvPicPr/>
          <p:nvPr/>
        </p:nvPicPr>
        <p:blipFill>
          <a:blip r:embed="rId1"/>
          <a:stretch/>
        </p:blipFill>
        <p:spPr>
          <a:xfrm>
            <a:off x="0" y="0"/>
            <a:ext cx="9325080" cy="74595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395280" y="62064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называется городок, в котором живут космонавты до и после полёт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900000" y="2637000"/>
            <a:ext cx="4608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) Космическ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) Звёзд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) Солнечны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) Лунны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6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2000"/>
                            </p:stCondLst>
                            <p:childTnLst>
                              <p:par>
                                <p:cTn id="9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2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3000"/>
                            </p:stCondLst>
                            <p:childTnLst>
                              <p:par>
                                <p:cTn id="9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8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8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0" y="2708280"/>
            <a:ext cx="56516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Четвертый тур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136 0.0669 L 0.32656 -0.02153 E">
                                      <p:cBhvr>
                                        <p:cTn id="1015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E:\planeta-tierra-pequen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TextBox 5"/>
          <p:cNvSpPr/>
          <p:nvPr/>
        </p:nvSpPr>
        <p:spPr>
          <a:xfrm>
            <a:off x="468360" y="33336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смический 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2987640" y="1916280"/>
            <a:ext cx="576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2556000" y="155736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Рисунок 9" descr="http://festival.1september.ru/articles/522683/img2.gif"/>
          <p:cNvPicPr/>
          <p:nvPr/>
        </p:nvPicPr>
        <p:blipFill>
          <a:blip r:embed="rId2"/>
          <a:stretch/>
        </p:blipFill>
        <p:spPr>
          <a:xfrm>
            <a:off x="2627280" y="981000"/>
            <a:ext cx="3097080" cy="21607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0" y="2904480"/>
            <a:ext cx="8964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Первый космический аппарат, выведенный на орбиту Земли в 1957 го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Кто первым из к</a:t>
            </a:r>
            <a:r>
              <a:rPr b="1" lang="ru-RU" sz="2400" spc="-1" strike="noStrike">
                <a:solidFill>
                  <a:srgbClr val="d9d9d9"/>
                </a:solidFill>
                <a:latin typeface="Calibri"/>
                <a:ea typeface="Times New Roman"/>
              </a:rPr>
              <a:t>осмонавтов вышел в открытый космос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9d9d9"/>
                </a:solidFill>
                <a:latin typeface="Calibri"/>
                <a:ea typeface="Times New Roman"/>
              </a:rPr>
              <a:t>Первый космонавт план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9d9d9"/>
                </a:solidFill>
                <a:latin typeface="Calibri"/>
                <a:ea typeface="Times New Roman"/>
              </a:rPr>
              <a:t>Источник жизни на Зем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9d9d9"/>
                </a:solidFill>
                <a:latin typeface="Calibri"/>
                <a:ea typeface="Times New Roman"/>
              </a:rPr>
              <a:t>Летательный аппарат, на котором перемещаются инопланетя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9d9d9"/>
                </a:solidFill>
                <a:latin typeface="Calibri"/>
                <a:ea typeface="Times New Roman"/>
              </a:rPr>
              <a:t>Летательный аппарат, на котором летала Баба-Я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9d9d9"/>
                </a:solidFill>
                <a:latin typeface="Calibri"/>
                <a:ea typeface="Times New Roman"/>
              </a:rPr>
              <a:t>Одежда космонав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E:\Космонавтика\1642405_1272440633.jpg"/>
          <p:cNvPicPr/>
          <p:nvPr/>
        </p:nvPicPr>
        <p:blipFill>
          <a:blip r:embed="rId2"/>
          <a:stretch/>
        </p:blipFill>
        <p:spPr>
          <a:xfrm>
            <a:off x="0" y="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187" name="TextBox 4"/>
          <p:cNvSpPr/>
          <p:nvPr/>
        </p:nvSpPr>
        <p:spPr>
          <a:xfrm>
            <a:off x="699120" y="836640"/>
            <a:ext cx="572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одведем итоги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2720442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250920" y="26028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ПРОС – Сколько минут пробыл Юрий Алексеевич  Гагарин в космос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68360" y="1628640"/>
            <a:ext cx="3240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1) 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2) 10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3) 11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4) 58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9"/>
          <p:cNvGrpSpPr/>
          <p:nvPr/>
        </p:nvGrpSpPr>
        <p:grpSpPr>
          <a:xfrm>
            <a:off x="7874640" y="5557320"/>
            <a:ext cx="1203480" cy="1225800"/>
            <a:chOff x="7874640" y="5557320"/>
            <a:chExt cx="1203480" cy="1225800"/>
          </a:xfrm>
        </p:grpSpPr>
        <p:sp>
          <p:nvSpPr>
            <p:cNvPr id="60" name="AutoShape 11"/>
            <p:cNvSpPr/>
            <p:nvPr/>
          </p:nvSpPr>
          <p:spPr>
            <a:xfrm rot="13470600">
              <a:off x="7858800" y="5833080"/>
              <a:ext cx="922680" cy="332280"/>
            </a:xfrm>
            <a:custGeom>
              <a:avLst/>
              <a:gdLst>
                <a:gd name="textAreaLeft" fmla="*/ 0 w 922680"/>
                <a:gd name="textAreaRight" fmla="*/ 923040 w 922680"/>
                <a:gd name="textAreaTop" fmla="*/ 0 h 332280"/>
                <a:gd name="textAreaBottom" fmla="*/ 332640 h 33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13"/>
            <p:cNvSpPr/>
            <p:nvPr/>
          </p:nvSpPr>
          <p:spPr>
            <a:xfrm rot="18984600">
              <a:off x="8138520" y="5739120"/>
              <a:ext cx="720720" cy="922680"/>
            </a:xfrm>
            <a:prstGeom prst="triangle">
              <a:avLst>
                <a:gd name="adj" fmla="val 50000"/>
              </a:avLst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14"/>
            <p:cNvSpPr/>
            <p:nvPr/>
          </p:nvSpPr>
          <p:spPr>
            <a:xfrm rot="8268600">
              <a:off x="8397000" y="5942520"/>
              <a:ext cx="388440" cy="691200"/>
            </a:xfrm>
            <a:prstGeom prst="upArrow">
              <a:avLst>
                <a:gd name="adj1" fmla="val 50000"/>
                <a:gd name="adj2" fmla="val 44486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59 -0.09236 C -0.06719 -0.09584 -0.07066 -0.09792 -0.07292 -0.10162 C -0.07379 -0.10324 -0.07344 -0.10556 -0.07431 -0.10718 C -0.08056 -0.11945 -0.08976 -0.12894 -0.09792 -0.13866 C -0.11216 -0.15556 -0.10105 -0.14514 -0.11042 -0.15347 C -0.12032 -0.17338 -0.10487 -0.14329 -0.11737 -0.16459 C -0.12136 -0.17153 -0.12483 -0.1794 -0.12848 -0.18681 C -0.12934 -0.18866 -0.13143 -0.18912 -0.13264 -0.19051 C -0.13733 -0.19607 -0.14202 -0.20648 -0.14792 -0.20903 C -0.15539 -0.22385 -0.14566 -0.20602 -0.15487 -0.21829 C -0.16059 -0.22593 -0.16476 -0.23449 -0.17153 -0.24051 C -0.179 -0.25533 -0.16928 -0.2375 -0.17848 -0.24977 C -0.17969 -0.25139 -0.18021 -0.25371 -0.18125 -0.25533 C -0.18386 -0.25926 -0.18629 -0.26343 -0.18959 -0.26644 C -0.19098 -0.2676 -0.19254 -0.26875 -0.19375 -0.27014 C -0.20087 -0.27847 -0.20539 -0.28912 -0.2132 -0.29607 C -0.21997 -0.30949 -0.21094 -0.29352 -0.22153 -0.30533 C -0.22275 -0.30672 -0.22309 -0.30949 -0.22431 -0.31088 C -0.22674 -0.31389 -0.22987 -0.31574 -0.23264 -0.31829 C -0.23403 -0.31945 -0.23681 -0.32199 -0.23681 -0.32199 C -0.24115 -0.33056 -0.24723 -0.33472 -0.25209 -0.34236 C -0.26737 -0.3669 -0.28803 -0.38472 -0.30487 -0.40718 C -0.31146 -0.41597 -0.31754 -0.42593 -0.32431 -0.43496 C -0.3257 -0.43681 -0.32709 -0.43866 -0.32848 -0.44051 C -0.33091 -0.44375 -0.33681 -0.44792 -0.33681 -0.44792 C -0.33993 -0.4544 -0.34306 -0.45857 -0.34792 -0.46273 C -0.35296 -0.47269 -0.34948 -0.46667 -0.35903 -0.4794 C -0.36025 -0.48102 -0.36059 -0.48357 -0.36181 -0.48496 C -0.36424 -0.48797 -0.37014 -0.49236 -0.37014 -0.49236 C -0.38004 -0.51227 -0.36459 -0.48218 -0.37709 -0.50347 C -0.37917 -0.50695 -0.38264 -0.51459 -0.38264 -0.51459 C -0.38473 -0.53148 -0.38716 -0.53542 -0.39653 -0.54792 C -0.40261 -0.55602 -0.40313 -0.56181 -0.41042 -0.56829 C -0.41476 -0.57685 -0.42171 -0.57963 -0.42709 -0.58681 E">
                                      <p:cBhvr>
                                        <p:cTn id="46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709 -0.5868 C -0.49271 -0.56018 -0.55834 -0.53333 -0.55903 -0.49606 C -0.55973 -0.45879 -0.43334 -0.40347 -0.43125 -0.36273 C -0.42917 -0.32199 -0.54931 -0.29814 -0.54653 -0.25161 C -0.54375 -0.20509 -0.40122 -0.13333 -0.41459 -0.0831 C -0.42795 -0.03286 -0.60122 0.05764 -0.62709 0.05024 C -0.65295 0.04283 -0.61806 -0.09236 -0.57014 -0.12754 C -0.52223 -0.16273 -0.39532 -0.14768 -0.33959 -0.16087 C -0.28386 -0.17407 -0.24844 -0.19328 -0.23542 -0.20717 C -0.2224 -0.22106 -0.25625 -0.23842 -0.26181 -0.24421 E">
                                      <p:cBhvr>
                                        <p:cTn id="49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18 -0.24421 L -0.10347 -0.26643 L -0.05208 -0.47569 L -0.02291 -0.65347 L -0.27569 -0.69421 L -0.3868 -0.55532 L -0.19652 -0.46643 L -0.07847 -0.54606 L -0.22708 -0.59606 L -0.43541 -0.32569 L -0.13819 -0.32199 L -0.1993 -0.53866 E">
                                      <p:cBhvr>
                                        <p:cTn id="52" dur="5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179280" y="333360"/>
            <a:ext cx="896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ВОПРОС: -Сколько Галактик во Вселенно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84360" y="1557360"/>
            <a:ext cx="561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1) 1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2) 2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3) миллио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4) 10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8" descr="Systeme_Solai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4000" y="333360"/>
            <a:ext cx="90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опрос: - Сколько планет входят в Солнечную систе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684360" y="1773360"/>
            <a:ext cx="4032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1)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2) 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3)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4) 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324000" y="47628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:  Когда наша планета Земля ближе всего находится к Солнц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95280" y="1773360"/>
            <a:ext cx="734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) зим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) лет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) осень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) всегда одинаков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0322-Star-birth_full_600"/>
          <p:cNvPicPr/>
          <p:nvPr/>
        </p:nvPicPr>
        <p:blipFill>
          <a:blip r:embed="rId1"/>
          <a:stretch/>
        </p:blipFill>
        <p:spPr>
          <a:xfrm>
            <a:off x="0" y="0"/>
            <a:ext cx="10549080" cy="70326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179280" y="189000"/>
            <a:ext cx="92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опрос: -Какая дата стала началом космической эры человечеств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755640" y="1844640"/>
            <a:ext cx="8567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 12 апреля 1961 года – старт 1-го космического корабля с человеком на бор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 1 марта 1966  - были доставлены вымпелы стран на Вен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 9 марта 1934 года  - день рождения Ю.А.Гагар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 4 октября 1957 года – запуск первого искусственного спутника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0" y="2349360"/>
            <a:ext cx="56516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торой тур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0.04746 L 0.49982 -0.04097 E">
                                      <p:cBhvr>
                                        <p:cTn id="279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wallpapers_173_o6oi_r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2987640" y="189000"/>
            <a:ext cx="615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ланетарная цепоч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24000" y="260280"/>
            <a:ext cx="525600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еты Солнечной систе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Меркур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Вене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Мар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Зем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) Юпите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6) Сатур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7) Ура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8) Непту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9) Плут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 C 0.0165 -0.00139 0.03403 -0.0037 0.0507 0 C 0.05209 0.00046 0.05278 0.0037 0.054 0.00532 C 0.05851 0.01111 0.06059 0.01134 0.06389 0.01806 C 0.06546 0.0213 0.06823 0.0287 0.06823 0.02894 C 0.06736 0.04838 0.07118 0.05856 0.06042 0.06435 C 0.00712 0.06227 0.0283 0.0625 -0.00312 0.0625 E">
                                      <p:cBhvr>
                                        <p:cTn id="347" dur="2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44444E-006 C 0.04601 -0.00093 0.06806 0.01666 0.08767 -0.01412 C 0.08715 -0.02037 0.08837 -0.03936 0.08368 -0.04537 C 0.06424 -0.06991 0.02587 -0.06227 -1.11111E-006 -0.06227 E">
                                      <p:cBhvr>
                                        <p:cTn id="349" dur="2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8:22:31Z</dcterms:created>
  <dc:creator>Admin</dc:creator>
  <dc:description/>
  <dc:language>en-US</dc:language>
  <cp:lastModifiedBy>школа № 171</cp:lastModifiedBy>
  <dcterms:modified xsi:type="dcterms:W3CDTF">2011-04-20T04:12:57Z</dcterms:modified>
  <cp:revision>20</cp:revision>
  <dc:subject/>
  <dc:title>Слайд 1</dc:title>
</cp:coreProperties>
</file>