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6.jpeg" ContentType="image/jpeg"/>
  <Override PartName="/ppt/media/image53.png" ContentType="image/png"/>
  <Override PartName="/ppt/media/image55.jpeg" ContentType="image/jpeg"/>
  <Override PartName="/ppt/media/image43.png" ContentType="image/png"/>
  <Override PartName="/ppt/media/image51.png" ContentType="image/png"/>
  <Override PartName="/ppt/media/image49.jpeg" ContentType="image/jpeg"/>
  <Override PartName="/ppt/media/image34.png" ContentType="image/png"/>
  <Override PartName="/ppt/media/image4.png" ContentType="image/png"/>
  <Override PartName="/ppt/media/image32.png" ContentType="image/png"/>
  <Override PartName="/ppt/media/image25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11.jpeg" ContentType="image/jpeg"/>
  <Override PartName="/ppt/media/image2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66.png" ContentType="image/png"/>
  <Override PartName="/ppt/media/image64.jpeg" ContentType="image/jpeg"/>
  <Override PartName="/ppt/media/image28.png" ContentType="image/png"/>
  <Override PartName="/ppt/media/image29.jpeg" ContentType="image/jpeg"/>
  <Override PartName="/ppt/media/image62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6.jpeg" ContentType="image/jpeg"/>
  <Override PartName="/ppt/media/image61.jpeg" ContentType="image/jpeg"/>
  <Override PartName="/ppt/media/image26.png" ContentType="image/png"/>
  <Override PartName="/ppt/media/image12.png" ContentType="image/png"/>
  <Override PartName="/ppt/media/image19.jpeg" ContentType="image/jpeg"/>
  <Override PartName="/ppt/media/image42.jpeg" ContentType="image/jpeg"/>
  <Override PartName="/ppt/media/image65.png" ContentType="image/png"/>
  <Override PartName="/ppt/media/image21.jpeg" ContentType="image/jpeg"/>
  <Override PartName="/ppt/media/image2.png" ContentType="image/png"/>
  <Override PartName="/ppt/media/image14.png" ContentType="image/png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48.png" ContentType="image/pn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7.png" ContentType="image/png"/>
  <Override PartName="/ppt/media/image31.jpeg" ContentType="image/jpeg"/>
  <Override PartName="/ppt/media/image33.jpeg" ContentType="image/jpeg"/>
  <Override PartName="/ppt/media/image9.jpeg" ContentType="image/jpeg"/>
  <Override PartName="/ppt/media/image36.png" ContentType="image/png"/>
  <Override PartName="/ppt/media/image40.jpeg" ContentType="image/jpeg"/>
  <Override PartName="/ppt/media/image3.jpeg" ContentType="image/jpeg"/>
  <Override PartName="/ppt/media/image41.png" ContentType="image/png"/>
  <Override PartName="/ppt/media/image63.png" ContentType="image/png"/>
  <Override PartName="/ppt/media/image57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3B5-FFBB-4F8C-B303-7B5EE2C0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CAB-4B12-4295-A510-21993207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78D-CCDE-4186-92AE-DE73F9DB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C13-1D58-4250-B691-80CC2C8B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50A9-DAC3-493D-AD3F-3090EBB9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03F4-90B3-4E7F-8D5D-58BC14E3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EFE6-9E22-4C05-AF7A-2ED8640F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6C4D-7E53-44E0-9A15-67254A0F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6B8E-DC5C-4732-8464-7F5AE8E6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7FF9-61CB-4D53-956F-532DC8C8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148E-2BB1-44A5-99A9-967E4989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095-3355-4840-AC83-FD9B3F4F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06EE-C773-4F1B-B41B-C45C4D22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3F84-4E53-4DEC-A3E3-BE764D0D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7B5B-C968-4B2F-ACAF-C450C5FC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F0ED-48E3-4A41-94AF-7BBFF08B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D3B6-CC4D-4BF2-B16F-7E78EBE0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10931-EEB6-4DC5-9468-2C69DBBE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F5EA5-4C98-4CB4-9C3B-203F2D8D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5F1C6-6BCF-409D-814D-172B1000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5696C-F2E2-4BBE-AF13-9C6C9FCE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859A-A6F9-4531-A727-CCA4EE73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1FB-5CBA-4EAF-80BB-6DFD1CBD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D0282-AE80-43F3-826D-860AB8EC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F21B4-4982-4D3E-B336-45F3A1C2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708D-D263-4FA0-ABD3-B4F7085F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97A4-7ED9-4919-B56F-57368D06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3BC50-7413-41C9-BC28-B65AFEC7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6CBA-3E56-4B1D-945C-C9A17842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EE822-5B7F-4C81-A3D7-723270F8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922A0-9DF6-4181-B85C-C745CB2C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8C19C-66DD-445B-B4C5-A0E9FA98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C79CA-078D-4B1D-9F66-3B1781A1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FDB-85C0-4B99-9E44-D3E8A1A2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284DB-84BB-4C8A-B0B5-14E5192B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C63F5-A54B-4192-BB12-F9E0E053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FF6E4-9744-48BA-B48C-F3DA9801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E0C5D-B667-4045-849F-7A0C8E16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36CCD-533B-443F-9EA7-1D25BD89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C7EDA-46CA-43E9-98D6-084F6AE1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C3E5D-6419-46FB-A1A7-2A6F9320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DE601-0B5C-4F04-A8A6-EB6BF14D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5092C-17CF-479E-B736-FE7EF78C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D11A8-3A7E-4722-907A-3A36D91A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CBC-EB45-47FD-8FDE-29137394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001C7-C532-4817-AF9E-9E59A29C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4F2A0-F35C-44AB-BA8A-EEBABD37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23EF3-8E98-482C-8124-74C5F2E2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4ED7E-B02C-49EE-85A1-2390F20C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6366C-5762-4628-A671-0E0860F3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AAF4E-0764-4020-BAC5-481F9E58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531A0-2D2F-458C-A4C0-F6952FF4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20872-A3A6-44A3-B08F-95A959A0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48948-CF83-4C1D-9F25-FC473791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7051A-7AE7-4C29-8B9F-9C79FAA4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73D-AAE6-4F9D-95E7-4B83A97D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9D19C-C0FB-4D8C-805B-A87A11F7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58E-53DE-422C-80AA-D6349916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BAA-25F2-4A8F-9B44-3DE049BF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BA9-EB62-43C2-85A3-00A45573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60E5-3A01-4404-8D4D-BF9049304D5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2" descr="2"/>
          <p:cNvPicPr/>
          <p:nvPr/>
        </p:nvPicPr>
        <p:blipFill>
          <a:blip r:embed="rId3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9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6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Прямая соединительная линия 10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1"/>
          <p:cNvPicPr/>
          <p:nvPr/>
        </p:nvPicPr>
        <p:blipFill>
          <a:blip r:embed="rId4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256A-4BCF-4830-B783-1CEBCB65356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2"/>
          <p:cNvPicPr/>
          <p:nvPr/>
        </p:nvPicPr>
        <p:blipFill>
          <a:blip r:embed="rId3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90E6-70A3-4C84-919D-F1C1EF2B1A7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9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0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08BF-9FE7-494F-805C-E4DD5F208A9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2" descr="2"/>
          <p:cNvPicPr/>
          <p:nvPr/>
        </p:nvPicPr>
        <p:blipFill>
          <a:blip r:embed="rId3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C4B5-7A31-4A77-A1C5-6DE946FC1F1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go.mail.ru/redir?q=&#1082;&#1072;&#1088;&#1090;&#1080;&#1085;&#1082;&#1072;%20&#1089;&#1086;&#1083;&#1085;&#1077;&#1095;&#1085;&#1099;&#1093;%20&#1095;&#1072;&#1089;&#1086;&#1074;&amp;via_page=1&amp;type=sr&amp;redir=eJzLKCkpsNLXz0_PL8pP0cvNLCpJLU7N0ysq1U_KyU_XNzE2sDSzMDewNDbRD87PyUtNzsirzEzVTc5ILK7M1M1L1E1JTM5IZbiw68KGiw0Xmy7suLAXxFa42Hhh34XdQM7Wi-0X9l7svtiqAGRsAAtvYjA0sTAxsjS3MLVgqD8m5y52py6TTXeeE2905VQAcgNAzw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go.mail.ru/redir?q=&#1082;&#1072;&#1088;&#1090;&#1080;&#1085;&#1082;&#1072;%20&#1089;&#1086;&#1083;&#1085;&#1077;&#1095;&#1085;&#1099;&#1093;%20&#1095;&#1072;&#1089;&#1086;&#1074;&amp;via_page=1&amp;type=sr&amp;redir=eJzLKCkpsNLXLy8v10tKTKrUKyrVT8rJTy_WL8gvLtE3srQwNbawNDTSNTUyMzW0MDTRZ7iw68KGiw0Xmy7suLAXxFa42Hhh34XdQM7Wi-0X9l7svtiqAGRsAAtvYjA0sTAxsjS3MLVgCF7ry_gk5qydtxpj8rfnzdUA9GY4oA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go.mail.ru/redir?q=&#1082;&#1072;&#1088;&#1090;&#1080;&#1085;&#1082;&#1072;%20&#1087;&#1077;&#1089;&#1086;&#1095;&#1085;&#1099;&#1077;%20&#1095;&#1072;&#1089;&#1099;&amp;via_page=1&amp;type=sr&amp;redir=eJzLKCkpsNLXT8spLUgt0isq1S9JTNdXdTFQdXIDk6aqLoaqFoZgtiuYbQ5mu4DZThA1DBd2XdhwseFi04UdF_aC2AoX9l_YerHxwr6L7Rf2Xuy-sFUByNhwsfFiN4OhiYWJkaW5pbkFQ9ixmTmKzNWvFnokq3buPxQNAKZ5OEY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hyperlink" Target="http://go.mail.ru/redir?q=&#1082;&#1072;&#1088;&#1090;&#1080;&#1085;&#1082;&#1072;%20&#1089;&#1086;&#1074;&#1088;&#1077;&#1084;&#1077;&#1085;&#1085;&#1099;&#1077;%20&#1085;&#1072;&#1089;&#1090;&#1077;&#1085;&#1085;&#1099;&#1077;%20&#1095;&#1072;&#1089;&#1099;&amp;via_page=1&amp;type=sr&amp;redir=eJzLKCkpsNLXLyrVS8zJTK0oKEotLtZLzs_VL9cvz8jPSS1OzEnVzS9LzNEtLE0sKqnSLchJLC7JTNYtT8zJ0U3OyU_O1ssoyc1huLDrwoaLDRebLuy4sBfEVrjYeGHfhU0XGy5svbAHiPde2Hux-8JWBSBjw8VGoDqE0MV2sFA3g6GJhYmRpYWBpQFDxn_FSHZv1y_iX6bcylYy6gMAIE1T5Q" TargetMode="External"/><Relationship Id="rId3" Type="http://schemas.openxmlformats.org/officeDocument/2006/relationships/image" Target="../media/image39.jpeg"/><Relationship Id="rId4" Type="http://schemas.openxmlformats.org/officeDocument/2006/relationships/hyperlink" Target="http://go.mail.ru/redir?q=&#1082;&#1072;&#1088;&#1090;&#1080;&#1085;&#1082;&#1072;%20&#1089;&#1086;&#1074;&#1088;&#1077;&#1084;&#1077;&#1085;&#1085;&#1099;&#1077;%20&#1085;&#1072;&#1087;&#1086;&#1083;&#1100;&#1085;&#1099;&#1077;%20&#1095;&#1072;&#1089;&#1099;&amp;via_page=1&amp;type=sr&amp;redir=eJzLKCkpsNLXL8pMSsypTM7QKyrVNzIwNNE3MALS-nmJBfk5eZWpuskZicWVusWZeZkV-gwXdl3YcLHhYtOFHRf2gtgKFxsv7Luw6WLDha0X9gDx3gt7L3Zf2KoAZGy4sB8otftiD1ToYjtQa-PFbgZDEwsTI0sLQ3Mzhq-KERNcZr-8ufnP4luNTo1sAD2BS9M" TargetMode="External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go.mail.ru/redir?q=&#1082;&#1072;&#1088;&#1090;&#1080;&#1085;&#1082;&#1072;%20&#1079;&#1074;&#1086;&#1085;&#1103;&#1097;&#1077;&#1075;&#1086;%20&#1073;&#1091;&#1076;&#1080;&#1083;&#1100;&#1085;&#1080;&#1082;&#1072;&amp;via_page=1&amp;type=sr&amp;redir=eJzLKCkpsNLXz63UTUvMK0ksrtRLyUwsqtQrKtUvMLQ0NDQ2tDA31MsoyWW4sOvChosNF5su7LiwF8RWuLD9wqYL-y7svdh_sfPC1gubL-xTuLDxYvOFLUAVuy_2AFXtAKljMDSxMDGyNDcxsmCo_WGx6-Xf_Zr-QR9OmlZ_fgkAIYRCOQ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go.mail.ru/redir?q=&#1082;&#1072;&#1088;&#1090;&#1080;&#1085;&#1082;&#1080;%20&#1089;&#1086;&#1074;&#1088;&#1077;&#1084;&#1077;&#1085;&#1085;&#1099;&#1077;%20%20&#1095;&#1072;&#1089;&#1099;&amp;via_page=1&amp;type=sr&amp;redir=eJzLKCkpsNLXT04sKslNzNMrKdMvLskvSkxP1c_MK0ktSi3Oy9fPTIk3NLE0NYjPScxLjy8qjS8oAkrGV6YW62WU5OYwXNh1YcPFhotNF3Zc2Atk71C42Hhh34VNFxsubL2wB4j3Xth7sfvCVgWFi-1AhY0XuxkMTSxMjCwtjMzNGUTU5r_gu22eqvo2vVXd5Hk9AIrpRF0" TargetMode="Externa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go.mail.ru/redir?q=&#1082;&#1072;&#1088;&#1090;&#1080;&#1085;&#1082;&#1072;%20&#1082;&#1091;&#1088;&#1072;&#1085;&#1090;&#1086;&#1074;&amp;via_page=1&amp;type=sr&amp;redir=eJzLKCkpsNLXLy8v10vKzynOyK8syy8oyi_WKyrVLyxNLS7JzM8r1jc0sjQ1NTTSzU7Mzk_P1y1KrMpNLUrULS5ILC7OzkzVzS4tSswrqdTNLkrNzclK1Msoyc1huLDrwoaLDRebLuy4sBfEVriw62LzxYYLGy7sBQruu7CJwdDEwsTI0sLYwoIh9qrAxK_dXt_5VSvvmO8IWwMAzDZDl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s://mpwatch.ru/images/cms/data/raznoe140715/lowell_21504.jpg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go.mail.ru/redir?q=&#1089;&#1080;&#1084;&#1074;&#1086;&#1083;&#1099;%20&#1101;&#1083;&#1077;&#1082;&#1090;&#1088;&#1086;&#1085;&#1085;&#1099;&#1093;%20&#1095;&#1072;&#1089;&#1086;&#1074;%20&#1082;&#1072;&#1088;&#1090;&#1080;&#1085;&#1082;&#1072;&amp;via_page=1&amp;type=sr&amp;redir=eJzLKCkpsNLXL8lPzigoykzKL9LLL0rXT04sSczJT9fPTU3MK47PT4vPzEvLL8pNLMnMz4tPySwuyEms1M8oys_Lz00tKdJPzslPzo5PzUnNLinKjy8ryS_St3f1cfV19QuxNVE1MmC42Hhhx4U9FzZd2Hdh98VuhYu9F3Zf2Hph18Wmiw1Aob0X9l7svtiqcLH9wgagyn0XNilc2AVkNlxsAmrbC2IzGJpYmBhZWpiaWTK4zdd-k8Zyxvono43Ofa_WQgAq_1zd" TargetMode="External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hyperlink" Target="http://go.mail.ru/redir?q=&#1082;&#1072;&#1088;&#1090;&#1080;&#1085;&#1082;&#1072;%20&#1095;&#1072;&#1089;&#1086;&#1074;&#1097;&#1080;&#1082;&#1072;&amp;via_page=1&amp;type=sr&amp;redir=eJzLKCkpsNLXLy8v10vOyU_O1gURekWl-pbmFkZGehkluTkMF3Zd2HCx4WLThR0X9oLYChfbgQKNF_Zd2HSxEygIFGIwNLEwMbK0MDMzYsiNmLd5p-xLuRur5l3MM2kJBwDYRy-H" TargetMode="External"/><Relationship Id="rId3" Type="http://schemas.openxmlformats.org/officeDocument/2006/relationships/image" Target="../media/image54.jpeg"/><Relationship Id="rId4" Type="http://schemas.openxmlformats.org/officeDocument/2006/relationships/hyperlink" Target="http://go.mail.ru/redir?q=&#1082;&#1072;&#1088;&#1090;&#1080;&#1085;&#1082;&#1072;%20&#1095;&#1072;&#1089;&#1086;&#1074;&#1097;&#1080;&#1082;&#1072;&amp;via_page=1&amp;type=sr&amp;redir=eJzLKCkpsNLXTywuKcrPyU_P1ysq1S_Oz8vLzNZ3zkgszi8rzgAyGS7surDhYsPFpgs7LuwFsRUutgMFGi_su7DpYidQECjEYGhiYWJkaWFmZsSwsMDT01Zn5dpXM1lnn1JwNgYApDwwhA" TargetMode="External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go.mail.ru/redir?q=&#1082;&#1072;&#1088;&#1090;&#1080;&#1085;&#1082;&#1072;%20&#1082;&#1091;&#1088;&#1072;&#1085;&#1090;&#1086;&#1074;&amp;via_page=1&amp;type=sr&amp;redir=eJzLKCkpsNLXLy8v10vKzynOyK8syy8oyi_WKyrVLyxNLS7JzM8r1jc0sjQ1NTTSzU7Mzk_P1y1KrMpNLUrULS5ILC7OzkzVzS4tSswrqdTNLkrNzclK1Msoyc1huLDrwoaLDRebLuy4sBfEVriw62LzxYYLGy7sBQruu7CJwdDEwsTI0sLYwoIh9qrAxK_dXt_5VSvvmO8IWwMAzDZDl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go.mail.ru/redir?q=&#1082;&#1072;&#1088;&#1090;&#1080;&#1085;&#1082;&#1072;%20&#1087;&#1077;&#1090;&#1091;&#1093;&#1072;&amp;via_page=1&amp;type=sr&amp;redir=eJzLKCkpKLbS1y8q1UspSk3MLS7JzE3VS87P1Vd1MVS1MASTRqouBqpOrmDSEYltBJZ1ArNNdcEcE5g0QpsumHKDqIJJAEljMGmqm5mbmJ5qZGJmZGpmZsxwYdeFDRcbLjZd2HFhL4itcGH_ha0Xmy42X2y9sIHB0MTCxMjS3NTcgqHOtStngh_Lq7yVzz47-ZldBQA7HEEN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go.mail.ru/redir?q=&#1082;&#1072;&#1088;&#1090;&#1080;&#1085;&#1082;&#1072;%20&#1087;&#1077;&#1074;&#1095;&#1080;&#1077;%20&#1087;&#1090;&#1080;&#1094;&#1099;%20&#1088;&#1086;&#1089;&#1089;&#1080;&#1080;&amp;via_page=1&amp;type=sr&amp;redir=eJzLKCkpsNLXN83OSSwu1stLLdHPzy4qrcpIzCotTs7IzNLNzSzSNdQFS-uHZaZU6haUZJYU6xsYWuoGpJYBlaRCRCp1g_KLizMz9TJKcnMYLuy6sOFiw8WmCzsu7AWxFS7sv7D1wqaL7UCBrUAOSOZi28VuhYsNF_ZdbLzYCBTfwWBoYmFiZGlubmDKsCXZwWRFxfe5F4Mu9M2USfEDAO9wTrk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go.mail.ru/redir?q=&#1082;&#1072;&#1088;&#1090;&#1080;&#1085;&#1082;&#1072;%20&#1086;&#1076;&#1091;&#1074;&#1072;&#1085;&#1095;&#1080;&#1082;&#1072;&amp;via_page=1&amp;type=sr&amp;redir=eJzLKCkpsNLXzy4tzixLzE7UKyrVT08tSCzJLNHPSU3OSM3LTNUtgDB0c_OLsvPL8ipzdYvzs_Nz9Rku7Lqw4WLDxaYLOy7sBbEVLuy7sOVi84VNFzZc2HuxHSgMFGQwNLEwMbI0N7c0YWh9feboZkGONI-lPzKvHVIuBAAMQzyT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530280" y="1511280"/>
            <a:ext cx="7827840" cy="5048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520" y="685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БОУ СОШ №1 СЕЛА НОВОСЫСОЕВК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65240" y="433440"/>
            <a:ext cx="8454960" cy="1176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rebuchet MS"/>
              </a:rPr>
              <a:t>Более 250 лет назад знаменитый естествоиспытатель Карл Линней составил свои первые «Часы Флоры». На клумбе в городе Упсале росли цветы, венчики которых открывались в определенной последовательности с 3—5 часов утра до полуночи. Там росли всем знакомый одуванчик, лен, картофель, яркая сарана, скромная кисличка..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4" descr="cc[1]"/>
          <p:cNvPicPr/>
          <p:nvPr/>
        </p:nvPicPr>
        <p:blipFill>
          <a:blip r:embed="rId2"/>
          <a:stretch/>
        </p:blipFill>
        <p:spPr>
          <a:xfrm>
            <a:off x="293760" y="1295280"/>
            <a:ext cx="842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244440" y="433440"/>
            <a:ext cx="8691480" cy="1176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80880" y="1294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ые первые часы на земле- солнечные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ни были гениально простыми: воткнутый в землю шест. Вокруг него нарисована шкала времен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ревние грек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чали и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спользова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ще в 1459 год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о нашей эр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preview-image" descr="http://mtdata.ru/u20/photo9C1A/20267429735-0/big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2514600"/>
            <a:ext cx="5791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Я у солнышка спросила –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колько времени сейчас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лнце палку осветило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казала! Вот так раз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о потом я догадалась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алочку воткнула в грунт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руг вокруг нарисовал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Числа, циферки – все тут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ень от палочки мгновенн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казала мне тот час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олько помнить нужно – севе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 12 у нас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review-image" descr="http://cs33.babysfera.ru/7/8/2/0/52651814.298534248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5238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44440" y="-85680"/>
            <a:ext cx="7461360" cy="1554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2010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Андрей Усачёв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«Песочные часы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блю час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есочны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ускай он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точные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о радуют приятн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згляд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время може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ечь назад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Picture 5" descr="11125[1]"/>
          <p:cNvPicPr/>
          <p:nvPr/>
        </p:nvPicPr>
        <p:blipFill>
          <a:blip r:embed="rId2"/>
          <a:stretch/>
        </p:blipFill>
        <p:spPr>
          <a:xfrm>
            <a:off x="4724280" y="1671480"/>
            <a:ext cx="3429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85840" y="450720"/>
            <a:ext cx="8486640" cy="1079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имвол греческого бога времени Кроноса, которого древние греки считали главным судьей и великим целителе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есочные часы и история неразделимы. Вот уже больше двух тысячелетий час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ерно служат человечеств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ни по-прежнему остаютс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незаменимым предмет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бихода человека.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ни находят применени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 медицин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сихологи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preview-image" descr="http://fluper.ru/ffh/41/pesochnye_chasy_prev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3048120"/>
            <a:ext cx="4381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Во 2-м и 1-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тысячелетиях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до н.э. в Египте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Китае, Индии и Гре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троили водяные час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з одного сосуда в другой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авномерно, по капля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переливалась вод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Поплавок со стрелко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пускалс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ли поднимал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8" descr="2[1]"/>
          <p:cNvPicPr/>
          <p:nvPr/>
        </p:nvPicPr>
        <p:blipFill>
          <a:blip r:embed="rId2"/>
          <a:stretch/>
        </p:blipFill>
        <p:spPr>
          <a:xfrm>
            <a:off x="4800600" y="1600200"/>
            <a:ext cx="4129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317520" y="658800"/>
            <a:ext cx="8454960" cy="1176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100px-Klepsidra"/>
          <p:cNvPicPr/>
          <p:nvPr/>
        </p:nvPicPr>
        <p:blipFill>
          <a:blip r:embed="rId2"/>
          <a:stretch/>
        </p:blipFill>
        <p:spPr>
          <a:xfrm>
            <a:off x="228600" y="1828800"/>
            <a:ext cx="4000680" cy="480060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4"/>
          <p:cNvSpPr/>
          <p:nvPr/>
        </p:nvSpPr>
        <p:spPr>
          <a:xfrm>
            <a:off x="4343400" y="20574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вый будильник на земле был водяным, он  был и будильником и школьным звонком одновременно. Его изобретателем считают древнегреческого философа Платона, жившего за 400 лет до нашей эры. Этот прибор, придуманный Платоном для созыва своих учеников на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480520" cy="77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1271490_large"/>
          <p:cNvPicPr/>
          <p:nvPr/>
        </p:nvPicPr>
        <p:blipFill>
          <a:blip r:embed="rId2"/>
          <a:stretch/>
        </p:blipFill>
        <p:spPr>
          <a:xfrm>
            <a:off x="380880" y="1295280"/>
            <a:ext cx="3505320" cy="54295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4"/>
          <p:cNvSpPr/>
          <p:nvPr/>
        </p:nvSpPr>
        <p:spPr>
          <a:xfrm>
            <a:off x="4114800" y="1447920"/>
            <a:ext cx="42670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имо солнечных и водяных часов, с нача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. появились и первые огневые - свечные часы. Эти очень простые часы в виде длинной тонкой свечи с нанесенной по ее длине шкалой, сравнительно удовлетворительно показывали время, а в ночные часы они еще и освещали жил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317520" y="58572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karelka130big[1]"/>
          <p:cNvPicPr/>
          <p:nvPr/>
        </p:nvPicPr>
        <p:blipFill>
          <a:blip r:embed="rId2"/>
          <a:stretch/>
        </p:blipFill>
        <p:spPr>
          <a:xfrm>
            <a:off x="533520" y="1312920"/>
            <a:ext cx="3182760" cy="51642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6"/>
          <p:cNvSpPr/>
          <p:nvPr/>
        </p:nvSpPr>
        <p:spPr>
          <a:xfrm>
            <a:off x="4038480" y="18288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1657 году голландский мастер Христиан Гюйгенс изобрел часы с маятником. Это стало возможным благодаря экспериментам и исследованиям, проводимым знаменитым математиком и астрономом Галилео Галилеем в 1580-м год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85840" y="530280"/>
            <a:ext cx="7669080" cy="1152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Часы, которые висят      2. Напольны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стене, называются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стенны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preview-image" descr="http://g02.a.alicdn.com/kf/HTB1BAAmIXXXXXbvXFXXq6xXFXXXK/Black-cat-font-b-wall-b-font-font-b-clock-b-font-modern-design-cat-s.jpg">
            <a:hlinkClick r:id="rId2"/>
          </p:cNvPr>
          <p:cNvPicPr/>
          <p:nvPr/>
        </p:nvPicPr>
        <p:blipFill>
          <a:blip r:embed="rId3"/>
          <a:srcRect l="21807" t="9239" r="16623" b="5776"/>
          <a:stretch/>
        </p:blipFill>
        <p:spPr>
          <a:xfrm>
            <a:off x="457200" y="3124080"/>
            <a:ext cx="3809880" cy="3200400"/>
          </a:xfrm>
          <a:prstGeom prst="rect">
            <a:avLst/>
          </a:prstGeom>
          <a:ln w="0">
            <a:noFill/>
          </a:ln>
        </p:spPr>
      </p:pic>
      <p:pic>
        <p:nvPicPr>
          <p:cNvPr id="275" name="preview-image" descr="http://go1.imgsmail.ru/imgpreview?key=4ddbcbcae8534c0f&amp;mb=imgdb_preview_1619">
            <a:hlinkClick r:id="rId4"/>
          </p:cNvPr>
          <p:cNvPicPr/>
          <p:nvPr/>
        </p:nvPicPr>
        <p:blipFill>
          <a:blip r:embed="rId5"/>
          <a:srcRect l="21259" t="-1682" r="0" b="0"/>
          <a:stretch/>
        </p:blipFill>
        <p:spPr>
          <a:xfrm>
            <a:off x="4648320" y="2133720"/>
            <a:ext cx="4038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44440" y="-8620200"/>
            <a:ext cx="8375760" cy="15106680"/>
          </a:xfrm>
          <a:prstGeom prst="rect">
            <a:avLst/>
          </a:prstGeom>
          <a:ln w="0">
            <a:noFill/>
          </a:ln>
        </p:spPr>
      </p:pic>
      <p:pic>
        <p:nvPicPr>
          <p:cNvPr id="227" name="preview-image" descr="http://pp.vk.me/c413728/v413728611/2dbf/Ru_k3jSj2q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1676520"/>
            <a:ext cx="401472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7" name="preview-image" descr="http://cartman.tv/img_215925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1752480"/>
            <a:ext cx="4267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moskva-karmannye_chasy_hromirovannye_i_pozolochennye_322228"/>
          <p:cNvPicPr/>
          <p:nvPr/>
        </p:nvPicPr>
        <p:blipFill>
          <a:blip r:embed="rId2"/>
          <a:stretch/>
        </p:blipFill>
        <p:spPr>
          <a:xfrm>
            <a:off x="457200" y="15238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4"/>
          <p:cNvSpPr/>
          <p:nvPr/>
        </p:nvSpPr>
        <p:spPr>
          <a:xfrm>
            <a:off x="4876920" y="1523880"/>
            <a:ext cx="358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рманные часы изобрели немного раньше, 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вычные для нас часы с браслетом. Они появилис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VI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к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Такие часы носили на цепочке. Карманные часы 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ные: круглые, в виде книги, креста, разных фиг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рманные часы явля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метом роскоши и были атрибутом богат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82" name="preview-image" descr="http://cdn01.ru/files/users/images/16/7a/167a222fc422b82a0153999c454a94d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1523880"/>
            <a:ext cx="5790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244440" y="506520"/>
            <a:ext cx="8448840" cy="1176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58194951_1272119975_2171"/>
          <p:cNvPicPr/>
          <p:nvPr/>
        </p:nvPicPr>
        <p:blipFill>
          <a:blip r:embed="rId2"/>
          <a:stretch/>
        </p:blipFill>
        <p:spPr>
          <a:xfrm>
            <a:off x="380880" y="1295280"/>
            <a:ext cx="4496040" cy="449604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4"/>
          <p:cNvSpPr/>
          <p:nvPr/>
        </p:nvSpPr>
        <p:spPr>
          <a:xfrm>
            <a:off x="5029200" y="14479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ое упоминание о механических часах относитс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концу 6 столет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Современные механические часы были созданы нидерландским ученым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ристианом Гюйгенсом в 1657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952880" y="434340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искусстве механические часы являются символом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6"/>
          <p:cNvSpPr/>
          <p:nvPr/>
        </p:nvSpPr>
        <p:spPr>
          <a:xfrm>
            <a:off x="5556240" y="373536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6ecee"/>
                </a:solidFill>
                <a:latin typeface="Arial"/>
              </a:rPr>
              <a:t>В искусстве ханические часы являются символом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1" descr=""/>
          <p:cNvPicPr/>
          <p:nvPr/>
        </p:nvPicPr>
        <p:blipFill>
          <a:blip r:embed="rId1"/>
          <a:stretch/>
        </p:blipFill>
        <p:spPr>
          <a:xfrm>
            <a:off x="853920" y="738360"/>
            <a:ext cx="7461360" cy="1176120"/>
          </a:xfrm>
          <a:prstGeom prst="rect">
            <a:avLst/>
          </a:prstGeom>
          <a:ln w="0">
            <a:noFill/>
          </a:ln>
        </p:spPr>
      </p:pic>
      <p:pic>
        <p:nvPicPr>
          <p:cNvPr id="289" name="Содержимое 3" descr="Lowell 21504">
            <a:hlinkClick r:id="rId2"/>
          </p:cNvPr>
          <p:cNvPicPr/>
          <p:nvPr/>
        </p:nvPicPr>
        <p:blipFill>
          <a:blip r:embed="rId3"/>
          <a:srcRect l="10006" t="13118" r="10006" b="14756"/>
          <a:stretch/>
        </p:blipFill>
        <p:spPr>
          <a:xfrm>
            <a:off x="380880" y="1981080"/>
            <a:ext cx="3886200" cy="3962520"/>
          </a:xfrm>
          <a:prstGeom prst="rect">
            <a:avLst/>
          </a:prstGeom>
          <a:ln w="0">
            <a:noFill/>
          </a:ln>
        </p:spPr>
      </p:pic>
      <p:pic>
        <p:nvPicPr>
          <p:cNvPr id="290" name="preview-image" descr="http://go1.imgsmail.ru/imgpreview?key=6662d6e89d23f044&amp;mb=imgdb_preview_45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2286000"/>
            <a:ext cx="3962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1" descr=""/>
          <p:cNvPicPr/>
          <p:nvPr/>
        </p:nvPicPr>
        <p:blipFill>
          <a:blip r:embed="rId1"/>
          <a:stretch/>
        </p:blipFill>
        <p:spPr>
          <a:xfrm>
            <a:off x="244440" y="585720"/>
            <a:ext cx="8448840" cy="1176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000038-13[1]"/>
          <p:cNvPicPr/>
          <p:nvPr/>
        </p:nvPicPr>
        <p:blipFill>
          <a:blip r:embed="rId2"/>
          <a:stretch/>
        </p:blipFill>
        <p:spPr>
          <a:xfrm>
            <a:off x="533520" y="1371600"/>
            <a:ext cx="3809880" cy="497664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4"/>
          <p:cNvSpPr/>
          <p:nvPr/>
        </p:nvSpPr>
        <p:spPr>
          <a:xfrm>
            <a:off x="4876920" y="1523880"/>
            <a:ext cx="3886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ейчас точность времени хранят атомные часы. Атомные часы имеют погрешность в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одну секунду за шесть миллионов лет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622440" y="506520"/>
            <a:ext cx="7461000" cy="1176120"/>
          </a:xfrm>
          <a:prstGeom prst="rect">
            <a:avLst/>
          </a:prstGeom>
          <a:ln w="0">
            <a:noFill/>
          </a:ln>
        </p:spPr>
      </p:pic>
      <p:pic>
        <p:nvPicPr>
          <p:cNvPr id="295" name="preview-image" descr="http://watches.ru/img/papers/chasovschi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752480"/>
            <a:ext cx="3333600" cy="2219400"/>
          </a:xfrm>
          <a:prstGeom prst="rect">
            <a:avLst/>
          </a:prstGeom>
          <a:ln w="0">
            <a:noFill/>
          </a:ln>
        </p:spPr>
      </p:pic>
      <p:pic>
        <p:nvPicPr>
          <p:cNvPr id="296" name="preview-image" descr="http://astrologo.ru/imason/Chasovshik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1752480"/>
            <a:ext cx="3479760" cy="2590920"/>
          </a:xfrm>
          <a:prstGeom prst="rect">
            <a:avLst/>
          </a:prstGeom>
          <a:ln w="0">
            <a:noFill/>
          </a:ln>
        </p:spPr>
      </p:pic>
      <p:pic>
        <p:nvPicPr>
          <p:cNvPr id="297" name="preview-image" descr="http://24gadget.ru/uploads/posts/2012-04/1334214054_clipboard01.jpg"/>
          <p:cNvPicPr/>
          <p:nvPr/>
        </p:nvPicPr>
        <p:blipFill>
          <a:blip r:embed="rId6"/>
          <a:stretch/>
        </p:blipFill>
        <p:spPr>
          <a:xfrm>
            <a:off x="533520" y="4114800"/>
            <a:ext cx="4190760" cy="2513160"/>
          </a:xfrm>
          <a:prstGeom prst="rect">
            <a:avLst/>
          </a:prstGeom>
          <a:ln w="0">
            <a:noFill/>
          </a:ln>
        </p:spPr>
      </p:pic>
      <p:pic>
        <p:nvPicPr>
          <p:cNvPr id="298" name="preview-image" descr="http://cartman.tv/img_104526.jpeg"/>
          <p:cNvPicPr/>
          <p:nvPr/>
        </p:nvPicPr>
        <p:blipFill>
          <a:blip r:embed="rId7"/>
          <a:stretch/>
        </p:blipFill>
        <p:spPr>
          <a:xfrm>
            <a:off x="5867280" y="4191120"/>
            <a:ext cx="2895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1" descr=""/>
          <p:cNvPicPr/>
          <p:nvPr/>
        </p:nvPicPr>
        <p:blipFill>
          <a:blip r:embed="rId1"/>
          <a:stretch/>
        </p:blipFill>
        <p:spPr>
          <a:xfrm>
            <a:off x="450720" y="-390600"/>
            <a:ext cx="8016840" cy="2987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1.Анкетировани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Час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Компьюте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Ноутбук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Термометр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Диаграмма 7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518148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C:\Users\NP300v5as05\Pictures\i3.jpg"/>
          <p:cNvPicPr/>
          <p:nvPr/>
        </p:nvPicPr>
        <p:blipFill>
          <a:blip r:embed="rId2"/>
          <a:stretch/>
        </p:blipFill>
        <p:spPr>
          <a:xfrm>
            <a:off x="1076400" y="1523880"/>
            <a:ext cx="6481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165240" y="317520"/>
            <a:ext cx="7540560" cy="115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Моя гипотеза полностью подтвердилас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Необходимость часов на сегодняшний день очевидна! Мы живём во  временном ритме, сверяя со временем каждый свой ша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Привычный прибор «часы» имеют интересную историю созд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На стене висят часы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Но они не для красы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Для того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чтоб время мери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И часам должны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мы вери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review-image" descr="http://cdn01.ru/files/users/images/16/7a/167a222fc422b82a0153999c454a94d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905120"/>
            <a:ext cx="3962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Дорожи минутой каждого дня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Сегодня, постарайся ничего не забыт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Проживи этот день не зря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Ведь завтра может не быть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Уходит сегодня во вчера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В бездне времени утопает все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Она поглощает дни навсегда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Береги, бегущее время сво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8" name="preview-image" descr="http://luxediamond.ru/wp-content/uploads/2015/01/karmannye-chasy-na-cepochke_2.jpg"/>
          <p:cNvPicPr/>
          <p:nvPr/>
        </p:nvPicPr>
        <p:blipFill>
          <a:blip r:embed="rId2"/>
          <a:stretch/>
        </p:blipFill>
        <p:spPr>
          <a:xfrm>
            <a:off x="6553080" y="2666880"/>
            <a:ext cx="2229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324000" y="109440"/>
            <a:ext cx="8648640" cy="1158840"/>
          </a:xfrm>
          <a:prstGeom prst="rect">
            <a:avLst/>
          </a:prstGeom>
          <a:ln w="0">
            <a:noFill/>
          </a:ln>
        </p:spPr>
      </p:pic>
      <p:pic>
        <p:nvPicPr>
          <p:cNvPr id="310" name="preview-image" descr="http://pp.vk.me/c413728/v413728611/2dbf/Ru_k3jSj2qM.jpg"/>
          <p:cNvPicPr/>
          <p:nvPr/>
        </p:nvPicPr>
        <p:blipFill>
          <a:blip r:embed="rId2"/>
          <a:stretch/>
        </p:blipFill>
        <p:spPr>
          <a:xfrm>
            <a:off x="1981080" y="1523880"/>
            <a:ext cx="46245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599840"/>
            <a:ext cx="830592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1. Собрать и систематизировать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материал по теме проект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2. Подготовить презентацию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 теме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Изучить историю создания такого прибора, как часы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светить тему «многообразие видов прибора для счета времени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верить свою гипотез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Trebuchet MS"/>
              </a:rPr>
              <a:t>ГИПОТЕЗА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Я считаю в современном мире без часов не обойтись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165240" y="317520"/>
            <a:ext cx="754056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1. Поисковая работ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2. Историческая справк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3. Мини – исследование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4. Вывод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5. Эпилог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858160" cy="1384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Петух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будильник и не мам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нимает утром ран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удет Петя – петуш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амый звонкий  голос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. Никитина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review-image" descr="https://thumbs.dreamstime.com/z/%D0%BF%D0%B5%D1%82%D1%83%D1%85-2462566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7524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review-image" descr="http://5klass.net/datas/okruzhajuschij-mir/Vidy-ptits/0019-019-Pevchie-ptitsy-Rossii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37160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 реки - зелёный луг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дуванчики вокруг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осами умылис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ружно приоткрылис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фонарики горят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м с тобою говорят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На часах ровно пят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жете ещё поспать!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review-image" descr="http://doctorflora.ru/img/cliparts/oduvanchik_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1752480"/>
            <a:ext cx="4114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cp:keywords/>
  <dc:language>en-US</dc:language>
  <cp:lastModifiedBy>NP300v5as05</cp:lastModifiedBy>
  <cp:lastPrinted>1899-12-30T00:00:00Z</cp:lastPrinted>
  <dcterms:modified xsi:type="dcterms:W3CDTF">2017-02-05T09:58:00Z</dcterms:modified>
  <cp:revision>5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