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8994-890E-4008-97C6-F192E383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D247-FB1C-43DB-95C4-BBA7441F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807D-BF70-41C3-9483-55D635AE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C4E4-CDB6-4311-891B-AFD73341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C417-F368-441E-97E3-4B40EC62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73C5-E08A-4D91-96AA-66E2717A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3762-62F9-4516-8EA8-B17B1E77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6DB8-DDE3-4BAA-91CD-C185F09E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433E-8668-41B1-8AF4-D3ED4106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588D-FB1C-4205-85EB-054D0754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E0B3-85BF-4652-A122-DD15C123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5751-1DC8-47B6-B2B9-9BDA1D1A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5DAB-C86A-425D-9073-108887B2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0FF3-927D-4182-AF38-AFDCBB6F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6876-496E-4241-A027-4DECA62D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9036-5782-43D1-95E5-AF0A8B02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D66B-DDEB-4836-8002-FA90D89F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44500-EAF2-4E53-8D88-F3C616DC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116C8-EA33-4CE3-B135-19291A1D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53673-D3EE-460C-8C5F-1015EAFB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5DA82-BBF5-4B06-A31F-A4FF57CB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6612D-E0B0-4D7F-BF5E-3D17C89C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D9EA-947C-429D-B495-EF299EC0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1DF57-6F27-4C83-ADC4-24C29058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4572A-6AD3-402C-BE2C-683044CF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B2CA8-646C-4F35-86DB-8229892D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3296F-5C46-4FC6-BCD9-F2F47C2E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6562E-AEC2-4C04-AA9F-F7AEA02B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69648-266F-4828-8471-9C39DBA8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C096E-8501-4E02-9897-0DF2AD52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3F55-8892-46C3-ABA8-FA2DBC94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90BD-A5E7-47D5-B9EE-6268F851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F50B-FAC4-423C-8B7D-4183063F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7D35-E70E-4883-93BC-3FDAA8E4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3C45-63E3-4E36-8110-73777328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4A2D-1E77-4EE8-A43C-DA80C736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1.png"/><Relationship Id="rId32" Type="http://schemas.openxmlformats.org/officeDocument/2006/relationships/image" Target="../media/image2.png"/><Relationship Id="rId33" Type="http://schemas.openxmlformats.org/officeDocument/2006/relationships/image" Target="../media/image3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C7FD-5443-420A-98FC-B3A285B5A0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3BB0-905D-4FCB-8A5A-5E558199E2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83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"/>
            <p:cNvSpPr/>
            <p:nvPr/>
          </p:nvSpPr>
          <p:spPr>
            <a:xfrm>
              <a:off x="0" y="432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>
              <a:off x="7953480" y="4320"/>
              <a:ext cx="1203120" cy="685332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6"/>
            <p:cNvGrpSpPr/>
            <p:nvPr/>
          </p:nvGrpSpPr>
          <p:grpSpPr>
            <a:xfrm>
              <a:off x="7848720" y="360"/>
              <a:ext cx="1295280" cy="6309720"/>
              <a:chOff x="7848720" y="360"/>
              <a:chExt cx="1295280" cy="6309720"/>
            </a:xfrm>
          </p:grpSpPr>
          <p:grpSp>
            <p:nvGrpSpPr>
              <p:cNvPr id="87" name="Group 7"/>
              <p:cNvGrpSpPr/>
              <p:nvPr/>
            </p:nvGrpSpPr>
            <p:grpSpPr>
              <a:xfrm>
                <a:off x="8381880" y="360"/>
                <a:ext cx="762120" cy="2273760"/>
                <a:chOff x="8381880" y="360"/>
                <a:chExt cx="762120" cy="2273760"/>
              </a:xfrm>
            </p:grpSpPr>
            <p:grpSp>
              <p:nvGrpSpPr>
                <p:cNvPr id="88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89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90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" name="Oval 12"/>
                  <p:cNvSpPr/>
                  <p:nvPr/>
                </p:nvSpPr>
                <p:spPr>
                  <a:xfrm rot="16200000">
                    <a:off x="8830080" y="13392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Freeform 13"/>
                  <p:cNvSpPr/>
                  <p:nvPr/>
                </p:nvSpPr>
                <p:spPr>
                  <a:xfrm rot="16200000">
                    <a:off x="8763840" y="70560"/>
                    <a:ext cx="424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14"/>
                  <p:cNvSpPr/>
                  <p:nvPr/>
                </p:nvSpPr>
                <p:spPr>
                  <a:xfrm rot="16200000">
                    <a:off x="8834760" y="579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Freeform 15"/>
                  <p:cNvSpPr/>
                  <p:nvPr/>
                </p:nvSpPr>
                <p:spPr>
                  <a:xfrm rot="16200000">
                    <a:off x="8904240" y="1076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Freeform 16"/>
                  <p:cNvSpPr/>
                  <p:nvPr/>
                </p:nvSpPr>
                <p:spPr>
                  <a:xfrm rot="16200000">
                    <a:off x="8830080" y="19584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17"/>
                  <p:cNvSpPr/>
                  <p:nvPr/>
                </p:nvSpPr>
                <p:spPr>
                  <a:xfrm rot="16200000">
                    <a:off x="8778600" y="17136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8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2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7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2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2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3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3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6" name="Group 26"/>
              <p:cNvGrpSpPr/>
              <p:nvPr/>
            </p:nvGrpSpPr>
            <p:grpSpPr>
              <a:xfrm>
                <a:off x="7848720" y="1603440"/>
                <a:ext cx="828720" cy="4706640"/>
                <a:chOff x="7848720" y="1603440"/>
                <a:chExt cx="828720" cy="4706640"/>
              </a:xfrm>
            </p:grpSpPr>
            <p:pic>
              <p:nvPicPr>
                <p:cNvPr id="107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3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80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5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8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5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7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2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2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4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5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6" name="Freeform 46"/>
            <p:cNvSpPr/>
            <p:nvPr/>
          </p:nvSpPr>
          <p:spPr>
            <a:xfrm>
              <a:off x="7953480" y="4909680"/>
              <a:ext cx="1190520" cy="193860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7"/>
            <p:cNvSpPr/>
            <p:nvPr/>
          </p:nvSpPr>
          <p:spPr>
            <a:xfrm>
              <a:off x="7939080" y="4858920"/>
              <a:ext cx="1219320" cy="199872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8"/>
            <p:cNvSpPr/>
            <p:nvPr/>
          </p:nvSpPr>
          <p:spPr>
            <a:xfrm>
              <a:off x="7927920" y="2820240"/>
              <a:ext cx="1231920" cy="40341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9"/>
            <p:cNvSpPr/>
            <p:nvPr/>
          </p:nvSpPr>
          <p:spPr>
            <a:xfrm>
              <a:off x="8010360" y="3540600"/>
              <a:ext cx="979560" cy="21826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0"/>
            <p:cNvSpPr/>
            <p:nvPr/>
          </p:nvSpPr>
          <p:spPr>
            <a:xfrm>
              <a:off x="8244000" y="431280"/>
              <a:ext cx="914400" cy="50446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51"/>
            <p:cNvSpPr/>
            <p:nvPr/>
          </p:nvSpPr>
          <p:spPr>
            <a:xfrm>
              <a:off x="8250120" y="266400"/>
              <a:ext cx="909720" cy="306936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2"/>
            <p:cNvSpPr/>
            <p:nvPr/>
          </p:nvSpPr>
          <p:spPr>
            <a:xfrm>
              <a:off x="7943760" y="4320"/>
              <a:ext cx="576360" cy="33501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3"/>
            <p:cNvSpPr/>
            <p:nvPr/>
          </p:nvSpPr>
          <p:spPr>
            <a:xfrm>
              <a:off x="7943760" y="5760"/>
              <a:ext cx="300240" cy="33505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54"/>
            <p:cNvSpPr/>
            <p:nvPr/>
          </p:nvSpPr>
          <p:spPr>
            <a:xfrm>
              <a:off x="7866000" y="5760"/>
              <a:ext cx="88920" cy="6853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5"/>
            <p:cNvSpPr/>
            <p:nvPr/>
          </p:nvSpPr>
          <p:spPr>
            <a:xfrm>
              <a:off x="7958160" y="6229800"/>
              <a:ext cx="1165320" cy="61848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56"/>
            <p:cNvSpPr/>
            <p:nvPr/>
          </p:nvSpPr>
          <p:spPr>
            <a:xfrm rot="5400000">
              <a:off x="4326480" y="3318120"/>
              <a:ext cx="6853320" cy="225360"/>
            </a:xfrm>
            <a:custGeom>
              <a:avLst/>
              <a:gdLst>
                <a:gd name="textAreaLeft" fmla="*/ 667800 w 6853320"/>
                <a:gd name="textAreaRight" fmla="*/ 6185520 w 685332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08FF-EF42-4E8B-9F2D-643DFA4CADED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79" name="WordArt 3"/>
          <p:cNvSpPr txBox="1"/>
          <p:nvPr/>
        </p:nvSpPr>
        <p:spPr>
          <a:xfrm>
            <a:off x="533520" y="1752480"/>
            <a:ext cx="8229600" cy="264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Реализация и роль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методической службы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в условиях внедрения ФГОС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80" name="TextBox 1"/>
          <p:cNvSpPr/>
          <p:nvPr/>
        </p:nvSpPr>
        <p:spPr>
          <a:xfrm>
            <a:off x="2743200" y="51055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хрутдинова Алена Ришат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 директора по 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3"/>
          <p:cNvSpPr/>
          <p:nvPr/>
        </p:nvSpPr>
        <p:spPr>
          <a:xfrm>
            <a:off x="1694880" y="762120"/>
            <a:ext cx="60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ДЕЛЬ  РЕАЛИЗАЦИИ МЕТОДИЧЕСКОЙ СЛУЖ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УСЛОВИЯХ ВНЕДРЕНИЯ ФГО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990720" y="1397160"/>
          <a:ext cx="7543800" cy="5124240"/>
        </p:xfrm>
        <a:graphic>
          <a:graphicData uri="http://schemas.openxmlformats.org/drawingml/2006/table">
            <a:tbl>
              <a:tblPr/>
              <a:tblGrid>
                <a:gridCol w="685800"/>
                <a:gridCol w="2057400"/>
                <a:gridCol w="2361960"/>
                <a:gridCol w="2438640"/>
              </a:tblGrid>
              <a:tr h="490320">
                <a:tc>
                  <a:txBody>
                    <a:bodyPr lIns="52920" rIns="52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о-метод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о-метод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о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5640">
                <a:tc>
                  <a:txBody>
                    <a:bodyPr lIns="52920" rIns="52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дрение эффективных технологий образования, способствующих реализации ФГ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профессиональной деятельности педагогов по изучению, внедрению и реализации ФГ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аналитико-диагностической и прогностической информации; текущий промежуточный контроль состояния и результативности образовательного проце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8280">
                <a:tc>
                  <a:txBody>
                    <a:bodyPr lIns="52920" rIns="529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ы, семинары-практикумы, мастер-классы, вебинары, круглые столы, научно-практические конференции, проектная деятельность, курсовая подготовка педагог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ческие чтения, научно-практические конференции, формируются электронные библиотеки, медиатеки, базы данных педагог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ирование, опросы участников образовательного процесса, экспертиза методических матери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609480" y="175248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Успеха добивается лишь </a:t>
            </a: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тот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кто действует</a:t>
            </a:r>
            <a:r>
              <a:rPr b="1" lang="ru-RU" sz="8000" spc="-1" strike="noStrike">
                <a:solidFill>
                  <a:srgbClr val="000000"/>
                </a:solidFill>
                <a:latin typeface="Monotype Corsiva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"/>
          <p:cNvSpPr/>
          <p:nvPr/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В современной конкурентной борьбе, в первую очередь, борьба идет не за обладание ресурсами, материальными ценностями, а за способность к нововведения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Б.С. Гершунск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5"/>
          <p:cNvSpPr/>
          <p:nvPr/>
        </p:nvSpPr>
        <p:spPr>
          <a:xfrm>
            <a:off x="609480" y="838080"/>
            <a:ext cx="784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деральные государственные образовательные стандарты (ФГОС) 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окупность требований, обязательных при реализации основных образовательных программ начального общего, основного общего, среднего (полного) общего, начального профессионального, среднего профессионального и высшего профессионального образования образовательными учреждениями, имеющими государственную аккредита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Oval 3"/>
          <p:cNvSpPr/>
          <p:nvPr/>
        </p:nvSpPr>
        <p:spPr>
          <a:xfrm>
            <a:off x="3276720" y="2895480"/>
            <a:ext cx="2819160" cy="150336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ти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6019920" y="3809880"/>
            <a:ext cx="2743200" cy="172080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о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2819520" y="4724280"/>
            <a:ext cx="3078000" cy="163692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ов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533520" y="3429000"/>
            <a:ext cx="2743200" cy="160020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371600" y="304920"/>
            <a:ext cx="65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ероприят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целенные на введение ФГО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3"/>
          <p:cNvSpPr/>
          <p:nvPr/>
        </p:nvSpPr>
        <p:spPr>
          <a:xfrm>
            <a:off x="5334120" y="1447920"/>
            <a:ext cx="3004920" cy="149220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"/>
          <p:cNvSpPr/>
          <p:nvPr/>
        </p:nvSpPr>
        <p:spPr>
          <a:xfrm>
            <a:off x="1066680" y="1371600"/>
            <a:ext cx="2960640" cy="150336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риаль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838080" y="609480"/>
            <a:ext cx="798696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Научный аппарат проектной работы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1905120" y="1600200"/>
            <a:ext cx="4495680" cy="259092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учение особенност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ализ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ической служб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условиях внедр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ГО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5"/>
          <p:cNvSpPr/>
          <p:nvPr/>
        </p:nvSpPr>
        <p:spPr>
          <a:xfrm>
            <a:off x="1447920" y="4114800"/>
            <a:ext cx="3311280" cy="182880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едме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ическая служб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условиях внедр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ГО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7"/>
          <p:cNvSpPr/>
          <p:nvPr/>
        </p:nvSpPr>
        <p:spPr>
          <a:xfrm>
            <a:off x="5486400" y="4114800"/>
            <a:ext cx="2514600" cy="165564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ъек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одическ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ужб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Oval 4"/>
          <p:cNvSpPr/>
          <p:nvPr/>
        </p:nvSpPr>
        <p:spPr>
          <a:xfrm>
            <a:off x="5029200" y="3657600"/>
            <a:ext cx="3733920" cy="228600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ь методическо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жбы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ях реал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6"/>
          <p:cNvSpPr/>
          <p:nvPr/>
        </p:nvSpPr>
        <p:spPr>
          <a:xfrm>
            <a:off x="1295280" y="4267080"/>
            <a:ext cx="3810240" cy="213372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мет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и зада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ой служ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лов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дрения ФГ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3"/>
          <p:cNvSpPr/>
          <p:nvPr/>
        </p:nvSpPr>
        <p:spPr>
          <a:xfrm>
            <a:off x="5334120" y="1447920"/>
            <a:ext cx="3004920" cy="205740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арактериз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ж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3"/>
          <p:cNvSpPr/>
          <p:nvPr/>
        </p:nvSpPr>
        <p:spPr>
          <a:xfrm>
            <a:off x="609480" y="1523880"/>
            <a:ext cx="4419720" cy="251460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поня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Федер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те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0"/>
          <p:cNvSpPr/>
          <p:nvPr/>
        </p:nvSpPr>
        <p:spPr>
          <a:xfrm>
            <a:off x="1676520" y="6858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дачи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Oval 3"/>
          <p:cNvSpPr/>
          <p:nvPr/>
        </p:nvSpPr>
        <p:spPr>
          <a:xfrm>
            <a:off x="2895480" y="533520"/>
            <a:ext cx="3581640" cy="152064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оретиче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4"/>
          <p:cNvSpPr/>
          <p:nvPr/>
        </p:nvSpPr>
        <p:spPr>
          <a:xfrm>
            <a:off x="5867280" y="1981080"/>
            <a:ext cx="2664000" cy="144000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ук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ческой р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5"/>
          <p:cNvSpPr/>
          <p:nvPr/>
        </p:nvSpPr>
        <p:spPr>
          <a:xfrm>
            <a:off x="1143000" y="4724280"/>
            <a:ext cx="2809800" cy="127476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 ФГ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8"/>
          <p:cNvSpPr/>
          <p:nvPr/>
        </p:nvSpPr>
        <p:spPr>
          <a:xfrm>
            <a:off x="762120" y="3352680"/>
            <a:ext cx="2881080" cy="136872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и ФГ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9"/>
          <p:cNvSpPr/>
          <p:nvPr/>
        </p:nvSpPr>
        <p:spPr>
          <a:xfrm>
            <a:off x="380880" y="2209680"/>
            <a:ext cx="2881440" cy="136872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ность ФГ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4"/>
          <p:cNvSpPr/>
          <p:nvPr/>
        </p:nvSpPr>
        <p:spPr>
          <a:xfrm>
            <a:off x="6019920" y="3276720"/>
            <a:ext cx="2663640" cy="143964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ческого сов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5181480" y="4724280"/>
            <a:ext cx="2664000" cy="144000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ческой р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Oval 3"/>
          <p:cNvSpPr/>
          <p:nvPr/>
        </p:nvSpPr>
        <p:spPr>
          <a:xfrm>
            <a:off x="2971800" y="2057400"/>
            <a:ext cx="2881440" cy="136836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ической служ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условиях внедр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3780000" y="5229360"/>
            <a:ext cx="2592360" cy="129528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ц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ической раб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5867280" y="4076640"/>
            <a:ext cx="2808360" cy="148608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ической  служ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условиях реализ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ГО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609480" y="4343400"/>
            <a:ext cx="3200400" cy="175248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оменд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зработке пл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ической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условиях внедр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5867280" y="2349360"/>
            <a:ext cx="2881440" cy="136872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ической служ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условиях внед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3276720" y="3429000"/>
            <a:ext cx="2881080" cy="136836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иче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ы в услов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дрения 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395280" y="2565360"/>
            <a:ext cx="3033720" cy="162576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иче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ы в услов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др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Г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7"/>
          <p:cNvSpPr/>
          <p:nvPr/>
        </p:nvSpPr>
        <p:spPr>
          <a:xfrm>
            <a:off x="2438280" y="304920"/>
            <a:ext cx="3733920" cy="1676160"/>
          </a:xfrm>
          <a:prstGeom prst="ellipse">
            <a:avLst/>
          </a:prstGeom>
          <a:gradFill rotWithShape="0">
            <a:gsLst>
              <a:gs pos="0">
                <a:srgbClr val="ffc533"/>
              </a:gs>
              <a:gs pos="100000">
                <a:srgbClr val="765b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следователь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7"/>
          <p:cNvSpPr/>
          <p:nvPr/>
        </p:nvSpPr>
        <p:spPr>
          <a:xfrm>
            <a:off x="914400" y="785520"/>
            <a:ext cx="7162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81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словия реализации методической служ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нения должны произойти на общешкольном уровне, т.е. «единицей» изменений будет являться весь образовательный процесс, а не отдельные его элемен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нения касаются принципиальных отличий от традиционного содержания образования, обусловливают новое содержание и способы деятельности педаго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 изменений должен строиться на основе соответствующей исследовательской и проектной деятельности педагог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нения должны носить  системный и целенаправленный характер, являться результатом постоянного обновления и саморазвития на основе периодического анализа образовательной деятельности педагога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ные изменения должны привести к новому уровню качества личностного развития личности учащихся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</cp:lastModifiedBy>
  <dcterms:modified xsi:type="dcterms:W3CDTF">2015-01-06T14:53:35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