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6FC1-B895-4609-B636-757F24463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FEA7-CB08-4883-8E6A-2B7C5FD1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E547-FB40-4F42-B357-6E9430D7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3256-A565-49CE-A6D7-B3EDFD6F9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003B-BC56-4979-ADEB-E39A6AC3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0068-35B2-4ECE-B3E5-D683F02E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331D-FFCC-4B5A-A0F5-C6F3D2A7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C8BE-5D31-4565-B50C-883CF4EB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C389-B7B0-4C66-8DA4-05A3A3C5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48B4-E457-463A-86D5-B41DEC39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F1E1-B121-4C79-9A3F-B52B06C5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B9AF-3502-4A14-B73B-0A02EEC8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3E12-FD37-4A25-8A38-FA085C47D4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murmanout.ru/places/lenin" TargetMode="External"/><Relationship Id="rId2" Type="http://schemas.openxmlformats.org/officeDocument/2006/relationships/hyperlink" Target="http://bibliotekar.ru/encMore/63.ht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ГБОУ СО «Школа-интернат АОП с. Широкий Буерак 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920" y="190476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Презентация на тему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«Мирный ато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и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логубова Ма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дряшова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7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3300"/>
                </a:solidFill>
                <a:uFillTx/>
                <a:latin typeface="Arial"/>
              </a:rPr>
              <a:t>Первая атомная электростанция.  Обнинская в 1954 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3300"/>
                </a:solidFill>
                <a:uFillTx/>
                <a:latin typeface="Arial"/>
              </a:rPr>
              <a:t>Сибирская АЭ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3300"/>
                </a:solidFill>
                <a:uFillTx/>
                <a:latin typeface="Arial"/>
              </a:rPr>
              <a:t>Воронежская АЭ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3300"/>
                </a:solidFill>
                <a:uFillTx/>
                <a:latin typeface="Arial"/>
              </a:rPr>
              <a:t>Белоярская АЭ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Источники информ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biography/petr-kapica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urmanout.ru/places/leni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ibliotekar.ru/encMore/63.ht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obninskaya-aes-pervaya-atomnaya-elektrostantsiya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Петр Кап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тр Леонидович Капица 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ыступая на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съезде КПСС в 1956 году сказал о том, что атомная энергия может быть и должна использоваться не только в военных, но и в мирных целях. После этого началось развитие новых отраслей промышл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66cc"/>
            </a:gs>
            <a:gs pos="100000">
              <a:srgbClr val="00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6000" spc="-1" strike="noStrike" u="sng">
                <a:solidFill>
                  <a:srgbClr val="3333cc"/>
                </a:solidFill>
                <a:uFillTx/>
                <a:latin typeface="Arial"/>
              </a:rPr>
              <a:t>Атомная промышленнос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3300"/>
                </a:solidFill>
                <a:uFillTx/>
                <a:latin typeface="Arial"/>
              </a:rPr>
              <a:t>Атомный ледокол «Ленин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ledokol_lenin03"/>
          <p:cNvPicPr/>
          <p:nvPr/>
        </p:nvPicPr>
        <p:blipFill>
          <a:blip r:embed="rId1"/>
          <a:stretch/>
        </p:blipFill>
        <p:spPr>
          <a:xfrm>
            <a:off x="4648320" y="685800"/>
            <a:ext cx="4495680" cy="5181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picture"/>
          <p:cNvPicPr/>
          <p:nvPr/>
        </p:nvPicPr>
        <p:blipFill>
          <a:blip r:embed="rId2"/>
          <a:stretch/>
        </p:blipFill>
        <p:spPr>
          <a:xfrm>
            <a:off x="0" y="685800"/>
            <a:ext cx="46483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3300"/>
                </a:solidFill>
                <a:uFillTx/>
                <a:latin typeface="Arial"/>
              </a:rPr>
              <a:t>Первая атомная подводная лод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r>
              <a:rPr b="1" i="1" lang="ru-RU" sz="6000" spc="-1" strike="noStrike" u="sng">
                <a:solidFill>
                  <a:srgbClr val="009900"/>
                </a:solidFill>
                <a:uFillTx/>
                <a:latin typeface="Arial"/>
              </a:rPr>
              <a:t>Атомная энерге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11-27T16:10:1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