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10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602D-86F9-468C-A8EE-EFBDDCF2A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5B5A-7192-4AE2-8A9C-63883CE19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46E1-A9E1-4F7A-8000-B688E1FA3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13CC-24CD-4724-AA96-0DA2DAFEE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2307-FD49-44F5-BC1D-FC2DBBB64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77AE-A092-4853-BA77-72842D9CE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12C2-8845-443B-A395-46E9BF250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7D55-8C8B-4E8E-AD9A-42F7D6FC7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1893-CE70-4D3C-B298-4318B0DFD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C17D-5604-4A2A-9F1A-E548498E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6E55-897D-4130-A0E4-2D2A1D391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BC9D-7BA7-489F-B400-AE2C605A0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983EF-9BA7-4255-8C4A-64A43F5D026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14240"/>
            <a:ext cx="7772400" cy="221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БОУ СО «Школа – интернат АОП с.Широкий Буерак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2492280"/>
            <a:ext cx="6440400" cy="39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Тема презент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Борьба за научное мировоззрени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ыполнил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ченица 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класс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санова Н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читель Гуськова Н.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20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i-main-pic" descr="Картинка 20 из 42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"/>
          <p:cNvSpPr/>
          <p:nvPr/>
        </p:nvSpPr>
        <p:spPr>
          <a:xfrm>
            <a:off x="500040" y="357120"/>
            <a:ext cx="5500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i-main-pic" descr="Картинка 26 из 42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i-main-pic" descr="Картинка 3 из 5347"/>
          <p:cNvPicPr/>
          <p:nvPr/>
        </p:nvPicPr>
        <p:blipFill>
          <a:blip r:embed="rId1"/>
          <a:stretch/>
        </p:blipFill>
        <p:spPr>
          <a:xfrm>
            <a:off x="785880" y="0"/>
            <a:ext cx="7358040" cy="66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i-main-pic" descr="Картинка 7 из 5347"/>
          <p:cNvPicPr/>
          <p:nvPr/>
        </p:nvPicPr>
        <p:blipFill>
          <a:blip r:embed="rId1"/>
          <a:stretch/>
        </p:blipFill>
        <p:spPr>
          <a:xfrm>
            <a:off x="0" y="0"/>
            <a:ext cx="9144000" cy="691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i-main-pic" descr="Картинка 77 из 5348"/>
          <p:cNvPicPr/>
          <p:nvPr/>
        </p:nvPicPr>
        <p:blipFill>
          <a:blip r:embed="rId1"/>
          <a:stretch/>
        </p:blipFill>
        <p:spPr>
          <a:xfrm>
            <a:off x="0" y="0"/>
            <a:ext cx="3929040" cy="6429240"/>
          </a:xfrm>
          <a:prstGeom prst="rect">
            <a:avLst/>
          </a:prstGeom>
          <a:ln w="0">
            <a:noFill/>
          </a:ln>
        </p:spPr>
      </p:pic>
      <p:pic>
        <p:nvPicPr>
          <p:cNvPr id="69" name="i-main-pic" descr="Картинка 11 из 5347"/>
          <p:cNvPicPr/>
          <p:nvPr/>
        </p:nvPicPr>
        <p:blipFill>
          <a:blip r:embed="rId2"/>
          <a:stretch/>
        </p:blipFill>
        <p:spPr>
          <a:xfrm>
            <a:off x="3929040" y="857160"/>
            <a:ext cx="521496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300px-Galileo_facing_the_Roman_Inquisition"/>
          <p:cNvPicPr/>
          <p:nvPr/>
        </p:nvPicPr>
        <p:blipFill>
          <a:blip r:embed="rId1"/>
          <a:stretch/>
        </p:blipFill>
        <p:spPr>
          <a:xfrm>
            <a:off x="500040" y="0"/>
            <a:ext cx="800100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Суд инквизиции над Галилео Галилеем"/>
          <p:cNvPicPr/>
          <p:nvPr/>
        </p:nvPicPr>
        <p:blipFill>
          <a:blip r:embed="rId1"/>
          <a:stretch/>
        </p:blipFill>
        <p:spPr>
          <a:xfrm>
            <a:off x="285840" y="214200"/>
            <a:ext cx="864396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1"/>
          <p:cNvSpPr/>
          <p:nvPr/>
        </p:nvSpPr>
        <p:spPr>
          <a:xfrm>
            <a:off x="214200" y="357120"/>
            <a:ext cx="8643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емые ресурс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А.Сухотин. Превратности научных идей. Москва «Молодая гвардия»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М.И. Блудов. Беседы по физике. - М.:Просвещение,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Б.Г, Володин, В.М. Стригин. Пути в незнаемое. Москва. Советский писатель 19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А.С. Енохович  и др.; Хрестоматия по физике 9-11 – М.: Просвещение,19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Г.Кублицкий. Весь шар земной… Москва « Детская литература» 1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Ресурсы сети Интер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213840" y="642960"/>
            <a:ext cx="42102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Картина мира – это системное и сложное образование, которое нельзя свести к какому-то одному открыти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Речь идет о ряде взаимосвязанных открытий, которые меняют отношение человека к окружающем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4"/>
          <a:stretch/>
        </p:blipFill>
        <p:spPr>
          <a:xfrm>
            <a:off x="4648320" y="1960560"/>
            <a:ext cx="4038480" cy="38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Georgia"/>
              </a:rPr>
              <a:t>Первые представления о картине мир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357120" y="1714680"/>
            <a:ext cx="286704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3571920" y="1599840"/>
            <a:ext cx="521496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eorgia"/>
              </a:rPr>
              <a:t>Представление о Земле как о центре мироздания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eorgia"/>
              </a:rPr>
              <a:t>Мир объяснялся умозрительно (у древних не было современных сложных приборов для измерений, современных методов исследования, поэтому они больше выдумывали, изобретали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1" descr="сканирование0014"/>
          <p:cNvPicPr/>
          <p:nvPr/>
        </p:nvPicPr>
        <p:blipFill>
          <a:blip r:embed="rId2"/>
          <a:stretch/>
        </p:blipFill>
        <p:spPr>
          <a:xfrm>
            <a:off x="714240" y="1674720"/>
            <a:ext cx="3643560" cy="4605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" descr="сканирование0015"/>
          <p:cNvPicPr/>
          <p:nvPr/>
        </p:nvPicPr>
        <p:blipFill>
          <a:blip r:embed="rId3"/>
          <a:stretch/>
        </p:blipFill>
        <p:spPr>
          <a:xfrm>
            <a:off x="4714920" y="1785960"/>
            <a:ext cx="3956040" cy="4525920"/>
          </a:xfrm>
          <a:prstGeom prst="rect">
            <a:avLst/>
          </a:prstGeom>
          <a:ln w="0">
            <a:noFill/>
          </a:ln>
        </p:spPr>
      </p:pic>
      <p:sp>
        <p:nvSpPr>
          <p:cNvPr id="50" name="TextBox 10"/>
          <p:cNvSpPr/>
          <p:nvPr/>
        </p:nvSpPr>
        <p:spPr>
          <a:xfrm>
            <a:off x="571680" y="285840"/>
            <a:ext cx="3643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Клавдий Птолем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1"/>
          <p:cNvSpPr/>
          <p:nvPr/>
        </p:nvSpPr>
        <p:spPr>
          <a:xfrm>
            <a:off x="4572000" y="357120"/>
            <a:ext cx="4214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Геоцентрическая система мир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b9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7" descr=""/>
          <p:cNvPicPr/>
          <p:nvPr/>
        </p:nvPicPr>
        <p:blipFill>
          <a:blip r:embed="rId1"/>
          <a:stretch/>
        </p:blipFill>
        <p:spPr>
          <a:xfrm>
            <a:off x="142920" y="2143080"/>
            <a:ext cx="5904000" cy="4572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pk_011"/>
          <p:cNvPicPr/>
          <p:nvPr/>
        </p:nvPicPr>
        <p:blipFill>
          <a:blip r:embed="rId2"/>
          <a:stretch/>
        </p:blipFill>
        <p:spPr>
          <a:xfrm>
            <a:off x="6286680" y="2000160"/>
            <a:ext cx="2643120" cy="2857680"/>
          </a:xfrm>
          <a:prstGeom prst="rect">
            <a:avLst/>
          </a:prstGeom>
          <a:ln w="0">
            <a:noFill/>
          </a:ln>
        </p:spPr>
      </p:pic>
      <p:sp>
        <p:nvSpPr>
          <p:cNvPr id="54" name="TextBox 4"/>
          <p:cNvSpPr/>
          <p:nvPr/>
        </p:nvSpPr>
        <p:spPr>
          <a:xfrm>
            <a:off x="0" y="0"/>
            <a:ext cx="60721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Monotype Corsiva"/>
              </a:rPr>
              <a:t>Система мира предложенная Коперником, называется </a:t>
            </a:r>
            <a:r>
              <a:rPr b="1" lang="ru-RU" sz="4000" spc="-1" strike="noStrike" u="sng">
                <a:solidFill>
                  <a:srgbClr val="c00000"/>
                </a:solidFill>
                <a:uFillTx/>
                <a:latin typeface="Monotype Corsiva"/>
              </a:rPr>
              <a:t>гелиоцентрической</a:t>
            </a:r>
            <a:r>
              <a:rPr b="1" lang="ru-RU" sz="4000" spc="-1" strike="noStrike">
                <a:solidFill>
                  <a:srgbClr val="c00000"/>
                </a:solidFill>
                <a:latin typeface="Monotype Corsiv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6143760" y="542916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. Копер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02_015"/>
          <p:cNvPicPr/>
          <p:nvPr/>
        </p:nvPicPr>
        <p:blipFill>
          <a:blip r:embed="rId1"/>
          <a:stretch/>
        </p:blipFill>
        <p:spPr>
          <a:xfrm>
            <a:off x="0" y="0"/>
            <a:ext cx="9144000" cy="69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revolutionibus_copernico"/>
          <p:cNvPicPr/>
          <p:nvPr/>
        </p:nvPicPr>
        <p:blipFill>
          <a:blip r:embed="rId1"/>
          <a:stretch/>
        </p:blipFill>
        <p:spPr>
          <a:xfrm>
            <a:off x="0" y="0"/>
            <a:ext cx="4929120" cy="6861240"/>
          </a:xfrm>
          <a:prstGeom prst="rect">
            <a:avLst/>
          </a:prstGeom>
          <a:ln w="0">
            <a:noFill/>
          </a:ln>
        </p:spPr>
      </p:pic>
      <p:sp>
        <p:nvSpPr>
          <p:cNvPr id="58" name="TextBox 3"/>
          <p:cNvSpPr/>
          <p:nvPr/>
        </p:nvSpPr>
        <p:spPr>
          <a:xfrm>
            <a:off x="5214960" y="2000160"/>
            <a:ext cx="32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нига Николая Копер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Файл:Nicolaus Copernicus Varsovia.jpg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5500800" y="2500200"/>
            <a:ext cx="321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Он остановил Солнце и сдвинул Землю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Портрет"/>
          <p:cNvPicPr/>
          <p:nvPr/>
        </p:nvPicPr>
        <p:blipFill>
          <a:blip r:embed="rId1"/>
          <a:stretch/>
        </p:blipFill>
        <p:spPr>
          <a:xfrm>
            <a:off x="0" y="0"/>
            <a:ext cx="608796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Box 4"/>
          <p:cNvSpPr/>
          <p:nvPr/>
        </p:nvSpPr>
        <p:spPr>
          <a:xfrm>
            <a:off x="6215040" y="35712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548-1600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4T17:26:03Z</dcterms:created>
  <dc:creator>12345</dc:creator>
  <dc:description/>
  <dc:language>en-US</dc:language>
  <cp:lastModifiedBy>user</cp:lastModifiedBy>
  <dcterms:modified xsi:type="dcterms:W3CDTF">2019-11-27T16:08:47Z</dcterms:modified>
  <cp:revision>31</cp:revision>
  <dc:subject/>
  <dc:title>Научная Картина мира  и философия о картине  мира</dc:title>
</cp:coreProperties>
</file>