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F4286-0EA8-4E36-97E0-1408088AB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47FD0-03A3-4934-9D8F-1501D35A1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05E63-777A-4BE5-82BF-6A8D00DA4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C2606-3E3C-45E5-A971-879531D31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E67FC7-0E10-4EE6-98DB-A62178897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4D7E7-A0B8-4442-9054-4F88DA37E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0A16D-8FD5-461C-88CC-46A3F8421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EE0BA-FCFA-4EFB-8C5D-D2A16E88F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A6E93-A4E7-45D3-973E-E5E7B6C52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CE0B6-5415-4FFD-B337-D08507A12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A8AB0-E6E9-40AD-89C1-C3B0340CA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9ADD9-03A9-4097-BB12-2BD7E7049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47963-DA95-4F3B-ABD3-0D27F40B4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83444-F7A8-4A54-9724-7D20F8CCF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ADA24-B89B-4774-956A-63E3FD9C7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02052-A372-4CEB-A718-5948061F5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AC048-F29B-49F7-B6CD-FBDDE54CD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F48BD-18D4-47DD-83CE-B280CC318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5BD3B-E78E-40CF-9E62-A534EB034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30725-609A-450D-8639-4BAB5A74B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591A0-F01D-454A-AC83-9ACF3D4EA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11ACA-BC32-4222-BEE7-75C5F2593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BFBA8-1AF0-45C4-A9B2-7B9DF42AB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64F26-A479-40E7-AB14-1CF988898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2596-79E6-4253-94C2-25AA2DCFF23D}"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B67D-7F8F-4B65-877D-E94107246540}" type="slidenum">
              <a:rPr b="0" lang="ru-R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6275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ГБОУ СО «Школа-интернат АОП с.Широкий Буерак»</a:t>
            </a:r>
            <a:r>
              <a:rPr b="0" lang="ru-RU" sz="4400" spc="-1" strike="noStrike">
                <a:solidFill>
                  <a:srgbClr val="ccecff"/>
                </a:solidFill>
                <a:latin typeface="Arial"/>
              </a:rPr>
              <a:t> </a:t>
            </a:r>
            <a:br>
              <a:rPr sz="4400"/>
            </a:br>
            <a:br>
              <a:rPr sz="4400"/>
            </a:br>
            <a:br>
              <a:rPr sz="4400"/>
            </a:br>
            <a:r>
              <a:rPr b="0" lang="ru-RU" sz="4800" spc="-1" strike="noStrike">
                <a:solidFill>
                  <a:srgbClr val="ccecff"/>
                </a:solidFill>
                <a:latin typeface="Arial"/>
              </a:rPr>
              <a:t>Андрей Дмитриевич Сахаров</a:t>
            </a:r>
            <a:br>
              <a:rPr sz="4800"/>
            </a:br>
            <a:br>
              <a:rPr sz="4800"/>
            </a:br>
            <a:br>
              <a:rPr sz="4800"/>
            </a:br>
            <a:r>
              <a:rPr b="0" lang="ru-RU" sz="2400" spc="-1" strike="noStrike">
                <a:solidFill>
                  <a:srgbClr val="ccecff"/>
                </a:solidFill>
                <a:latin typeface="Arial"/>
              </a:rPr>
              <a:t>Работу выполнили ученики 10 класса</a:t>
            </a:r>
            <a:br>
              <a:rPr sz="2400"/>
            </a:br>
            <a:r>
              <a:rPr b="0" lang="ru-RU" sz="2400" spc="-1" strike="noStrike">
                <a:solidFill>
                  <a:srgbClr val="ccecff"/>
                </a:solidFill>
                <a:latin typeface="Arial"/>
              </a:rPr>
              <a:t>Гладилина А. Литвинова А.</a:t>
            </a:r>
            <a:br>
              <a:rPr sz="2400"/>
            </a:br>
            <a:r>
              <a:rPr b="0" lang="ru-RU" sz="2400" spc="-1" strike="noStrike">
                <a:solidFill>
                  <a:srgbClr val="ccecff"/>
                </a:solidFill>
                <a:latin typeface="Arial"/>
              </a:rPr>
              <a:t>Учитель Кудряшова Н.В.</a:t>
            </a:r>
            <a:endParaRPr b="0" lang="en-US" sz="2400" spc="-1" strike="noStrike">
              <a:solidFill>
                <a:srgbClr val="ccecff"/>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Verdana"/>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647960" y="228600"/>
            <a:ext cx="4343400" cy="64008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В 1913 году английский писатель-фантаст и близкий друг физика Фредерика Содди Уэллса Герберт Уэллс издал свой роман «Освобожденный мир» в котором красочно описывал оружие до боли похожее на водородную бомбу. Он описывал события XX века, когда немцы бомбили Париж. Тогда над ним все посмеивались, даже великие физики. Так было ровно до конца 30-х годов, пока Отто Ган не открыл закономерности распада урана</a:t>
            </a:r>
            <a:r>
              <a:rPr b="0" lang="ru-RU" sz="2000" spc="-1" strike="noStrike">
                <a:solidFill>
                  <a:srgbClr val="ffffff"/>
                </a:solidFill>
                <a:latin typeface="Verdana"/>
              </a:rPr>
              <a:t> </a:t>
            </a:r>
            <a:endParaRPr b="0" lang="en-US" sz="2000" spc="-1" strike="noStrike">
              <a:solidFill>
                <a:srgbClr val="ffffff"/>
              </a:solidFill>
              <a:latin typeface="Verdana"/>
            </a:endParaRPr>
          </a:p>
        </p:txBody>
      </p:sp>
      <p:pic>
        <p:nvPicPr>
          <p:cNvPr id="159" name="Picture 9" descr="распад урана"/>
          <p:cNvPicPr/>
          <p:nvPr/>
        </p:nvPicPr>
        <p:blipFill>
          <a:blip r:embed="rId1"/>
          <a:stretch/>
        </p:blipFill>
        <p:spPr>
          <a:xfrm>
            <a:off x="271440" y="228600"/>
            <a:ext cx="4103640" cy="6400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52280" y="152280"/>
            <a:ext cx="8839440" cy="647712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12 августа 1953 года на полигоне в Семипалатинске была испытана первая в мире водородная бомба. Это было четвертое по счету советское испытание ядерного оружия. Мощность бомбы, которая имела секретный код «изделие РДС-6с», достигла 400 килотонн, в 20 раз больше первых атомных бомб в США и СССР. После испытания Курчатов с глубоким поклоном обратился к 32-летнему  Сахарову: «Тебе, спасителю России, спасибо!»</a:t>
            </a:r>
            <a:r>
              <a:rPr b="0" lang="ru-RU" sz="2400" spc="-1" strike="noStrike">
                <a:solidFill>
                  <a:srgbClr val="ffffff"/>
                </a:solidFill>
                <a:latin typeface="Verdana"/>
              </a:rPr>
              <a:t> </a:t>
            </a:r>
            <a:endParaRPr b="0" lang="en-US" sz="24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И уже весной 1954 года советские физики пришли к идее взрывного инициатора. Авторство идеи принадлежит Зельдовичу и Сахарову. 22 ноября 1955 года Ту-16 сбросил над Семипалатинским полигоном бомбу проектной мощности 3,6 мегатонны. Во время этих испытаний были погибшие, радиус разрушений достиг 350км, пострадал Семипалатинск</a:t>
            </a:r>
            <a:r>
              <a:rPr b="1" lang="ru-RU" sz="1600" spc="-1" strike="noStrike">
                <a:solidFill>
                  <a:srgbClr val="ffffff"/>
                </a:solidFill>
                <a:latin typeface="Verdana"/>
              </a:rPr>
              <a:t>.</a:t>
            </a:r>
            <a:r>
              <a:rPr b="0" lang="ru-RU" sz="1600" spc="-1" strike="noStrike">
                <a:solidFill>
                  <a:srgbClr val="ffffff"/>
                </a:solidFill>
                <a:latin typeface="Verdana"/>
              </a:rPr>
              <a:t>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Без имени.wm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1"/>
                    </p:tgtEl>
                  </p:cond>
                </p:stCondLst>
                <p:childTnLst>
                  <p:par>
                    <p:cTn id="3" fill="hold">
                      <p:stCondLst>
                        <p:cond evt="onClick">
                          <p:tgtEl>
                            <p:spTgt spid="16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47960" y="304560"/>
            <a:ext cx="4343400" cy="655308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Первая водородная бомба послужила причиной бурного развития советской космонавтики. После ядерных испытаний ОКБ Королева получило задание разработать межконтинентальную баллистическую ракету для этого заряда. Эта ракета, названная «семеркой», вывела в космос первый искусственный спутник Земли, на ней стартовал первый космонавт планеты Юрий Гагарин.</a:t>
            </a:r>
            <a:r>
              <a:rPr b="0" lang="ru-RU" sz="2400" spc="-1" strike="noStrike">
                <a:solidFill>
                  <a:srgbClr val="ffffff"/>
                </a:solidFill>
                <a:latin typeface="Verdana"/>
              </a:rPr>
              <a:t> </a:t>
            </a:r>
            <a:endParaRPr b="0" lang="en-US" sz="2400" spc="-1" strike="noStrike">
              <a:solidFill>
                <a:srgbClr val="ffffff"/>
              </a:solidFill>
              <a:latin typeface="Verdana"/>
            </a:endParaRPr>
          </a:p>
        </p:txBody>
      </p:sp>
      <p:pic>
        <p:nvPicPr>
          <p:cNvPr id="163" name="Picture 11" descr="гагарин"/>
          <p:cNvPicPr/>
          <p:nvPr/>
        </p:nvPicPr>
        <p:blipFill>
          <a:blip r:embed="rId1"/>
          <a:stretch/>
        </p:blipFill>
        <p:spPr>
          <a:xfrm>
            <a:off x="152280" y="1066680"/>
            <a:ext cx="4800600" cy="495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47960" y="228600"/>
            <a:ext cx="4343400" cy="64008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А.Д.Сахаров был лидером диссидентского движения. </a:t>
            </a:r>
            <a:r>
              <a:rPr b="1" lang="ru-RU" sz="2000" spc="-1" strike="noStrike">
                <a:solidFill>
                  <a:srgbClr val="ffffff"/>
                </a:solidFill>
                <a:latin typeface="Verdana"/>
              </a:rPr>
              <a:t>Диссидентское движение</a:t>
            </a:r>
            <a:r>
              <a:rPr b="0" lang="ru-RU" sz="2000" spc="-1" strike="noStrike">
                <a:solidFill>
                  <a:srgbClr val="ffffff"/>
                </a:solidFill>
                <a:latin typeface="Verdana"/>
              </a:rPr>
              <a:t>- антисоветское, антикоммунистическое движение граждан СССР с середины 70-х до середины 80-х гг. XX в. Диссиденты называли себя также "правозащитниками", "инакомыслящими". Ядром диссидентского движения стала защита прав человека. С этой целью были созданы диссидентские организации: «Инициативная группа защиты прав человека в СССР», «Комитет прав человека в СССР». За гражданскую деятельность Сахаров получил Нобелевскую премию.</a:t>
            </a:r>
            <a:endParaRPr b="0" lang="en-US" sz="2000" spc="-1" strike="noStrike">
              <a:solidFill>
                <a:srgbClr val="ffffff"/>
              </a:solidFill>
              <a:latin typeface="Verdana"/>
            </a:endParaRPr>
          </a:p>
        </p:txBody>
      </p:sp>
      <p:pic>
        <p:nvPicPr>
          <p:cNvPr id="165" name="Picture 10" descr="21997"/>
          <p:cNvPicPr/>
          <p:nvPr/>
        </p:nvPicPr>
        <p:blipFill>
          <a:blip r:embed="rId1"/>
          <a:stretch/>
        </p:blipFill>
        <p:spPr>
          <a:xfrm>
            <a:off x="228600" y="304920"/>
            <a:ext cx="4343400" cy="609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1426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Я изобрёл водородную бомбу, считая ,что тем самым укрепим могущество нашей Родины и никто никогда не посмеет напасть на   неё»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А.Д.Сахаро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чники информации</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biography/andrej-saharov.htm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foxdesign.ru › aphorism/biography/saharov.html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smotri</a:t>
            </a:r>
            <a:r>
              <a:rPr b="0" lang="ru-RU" sz="3200" spc="-1" strike="noStrike">
                <a:solidFill>
                  <a:srgbClr val="ffffff"/>
                </a:solidFill>
                <a:latin typeface="Verdana"/>
              </a:rPr>
              <a:t>.co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9-11-27T16:06:01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