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36C5-E14F-4A5B-B951-AF3B0EAC2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A939A-E0A9-4B65-8E49-3737EEC46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5B9F-9845-43F8-9570-30E92B789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27560-D8AE-41B3-BF74-8265B351B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85175-8476-4D9C-9F4A-C6302E726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E5E9C-ABCC-4FB1-9458-B8A0CE53B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F4CB2-7597-46C0-BB82-B1271CE0C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5E239-75B6-474C-B824-FE16401A2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9AF29-2B05-42F5-A045-AD23733FD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9D75E-4D6D-4905-872D-85B0ECD3A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0E21D-292B-465B-8832-5F1F6ECB2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6E8AC-2DEB-46EA-B115-CC39B5DA8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9ABC4-DB8A-44B1-988C-A49CF8F20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2B091-4400-491C-9BF2-8007A9783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24BB1-2638-4B19-A452-14D05842B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EF8FC-5E4F-42B3-B9EE-982B024EE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E9187-50B3-45DE-86DE-1C88E9A15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4E15B2-308E-4E7F-AB5B-03AD1792A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261E4B-5272-4496-B503-35F4D9DC5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7209CE-BA50-43E2-8F54-66F5C168F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8C597C-0734-4AF4-9D50-20E21BAB8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A59AC6-A27E-4B0E-91DD-27F52A0BC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25D4-80E7-4D78-BFF4-39902DDD9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A0C5B4-8B22-49D8-847D-A48C476D6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0511FC-7AE0-4F1D-A517-18581DCDB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C0167D-4D52-422E-AA96-A1A8C318E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368EE2-1D7A-4C5D-92AE-00C9E53F7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FD479B-8B69-4252-BD85-9CF82D332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9ED933-2830-49DA-B1D8-B4DC9D120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C527BA-954D-4DA5-A755-8FAC1F403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4D785A-355C-4795-94B7-38B6320D9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68CFDF-7E12-4CAF-B2A9-B30D59B6C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832521-46AD-47CE-BB23-D244BD7FF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82757-47BE-4302-9D5E-1254952FC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D817C6-DD66-44C7-8744-9720458CC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B8732C-28EE-4F6C-88CA-C20C989DE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995382-191F-4D3F-A926-3B79FD779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DFC961-FA2B-4BDF-876F-DF4836DCE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705E6E-4241-4153-ADD2-4157D7B7E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C14D04-79C4-4EDC-A8CD-E283A20B9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0DB729-F63F-4F03-AEB1-314A2C3B8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3AB5D9-B921-4AA5-BE51-C731E2BD3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9E105D-A62C-4786-A67C-7B42304F4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AE53A1-E7B9-4161-B633-3AF6A6498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EF057-5EC5-4925-8A16-BB7C6A907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9D54BD-CBC5-4784-A3A2-FCD77DA50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50F6E3-2850-4B02-8886-D893DD880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606C98-CDD8-4ABF-AAA3-63B541BA9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22C73A-57CF-49C6-9419-A793B148B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732385-03C2-4820-A1EE-56E8BF424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EBD775-C555-4B76-BDC0-183C1E232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23C970-DB9B-472B-B380-92B643102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FB963E-3006-4C47-AECE-5E4B9BC3D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11B462-EAAE-4B14-8C48-12D74D352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3C0B8C-6478-4167-ACD0-1419228B1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8F969-B626-4CEB-87F9-F823EF863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420934-3A8B-43B9-B610-D25285D53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DF45C-5BC6-4742-AFAD-7D941E1B4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53E9B-171A-4562-BF1E-E5685C87B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AE731-2A16-4825-91A6-39EE9BB3E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82036-2617-495F-AA69-D6919308C5B5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22AB7-ED1D-4A73-8107-6E1C561A6B3C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8EC46-D1B7-4A3F-A5CF-3A5C680C61B5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98F5F-DF76-498C-980A-13ACBB9C7B78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28A1A-793E-4819-98D1-3F5B845FA7D5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rebuchet MS"/>
              </a:rPr>
              <a:t>Современные технологии 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4876920" y="4114800"/>
            <a:ext cx="39621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24456"/>
                </a:solidFill>
                <a:latin typeface="Georgia"/>
              </a:rPr>
              <a:t>В</a:t>
            </a:r>
            <a:r>
              <a:rPr b="0" lang="ru-RU" sz="2000" spc="-1" strike="noStrike">
                <a:solidFill>
                  <a:srgbClr val="424456"/>
                </a:solidFill>
                <a:latin typeface="Arial"/>
              </a:rPr>
              <a:t>ыполнили ученики 11 класса</a:t>
            </a:r>
            <a:r>
              <a:rPr b="0" lang="ru-RU" sz="2400" spc="-1" strike="noStrike">
                <a:solidFill>
                  <a:srgbClr val="424456"/>
                </a:solidFill>
                <a:latin typeface="Georgia"/>
              </a:rPr>
              <a:t> </a:t>
            </a:r>
            <a:r>
              <a:rPr b="0" lang="ru-RU" sz="2000" spc="-1" strike="noStrike">
                <a:solidFill>
                  <a:srgbClr val="424456"/>
                </a:solidFill>
                <a:latin typeface="Georgia"/>
              </a:rPr>
              <a:t>. </a:t>
            </a:r>
            <a:r>
              <a:rPr b="0" lang="ru-RU" sz="2000" spc="-1" strike="noStrike">
                <a:solidFill>
                  <a:srgbClr val="424456"/>
                </a:solidFill>
                <a:latin typeface="Arial"/>
              </a:rPr>
              <a:t>Кудряшова Е, Волков А</a:t>
            </a:r>
            <a:r>
              <a:rPr b="0" lang="ru-RU" sz="2400" spc="-1" strike="noStrike">
                <a:solidFill>
                  <a:srgbClr val="424456"/>
                </a:solidFill>
                <a:latin typeface="Arial"/>
              </a:rPr>
              <a:t> </a:t>
            </a:r>
            <a:br>
              <a:rPr sz="2400"/>
            </a:br>
            <a:r>
              <a:rPr b="0" lang="ru-RU" sz="2000" spc="-1" strike="noStrike">
                <a:solidFill>
                  <a:srgbClr val="424456"/>
                </a:solidFill>
                <a:latin typeface="Georgia"/>
              </a:rPr>
              <a:t>Учитель. Гуськова Н. И.</a:t>
            </a:r>
            <a:r>
              <a:rPr b="0" lang="ru-RU" sz="2400" spc="-1" strike="noStrike">
                <a:solidFill>
                  <a:srgbClr val="424456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TextBox 5"/>
          <p:cNvSpPr/>
          <p:nvPr/>
        </p:nvSpPr>
        <p:spPr>
          <a:xfrm>
            <a:off x="1066680" y="304920"/>
            <a:ext cx="693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0f0"/>
                </a:solidFill>
                <a:latin typeface="Arial"/>
              </a:rPr>
              <a:t>ГБОУ СО «Школа – интернат АОП</a:t>
            </a:r>
            <a:r>
              <a:rPr b="0" i="1" lang="ru-RU" sz="1800" spc="-1" strike="noStrike">
                <a:solidFill>
                  <a:srgbClr val="00b0f0"/>
                </a:solidFill>
                <a:latin typeface="Arial"/>
              </a:rPr>
              <a:t> с.  Широкий  Буерак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Box 6"/>
          <p:cNvSpPr/>
          <p:nvPr/>
        </p:nvSpPr>
        <p:spPr>
          <a:xfrm>
            <a:off x="3733920" y="601992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017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Идеальный переводчик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Georgia"/>
              </a:rPr>
              <a:t>Управление перспективных исследований 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Georgia"/>
              </a:rPr>
              <a:t>Министерства обороны США (DARPA) потратило 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Georgia"/>
              </a:rPr>
              <a:t>уйму времени и денег на создание идеального 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Georgia"/>
              </a:rPr>
              <a:t>переводчика. Теперь Пентагон смотрит ещё дальше: 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Georgia"/>
              </a:rPr>
              <a:t>ему нужен робот, который способен понимать все 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Georgia"/>
              </a:rPr>
              <a:t>виды языков, а к тому же ещё и думать 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Georgia"/>
              </a:rPr>
              <a:t>самостоятельно. Да, C-3PO. По всей видимости, 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Georgia"/>
              </a:rPr>
              <a:t>США планируют войну там, где говорят на совсем уж 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Georgia"/>
              </a:rPr>
              <a:t>экзотических языках…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Georgia"/>
              </a:rPr>
              <a:t>На</a:t>
            </a:r>
            <a:r>
              <a:rPr b="1" lang="en-US" sz="1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1000" spc="-1" strike="noStrike">
                <a:solidFill>
                  <a:srgbClr val="000000"/>
                </a:solidFill>
                <a:latin typeface="Georgia"/>
              </a:rPr>
              <a:t>проект</a:t>
            </a:r>
            <a:r>
              <a:rPr b="1" lang="en-US" sz="1000" spc="-1" strike="noStrike">
                <a:solidFill>
                  <a:srgbClr val="000000"/>
                </a:solidFill>
                <a:latin typeface="Georgia"/>
              </a:rPr>
              <a:t> BOLT (Broad Operational Language 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Georgia"/>
              </a:rPr>
              <a:t>Translation) </a:t>
            </a:r>
            <a:r>
              <a:rPr b="1" lang="ru-RU" sz="1000" spc="-1" strike="noStrike">
                <a:solidFill>
                  <a:srgbClr val="000000"/>
                </a:solidFill>
                <a:latin typeface="Georgia"/>
              </a:rPr>
              <a:t>выделено</a:t>
            </a:r>
            <a:r>
              <a:rPr b="1" lang="en-US" sz="1000" spc="-1" strike="noStrike">
                <a:solidFill>
                  <a:srgbClr val="000000"/>
                </a:solidFill>
                <a:latin typeface="Georgia"/>
              </a:rPr>
              <a:t> $15 </a:t>
            </a:r>
            <a:r>
              <a:rPr b="1" lang="ru-RU" sz="1000" spc="-1" strike="noStrike">
                <a:solidFill>
                  <a:srgbClr val="000000"/>
                </a:solidFill>
                <a:latin typeface="Georgia"/>
              </a:rPr>
              <a:t>млн</a:t>
            </a:r>
            <a:r>
              <a:rPr b="1" lang="en-US" sz="1000" spc="-1" strike="noStrike">
                <a:solidFill>
                  <a:srgbClr val="000000"/>
                </a:solidFill>
                <a:latin typeface="Georgia"/>
              </a:rPr>
              <a:t>. </a:t>
            </a:r>
            <a:r>
              <a:rPr b="1" lang="ru-RU" sz="1000" spc="-1" strike="noStrike">
                <a:solidFill>
                  <a:srgbClr val="000000"/>
                </a:solidFill>
                <a:latin typeface="Georgia"/>
              </a:rPr>
              <a:t>Слово «робот» 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Georgia"/>
              </a:rPr>
              <a:t>употреблено не напрасно: машина должна уметь 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Georgia"/>
              </a:rPr>
              <a:t>использовать не только лингвистическую, но и 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Georgia"/>
              </a:rPr>
              <a:t>визуальную и тактильную информацию, чтобы 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Georgia"/>
              </a:rPr>
              <a:t>«автоматически рассуждать о языке». Датчики будут 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Georgia"/>
              </a:rPr>
              <a:t>способны распознавать 250 объектов и 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Georgia"/>
              </a:rPr>
              <a:t>«последовательности из 100 действий для 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Georgia"/>
              </a:rPr>
              <a:t>выполнения сложных команд».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Georgia"/>
              </a:rPr>
              <a:t>Устройство должно обеспечивать перевод разговора двух 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Georgia"/>
              </a:rPr>
              <a:t>человек (например, американца и жителя арабской 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Georgia"/>
              </a:rPr>
              <a:t>глубинки) на 90% на всех уровнях (текст или живая речь). 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Georgia"/>
              </a:rPr>
              <a:t>Кроме того, звёздно-полосатый C-3PO должен уметь 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Georgia"/>
              </a:rPr>
              <a:t>выполнять голосовые команды на других языках для 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Georgia"/>
              </a:rPr>
              <a:t>работы с электронной почтой и прочими приложениями.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74" name="Picture 15" descr="Пентагон замыслил создать C-3PO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3773520"/>
          </a:xfrm>
          <a:prstGeom prst="rect">
            <a:avLst/>
          </a:prstGeom>
          <a:ln w="0">
            <a:noFill/>
          </a:ln>
        </p:spPr>
      </p:pic>
      <p:sp>
        <p:nvSpPr>
          <p:cNvPr id="275" name="Rectangle 14"/>
          <p:cNvSpPr/>
          <p:nvPr/>
        </p:nvSpPr>
        <p:spPr>
          <a:xfrm>
            <a:off x="6561000" y="2878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Телефон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Georgia"/>
              </a:rPr>
              <a:t>Сотовый телефон, которому для работы не 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Georgia"/>
              </a:rPr>
              <a:t>требуется сотовая сеть - это единственный шанс 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Georgia"/>
              </a:rPr>
              <a:t>сделать звонок или подключиться к сети Интернет в 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Georgia"/>
              </a:rPr>
              <a:t>тех местах, где полностью отсутствует 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Georgia"/>
              </a:rPr>
              <a:t>инфраструктура и не ловится сигнал сотовых вышек. 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Georgia"/>
              </a:rPr>
              <a:t>В Австралии разработали новую систему связи 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Georgia"/>
              </a:rPr>
              <a:t>Serval, позволяющуюмобильным телефонам 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Georgia"/>
              </a:rPr>
              <a:t>работать в таких условиях. Инновационная 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Georgia"/>
              </a:rPr>
              <a:t>технология была названа в честь сервала - большой 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Georgia"/>
              </a:rPr>
              <a:t>африканской кошки, которая благодаря своему 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Georgia"/>
              </a:rPr>
              <a:t>исключительно чуткому слуху может улавливать 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Georgia"/>
              </a:rPr>
              <a:t>ультразвуковые сигналы, издаваемые ее жертвами.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Georgia"/>
              </a:rPr>
              <a:t>Применяемая технология получила название Mesh 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Georgia"/>
              </a:rPr>
              <a:t>networking. Каждый аппарат при этом выполняет не 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Georgia"/>
              </a:rPr>
              <a:t>только абонентские функции, но и функции 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Georgia"/>
              </a:rPr>
              <a:t>ретранслятора-маршрутизатора. Телефоны, 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Georgia"/>
              </a:rPr>
              <a:t>подключенные к Serval, автоматически распознают 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Georgia"/>
              </a:rPr>
              <a:t>друг друга и замещают узлы в сети, когда один из них 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Georgia"/>
              </a:rPr>
              <a:t>отключается. При этом звонки осуществляются по 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Georgia"/>
              </a:rPr>
              <a:t>обычным номерам. Связь между узлами 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Georgia"/>
              </a:rPr>
              <a:t>поддерживается с использованием WiFi.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78" name="Picture 7" descr="Создан сотовый телефон, которому не требуется сотовая сеть"/>
          <p:cNvPicPr/>
          <p:nvPr/>
        </p:nvPicPr>
        <p:blipFill>
          <a:blip r:embed="rId1"/>
          <a:stretch/>
        </p:blipFill>
        <p:spPr>
          <a:xfrm>
            <a:off x="5029200" y="1295280"/>
            <a:ext cx="31240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Эластичный экран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Georgia"/>
              </a:rPr>
              <a:t>Группа исследователей, включающая специалистов 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Georgia"/>
              </a:rPr>
              <a:t>из Университета Осаки (Япония), 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Georgia"/>
              </a:rPr>
              <a:t>продемонстрировала оригинальный интерфейс 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Georgia"/>
              </a:rPr>
              <a:t>управления для сенсорных экранов. Обычно при 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Georgia"/>
              </a:rPr>
              <a:t>сдвиге картинки на дисплее какая-то её часть уходит 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Georgia"/>
              </a:rPr>
              <a:t>из вида. Предложенная методика основана на идее 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Georgia"/>
              </a:rPr>
              <a:t>придания изображению «эластичности». Работает 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Georgia"/>
              </a:rPr>
              <a:t>система следующим образом: при перемещении, 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Georgia"/>
              </a:rPr>
              <a:t>скажем, карты на экране при помощи пальца часть 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Georgia"/>
              </a:rPr>
              <a:t>изображения «сжимается», оставаясь при этом 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Georgia"/>
              </a:rPr>
              <a:t>видимой, а не скрываясь за краями дисплея.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Georgia"/>
              </a:rPr>
              <a:t>Если пользователь убирает палец от сенсорной 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Georgia"/>
              </a:rPr>
              <a:t>панели, то трансформированная часть картинки 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Georgia"/>
              </a:rPr>
              <a:t>«разглаживается» и, как в случае с обычными 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Georgia"/>
              </a:rPr>
              <a:t>интерфейсами управления, исчезает из зоны 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Georgia"/>
              </a:rPr>
              <a:t>видимости. Если же пользователь понял, что 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Georgia"/>
              </a:rPr>
              <a:t>сдвинул изображение не в том направлении, он 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Georgia"/>
              </a:rPr>
              <a:t>может быстро вернуться к исходной позиции, 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Georgia"/>
              </a:rPr>
              <a:t>передвинув палец обратно. Кроме того, надавив на 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Georgia"/>
              </a:rPr>
              <a:t>«сжатую» область, вы уменьшите масштаб таким 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Georgia"/>
              </a:rPr>
              <a:t>образом, чтобы можно было видеть одновременно и 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Georgia"/>
              </a:rPr>
              <a:t>изначальную, и новую позицию на карте.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81" name="Picture 7" descr="Разработан «эластичный» интерфейс для сенсорных дисплеев"/>
          <p:cNvPicPr/>
          <p:nvPr/>
        </p:nvPicPr>
        <p:blipFill>
          <a:blip r:embed="rId1"/>
          <a:stretch/>
        </p:blipFill>
        <p:spPr>
          <a:xfrm>
            <a:off x="4648320" y="1752480"/>
            <a:ext cx="4038480" cy="329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Подводные лодки невидимые для гидроакустических приборов 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Georgia"/>
              </a:rPr>
              <a:t>Исследователи из Иллинойского 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Georgia"/>
              </a:rPr>
              <a:t>университета создали особое покрытие для 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Georgia"/>
              </a:rPr>
              <a:t>подводных лодок, которое позволит сделать 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Georgia"/>
              </a:rPr>
              <a:t>их полностью невидимыми для сонаров и 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Georgia"/>
              </a:rPr>
              <a:t>других гидроакустических приборов, 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Georgia"/>
              </a:rPr>
              <a:t>работающих на ультразвуке. Как сообщает 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Georgia"/>
              </a:rPr>
              <a:t>DefPro, новое покрытие вместо того, чтобы 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Georgia"/>
              </a:rPr>
              <a:t>поглощать часть звуковых  волн, отклоняет 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Georgia"/>
              </a:rPr>
              <a:t>их, благодаря чему объект в воде становится 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Georgia"/>
              </a:rPr>
              <a:t>незаметным для сонаров.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Georgia"/>
              </a:rPr>
              <a:t>Ведущим проекта является профессор 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Georgia"/>
              </a:rPr>
              <a:t>механики и проектирования Николас Фэнг 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Georgia"/>
              </a:rPr>
              <a:t>(Nicholas Fang). Под его руководством в 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Georgia"/>
              </a:rPr>
              <a:t>университете был проведен опыт: инженеры 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Georgia"/>
              </a:rPr>
              <a:t>покрыли новым материалом металлический 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Georgia"/>
              </a:rPr>
              <a:t>цилиндр и опустили его в бассейн с водой. С 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Georgia"/>
              </a:rPr>
              <a:t>одной стороны бассейна был размещен 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Georgia"/>
              </a:rPr>
              <a:t>ультразвуковой излучатель, а с другой – 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Georgia"/>
              </a:rPr>
              <a:t>регистрирующее оборудование. В ходе 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Georgia"/>
              </a:rPr>
              <a:t>эксперимента, сенсоры не обнаружили в 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Georgia"/>
              </a:rPr>
              <a:t>бассейне никаких предметов.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84" name="Picture 7" descr="Подводные лодки станут полностью невидимыми для сонаров "/>
          <p:cNvPicPr/>
          <p:nvPr/>
        </p:nvPicPr>
        <p:blipFill>
          <a:blip r:embed="rId1"/>
          <a:stretch/>
        </p:blipFill>
        <p:spPr>
          <a:xfrm>
            <a:off x="5181480" y="1981080"/>
            <a:ext cx="335304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Портативный музыкальный плеер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Georgia"/>
              </a:rPr>
              <a:t>Исследователи из NEC разработали весьма 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Georgia"/>
              </a:rPr>
              <a:t>необычную систему под названием 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Georgia"/>
              </a:rPr>
              <a:t>ArmKeypad, предназначенную для 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Georgia"/>
              </a:rPr>
              <a:t>управления портативным музыкальным 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Georgia"/>
              </a:rPr>
              <a:t>плеером. Идея в том, чтобы позволить 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Georgia"/>
              </a:rPr>
              <a:t>перематывать треки, изменять уровень 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Georgia"/>
              </a:rPr>
              <a:t>громкости и приостанавливать/запускать 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Georgia"/>
              </a:rPr>
              <a:t>воспроизведение путём похлопывания 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Georgia"/>
              </a:rPr>
              <a:t>ладонями — друг о друга, о предплечья или 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Georgia"/>
              </a:rPr>
              <a:t>плечи. Это позволит отказаться от 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Georgia"/>
              </a:rPr>
              <a:t>традиционных кнопок и сенсорных панелей, 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Georgia"/>
              </a:rPr>
              <a:t>пользоваться которыми иногда не совсем 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Georgia"/>
              </a:rPr>
              <a:t>удобно — скажем, во время пробежек или 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Georgia"/>
              </a:rPr>
              <a:t>занятий спортом.В основу системы положен 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Georgia"/>
              </a:rPr>
              <a:t>трёхосевой акселерометр. ArmKeypad 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Georgia"/>
              </a:rPr>
              <a:t>распознаёт, какой рукой и в каком месте хлопнул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Georgia"/>
              </a:rPr>
              <a:t>по своему телу пользователь, 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Georgia"/>
              </a:rPr>
              <a:t>и отправляет полученные команды на плеер 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Georgia"/>
              </a:rPr>
              <a:t>посредством беспроводной связи Bluetooth. 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Georgia"/>
              </a:rPr>
              <a:t>Исследователи отмечают, что точность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Georgia"/>
              </a:rPr>
              <a:t>распознавания во время бега достигает 96 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Georgia"/>
              </a:rPr>
              <a:t>процентов.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87" name="Picture 7" descr="NEC предлагает управлять аудиоплеером похлопываниями по телу"/>
          <p:cNvPicPr/>
          <p:nvPr/>
        </p:nvPicPr>
        <p:blipFill>
          <a:blip r:embed="rId1"/>
          <a:stretch/>
        </p:blipFill>
        <p:spPr>
          <a:xfrm>
            <a:off x="4648320" y="1828800"/>
            <a:ext cx="4038480" cy="34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Цифровой фотоаппарат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Georgia"/>
              </a:rPr>
              <a:t>Инженеры японской компании NEC вот уже почти 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Georgia"/>
              </a:rPr>
              <a:t>четыре года заглядывают в будущее цифровой 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Georgia"/>
              </a:rPr>
              <a:t>фотографии и заодно демонстрируют её 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Georgia"/>
              </a:rPr>
              <a:t>«послезавтрашний день» простым смертным, возя по 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Georgia"/>
              </a:rPr>
              <a:t>выставкам прототип 180-градусной панорамной 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Georgia"/>
              </a:rPr>
              <a:t>цифровой камеры NEC Dew (англ. «роса»). И, 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Georgia"/>
              </a:rPr>
              <a:t>разумеется, постоянно «шлифуя» его.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Georgia"/>
              </a:rPr>
              <a:t>Почти доведённого до ума (хотелось бы верить) 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Georgia"/>
              </a:rPr>
              <a:t>изделие выглядит этаким дамским хайтек-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Georgia"/>
              </a:rPr>
              <a:t>украшением: небольшая блестящая сфера-глаз с 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Georgia"/>
              </a:rPr>
              <a:t>ремешком для ношения на шее. Камера снимает всё, 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Georgia"/>
              </a:rPr>
              <a:t>что отражается от её поверхности; разработчики 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Georgia"/>
              </a:rPr>
              <a:t>посчитали, что поэтому NEC Dew уместнее всего 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Georgia"/>
              </a:rPr>
              <a:t>сравнить с каплей воды, которая тоже представляет 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Georgia"/>
              </a:rPr>
              <a:t>собой миниатюрное панорамное зеркало.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Georgia"/>
              </a:rPr>
              <a:t>Но эстетический аспект здесь не очень-то и важен. 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Georgia"/>
              </a:rPr>
              <a:t>Суть в другом. NEC Dew способна распознавать 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Georgia"/>
              </a:rPr>
              <a:t>эмоции людей и даже прислушиваться к их речи: 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Georgia"/>
              </a:rPr>
              <a:t>камера фиксирует жесты и умеет оценивать 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Georgia"/>
              </a:rPr>
              <a:t>эмоциональную окраску голоса с помощью системы 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Georgia"/>
              </a:rPr>
              <a:t>фирмы AGI. Кроме того, нынешний прототип NEC 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Georgia"/>
              </a:rPr>
              <a:t>Dew способен спускать затвор тогда, когда эмоции 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Georgia"/>
              </a:rPr>
              <a:t>человека изменяются: например, командой к 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Georgia"/>
              </a:rPr>
              <a:t>фотографированию может послужить внезапный смех.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90" name="Picture 7" descr="NEC Dew: цифровая камера послезавтрашнего дня"/>
          <p:cNvPicPr/>
          <p:nvPr/>
        </p:nvPicPr>
        <p:blipFill>
          <a:blip r:embed="rId1"/>
          <a:stretch/>
        </p:blipFill>
        <p:spPr>
          <a:xfrm>
            <a:off x="4648320" y="1676520"/>
            <a:ext cx="4038480" cy="38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9-11-27T16:12:47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