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4638-9236-411D-94C7-35779C1E6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F63F-DD63-4769-94C6-25FEF82D3E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E782-44EB-413D-8707-4CE108D63D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F4E2-38A2-4591-9B7A-D2F81FD642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B4F5-650E-4BAB-A034-A624B8EAE5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77B5-2D5A-46EF-9911-1EC7F3BA2D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24A4-DBB0-4DF2-9EC7-66198439C3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EF0B-32D5-4DBD-9BFE-A872DBD24A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EB97-4276-4906-9AC7-012D039B92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4AAA-DFE8-47F0-BFCA-F88C1E5BC7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2EA0-6F24-4B29-8BB2-9BB86BECAE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0039-1549-426A-9AA4-DC08756467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D944-0161-4EDE-B411-40432693B2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EE0D-9878-4324-BE34-632BBFA4B8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42A4-AD2B-4ADF-9DFF-2F40116CE9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58A6-9D39-4A0E-BD43-EB582EDD01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D14D-E627-4C5E-92FB-9E6F0B01E1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7417-2D33-4383-9528-72952B4373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2794-3338-4689-B06C-4C333D56DB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AE46-6499-406C-880A-3FDD2F81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5F5D-265D-46B2-8969-08FBDB26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704CE-AE54-4528-8FAE-E2932CE4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4952-FAA8-4878-8EBE-B0E06C9B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AED4-EC04-4127-A9D6-45B771D4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B065-F936-4803-BF20-F32A8BC1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D9E0-E302-460F-9CCA-180C8E7E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BD14-CDDE-4401-BF43-2F99C1BA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F634-8B00-4879-9C64-9392650C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F835-F6C8-4399-A93B-7CE72658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143E-E776-4B5A-B0D4-FF06F0F7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FB7A-B607-4E32-B2C9-FE6023B4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B867-5D15-49AC-A83E-A0A70938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B619-2469-4146-A56D-80366C64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FC23-5C89-4E17-AD9B-F6B06FD0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A92E-9476-43C9-9B64-2153DE46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90BC-5F30-4BE3-A833-3EA5710E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4EE9-3E94-43C4-9F8F-450593E6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86BC3-108F-4722-AFB7-4AAC533C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0E1F8-811B-4CEE-9C19-F06EE3DB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9F8A-0C4A-4A1C-BC83-73037E55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7B5F-F87D-4FE1-A55C-1590558E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07C2-49AC-47E3-A9B8-D8262677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189F3-5810-4B7F-953D-CB3015AD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66BD-016B-4E12-858F-8B71E4CFB5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3158-EE27-4BCB-82EC-F733705642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federalspace.ru/" TargetMode="External"/><Relationship Id="rId2" Type="http://schemas.openxmlformats.org/officeDocument/2006/relationships/hyperlink" Target="http://www.esa.int/esaCP/index.html" TargetMode="External"/><Relationship Id="rId3" Type="http://schemas.openxmlformats.org/officeDocument/2006/relationships/hyperlink" Target="http://www.nasa.gov/home/index.html" TargetMode="External"/><Relationship Id="rId4" Type="http://schemas.openxmlformats.org/officeDocument/2006/relationships/hyperlink" Target="http://www.astronaut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Arial"/>
              </a:rPr>
              <a:t>ГБОУ СО «Школа- интернат АОП с.Широкий Буерак»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презентации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ировая история освоения космос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и 11 клас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вришов Е., Данилин 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17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29272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7" descr="308b8760c13f5e6bfdc45222479"/>
          <p:cNvPicPr/>
          <p:nvPr/>
        </p:nvPicPr>
        <p:blipFill>
          <a:blip r:embed="rId1"/>
          <a:stretch/>
        </p:blipFill>
        <p:spPr>
          <a:xfrm>
            <a:off x="395280" y="333360"/>
            <a:ext cx="5138640" cy="61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643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.04.196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6" descr="163711312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525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gagarin"/>
          <p:cNvPicPr/>
          <p:nvPr/>
        </p:nvPicPr>
        <p:blipFill>
          <a:blip r:embed="rId2"/>
          <a:stretch/>
        </p:blipFill>
        <p:spPr>
          <a:xfrm>
            <a:off x="900000" y="3789360"/>
            <a:ext cx="341496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492360" y="0"/>
            <a:ext cx="565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40792648_1236628510_gagarin_skaf"/>
          <p:cNvPicPr/>
          <p:nvPr/>
        </p:nvPicPr>
        <p:blipFill>
          <a:blip r:embed="rId1"/>
          <a:stretch/>
        </p:blipFill>
        <p:spPr>
          <a:xfrm>
            <a:off x="0" y="0"/>
            <a:ext cx="3809880" cy="308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2"/>
          <p:cNvPicPr/>
          <p:nvPr/>
        </p:nvPicPr>
        <p:blipFill>
          <a:blip r:embed="rId2"/>
          <a:stretch/>
        </p:blipFill>
        <p:spPr>
          <a:xfrm>
            <a:off x="468360" y="2924280"/>
            <a:ext cx="311616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gagarin.avi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605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67268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8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8900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«Леонов в космосе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spaceman.avi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31134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evt="end">
                                        <p:tn val="280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evt="end">
                                        <p:tn val="286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BT001395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597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481280"/>
            <a:ext cx="9144000" cy="2376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moon4"/>
          <p:cNvPicPr/>
          <p:nvPr/>
        </p:nvPicPr>
        <p:blipFill>
          <a:blip r:embed="rId2"/>
          <a:stretch/>
        </p:blipFill>
        <p:spPr>
          <a:xfrm>
            <a:off x="0" y="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ДиДюЛ-Каметы хвост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0" y="4869000"/>
            <a:ext cx="9144000" cy="1923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901960" cy="3429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 — 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План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1 Введение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2 Важнейшие этапы освоения космоса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3 Ракеты-носители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4 Вывод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5 Ссыл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0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374472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Garamond"/>
              </a:rPr>
              <a:t>Марсох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0"/>
            <a:ext cx="42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4" descr="marsohods"/>
          <p:cNvPicPr/>
          <p:nvPr/>
        </p:nvPicPr>
        <p:blipFill>
          <a:blip r:embed="rId1"/>
          <a:stretch/>
        </p:blipFill>
        <p:spPr>
          <a:xfrm>
            <a:off x="4284720" y="1557360"/>
            <a:ext cx="4859280" cy="42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859280" y="188640"/>
            <a:ext cx="42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4788000" y="0"/>
            <a:ext cx="4356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также подразделяют на предназначенные для пилотируемых и для беспилотных полётов. Ракеты для пилотируемых полётов должны обладать бо́льшей надёжностью (также на них устанавливается система аварийного спасения); допустимое ускорение для них ограничено перегрузками, которые выдерживает человек. По этим причинам ракеты для пилотируемых полётов менее эффективны; тем не менее, из соображений унификации их нередко используют и для запуска беспилотных аппара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вой ракетой-носителем, доставившей груз на орбиту, была советская Р-7 (1957 г.). В настоящее время самая мощная ракета в мире — американский «Спейс Шаттл». Самая мощная российская ракета-носитель на данный момент это «Протон-М», позволяющая выводить на низкую околоземную орбиту до 22 тонн полезного груза. В прошлом стартовали и более мощные ракеты, такие как советские «Н-1» и «Энергия» или американская «Сатурн V». Однако ни одна из этих ракет в настоящее время не производит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Ракеты носи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0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375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384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полнительную информацию вы можете найти по этим интеренет-адресам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federalspace.ru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esa.int/esaCP/index.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www.nasa.gov/home/index.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http://www.astronaut.ru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АЖНЕЙШИЕ ЭТАП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1104840" cy="159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1547640" y="0"/>
            <a:ext cx="2232360" cy="1541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4206960" y="0"/>
            <a:ext cx="1463760" cy="155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6145200" y="0"/>
            <a:ext cx="1317600" cy="155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Безымянный2"/>
          <p:cNvPicPr/>
          <p:nvPr/>
        </p:nvPicPr>
        <p:blipFill>
          <a:blip r:embed="rId5"/>
          <a:stretch/>
        </p:blipFill>
        <p:spPr>
          <a:xfrm>
            <a:off x="7961400" y="0"/>
            <a:ext cx="1182600" cy="1628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6"/>
          <a:stretch/>
        </p:blipFill>
        <p:spPr>
          <a:xfrm>
            <a:off x="395280" y="3902040"/>
            <a:ext cx="4105440" cy="29559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октября 1957 — первый ИСЗ (СССР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2421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— первый полёт человека в космо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Ю. Гагарин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50920" y="28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179280" y="2421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июля 1969 — высадка человека на Луну (Н. Армстронг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250920" y="227664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 апреля 1971 — первая орбитальная станция (СССР), позднее — совместно с США, создание международной стан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0" y="2349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19" descr="125922ma"/>
          <p:cNvPicPr/>
          <p:nvPr/>
        </p:nvPicPr>
        <p:blipFill>
          <a:blip r:embed="rId7"/>
          <a:stretch/>
        </p:blipFill>
        <p:spPr>
          <a:xfrm>
            <a:off x="5724360" y="3870360"/>
            <a:ext cx="298800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6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153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,005 и 40,002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гагерц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174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191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43280" y="-360"/>
            <a:ext cx="4500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00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пуском первого в мире спутн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октяб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957 г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21" dur="5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0064"/>
          <p:cNvPicPr/>
          <p:nvPr/>
        </p:nvPicPr>
        <p:blipFill>
          <a:blip r:embed="rId1"/>
          <a:stretch/>
        </p:blipFill>
        <p:spPr>
          <a:xfrm>
            <a:off x="5580000" y="1484280"/>
            <a:ext cx="3319560" cy="248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54:13Z</dcterms:created>
  <dc:creator>Alexey</dc:creator>
  <dc:description/>
  <dc:language>en-US</dc:language>
  <cp:lastModifiedBy>user</cp:lastModifiedBy>
  <dcterms:modified xsi:type="dcterms:W3CDTF">2019-11-27T16:11:08Z</dcterms:modified>
  <cp:revision>45</cp:revision>
  <dc:subject/>
  <dc:title>Мировая  история освоения  космоса</dc:title>
</cp:coreProperties>
</file>