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6CD-0A12-4266-B864-04893781D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3C1-3B23-4166-AE32-1E24A4E4A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С. Атанасян.   Геометрия 10-11.    Тетраэдр и параллелепипед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8EF-A751-4B7E-9E56-3174C05F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A55-67C1-45E9-A120-70E2677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130-6DFA-4132-9DFF-7C0A74FD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7D1-A688-40D7-AAF6-DE844322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5A5-BC76-4F8B-A638-E0CE008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C8C-E1D2-459D-85E6-2637BC9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02F-85EC-4AB7-ADA4-60C1F46B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316-3194-4027-AE5A-7A444149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E24-1CFF-4336-969D-81DC3FF7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BD1-A0DD-4460-BA56-ACC9121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075-A97C-44B2-B615-FC221C8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F31-DA18-4E79-8A1D-4FBC6831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6B8-35D8-4779-9A3C-28C4F60DF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D%EB%E5%EA%F2%F0%EE%FD%ED%E5%F0%E3%E5%F2%E8%EA%E0&amp;rch=l&amp;jsa=1&amp;sf=0&amp;cf=14&amp;is=0&amp;type=all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8640" y="1436400"/>
            <a:ext cx="2438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2103480"/>
            <a:ext cx="60948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ello_html_m42fc7656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В пространстве молекула метана напоминает тетраэд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3" descr="http://hybridation.ru/tetraedr.jpg"/>
          <p:cNvPicPr/>
          <p:nvPr/>
        </p:nvPicPr>
        <p:blipFill>
          <a:blip r:embed="rId1"/>
          <a:stretch/>
        </p:blipFill>
        <p:spPr>
          <a:xfrm>
            <a:off x="2755800" y="1600200"/>
            <a:ext cx="36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2133360"/>
            <a:ext cx="10515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568800" indent="-56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н→ этилен → ацетилен → бензол → хлорбен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-56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н→ ацетилен→ этилен→ этан→ углекислый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-56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бид кальция → ацетилен → э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ловый спирт →  этилен → хлорэ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133720" y="228600"/>
            <a:ext cx="87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Осуществите превращ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U05_10"/>
          <p:cNvPicPr/>
          <p:nvPr/>
        </p:nvPicPr>
        <p:blipFill>
          <a:blip r:embed="rId1"/>
          <a:stretch/>
        </p:blipFill>
        <p:spPr>
          <a:xfrm>
            <a:off x="0" y="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1295280" y="2209680"/>
            <a:ext cx="11430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вух емкостях находятся этан и этин. Опреде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 с помощью качественных реакц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див уравнениями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905120" y="22860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Решение качественной 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U05_10"/>
          <p:cNvPicPr/>
          <p:nvPr/>
        </p:nvPicPr>
        <p:blipFill>
          <a:blip r:embed="rId1"/>
          <a:stretch/>
        </p:blipFill>
        <p:spPr>
          <a:xfrm>
            <a:off x="0" y="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Цилиндр 17"/>
          <p:cNvSpPr/>
          <p:nvPr/>
        </p:nvSpPr>
        <p:spPr>
          <a:xfrm>
            <a:off x="5257800" y="3886200"/>
            <a:ext cx="1584360" cy="2511360"/>
          </a:xfrm>
          <a:prstGeom prst="can">
            <a:avLst>
              <a:gd name="adj" fmla="val 30513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Цилиндр 17"/>
          <p:cNvSpPr/>
          <p:nvPr/>
        </p:nvSpPr>
        <p:spPr>
          <a:xfrm>
            <a:off x="2286000" y="3962520"/>
            <a:ext cx="1584360" cy="2511360"/>
          </a:xfrm>
          <a:prstGeom prst="can">
            <a:avLst>
              <a:gd name="adj" fmla="val 30513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728316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799"/>
              </a:spcBef>
              <a:buClr>
                <a:srgbClr val="9107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Что входит в состав ТЭ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960" indent="-533520">
              <a:spcBef>
                <a:spcPts val="799"/>
              </a:spcBef>
              <a:buClr>
                <a:srgbClr val="9107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Назовите основные виды энергетиче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960" indent="-533520">
              <a:spcBef>
                <a:spcPts val="799"/>
              </a:spcBef>
              <a:buClr>
                <a:srgbClr val="9107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Что называют топливно-энергетическим балан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960" indent="-533520">
              <a:spcBef>
                <a:spcPts val="799"/>
              </a:spcBef>
              <a:buClr>
                <a:srgbClr val="9107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Что влияет на себестоимость сырья (например угл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?id=99453985-01"/>
          <p:cNvPicPr/>
          <p:nvPr/>
        </p:nvPicPr>
        <p:blipFill>
          <a:blip r:embed="rId1"/>
          <a:stretch/>
        </p:blipFill>
        <p:spPr>
          <a:xfrm>
            <a:off x="6659640" y="1557360"/>
            <a:ext cx="1913040" cy="1913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6516720" y="1268280"/>
            <a:ext cx="23716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642960" y="1428840"/>
            <a:ext cx="7242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опливно- энергитическая промышленность –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управляет миром» 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?id=234376790-03"/>
          <p:cNvPicPr/>
          <p:nvPr/>
        </p:nvPicPr>
        <p:blipFill>
          <a:blip r:embed="rId1"/>
          <a:stretch/>
        </p:blipFill>
        <p:spPr>
          <a:xfrm>
            <a:off x="7164360" y="1197000"/>
            <a:ext cx="1724040" cy="21607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7236000" y="907920"/>
            <a:ext cx="153324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620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Мировое производство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требление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первичных энерго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время растет: с менее чем 1 млрд т.у.т. 1900 году оно увеличилось на 17,5 млрд.т. в 2010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 время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1 жителя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preview?id=160659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892760"/>
            <a:ext cx="1884240" cy="14716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3780000" y="4581360"/>
            <a:ext cx="1296720" cy="576360"/>
          </a:xfrm>
          <a:prstGeom prst="pi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435640" y="436572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0756"/>
                </a:solidFill>
                <a:latin typeface="Arial"/>
              </a:rPr>
              <a:t>производится более 2 т условного топлива и около 2 тыс. кВт*ч электро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ВИГИ В СТРУКТУРЕ МИРОВОГО ПОТРЕБЛЕНИЯ ПЕРВИЧНЫХ  ЭНЕРГО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До середины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XX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ОЛЬ – 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 середины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XX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ФТЬ – 5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ОЛЬ – 2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З – 21.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ДРОЭНЕРГИЯ – 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ДЕРНАЯ ЭНЕРГИЯ – 1.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фть – 3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оль – 31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з – 23.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дроэнер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дерная энер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льтернативные источники энер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10756"/>
                </a:solidFill>
                <a:latin typeface="Arial"/>
              </a:rPr>
              <a:t>Однако, имеются различия 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533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СШ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де проживает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1/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е населения мира, приходится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1/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го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потребления энерго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 развивающихся странах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живет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 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я Земли, потребляется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 1/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х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энергетиче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0756"/>
                </a:solidFill>
                <a:latin typeface="Arial"/>
              </a:rPr>
              <a:t>Полоса дефицита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75896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Западной Европ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1950-х годах покрывали импортом 1/10 своих потребностей, а в 1980-е годы – уже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960" indent="-533520">
              <a:spcBef>
                <a:spcPts val="799"/>
              </a:spcBef>
              <a:buClr>
                <a:srgbClr val="9107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Япо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возит 230 млн т нефти в год (при собственной добыче 500 тыс.т.): переработкой нефти занимаются 50 НП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96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910756"/>
                </a:solidFill>
                <a:latin typeface="Arial"/>
              </a:rPr>
              <a:t> 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порт нефти составляет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774720"/>
            <a:ext cx="7791480" cy="676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457200" y="193500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1. Угольный этап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  течение всег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ка и  первая половин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а)- преобладание угольного топли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2. Нефтегазовый этап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с середины</a:t>
            </a: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ка и до настоящего времен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еометрическая химия 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топливно-энергетическом комплек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1994040"/>
            <a:ext cx="83023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</a:rPr>
              <a:t>«Нефтян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395280" y="134136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уйте географию нефтяной промышленности стран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ть, где расположены основные месторождения неф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изменения произошли в размещении запасов и добыче нефти в ХХ веке и чем они объясня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еречислите основных экспортеров и импортеров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 какой целью создана организация ОП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Заголовок 1"/>
          <p:cNvSpPr/>
          <p:nvPr/>
        </p:nvSpPr>
        <p:spPr>
          <a:xfrm>
            <a:off x="571680" y="4287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«Газов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552600" y="1403280"/>
            <a:ext cx="818352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уйте географию газовой промышленности стран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ть, где сосредоточены основные месторождения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казать преимущества использования газа по сравнению с другими видами топ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казать, какие изменения произошли в размещении запасов и добыче газа  в ХХ веке и чем они объясня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числить главных экспортеров и импортеров 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571680" y="4287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006699"/>
                </a:solidFill>
                <a:latin typeface="Arial"/>
                <a:ea typeface="Arial"/>
              </a:rPr>
              <a:t>«Угольщики»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2"/>
          <p:cNvSpPr/>
          <p:nvPr/>
        </p:nvSpPr>
        <p:spPr>
          <a:xfrm>
            <a:off x="539640" y="1268280"/>
            <a:ext cx="81835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уйте географию угольной промышленности стран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ть, где сосредоточены пояса наибольшего угленакопления и важнейшие месторождения уг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становить, какие изменения произошли в размещении и добыче угля  в ХХ веке и чем они объясня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казать, какие страны являются главными экспортерами и импортерами уг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18352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ивная промышленность мира развивается и размещается по территории Земного шара неравномерно. На развитие и размещение влияют как природные, так и общественно-экономические факторы.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1142640"/>
            <a:ext cx="856908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 мире ежегодно добывается 4,4 млрд тонн нефти, а на Кальчинском месторождении 15 млн тон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расивое многоточие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47920"/>
            <a:ext cx="8305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написания синквей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Одно слов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ществительное или местоимение, обозначающее предмет, о котором иде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Два слов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илагательные или причастия, описывающие признаки и свойства выбранн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Три слов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голы, описывающие совершаемые предметом или объектом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Фраза из четырех сло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ажает личное отношение автора к предмету или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Одно слов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 суть предмета или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5" descr="U05_10"/>
          <p:cNvPicPr/>
          <p:nvPr/>
        </p:nvPicPr>
        <p:blipFill>
          <a:blip r:embed="rId1"/>
          <a:stretch/>
        </p:blipFill>
        <p:spPr>
          <a:xfrm>
            <a:off x="0" y="0"/>
            <a:ext cx="14479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65" descr="U05_10"/>
          <p:cNvPicPr/>
          <p:nvPr/>
        </p:nvPicPr>
        <p:blipFill>
          <a:blip r:embed="rId1"/>
          <a:stretch/>
        </p:blipFill>
        <p:spPr>
          <a:xfrm>
            <a:off x="228600" y="152280"/>
            <a:ext cx="183528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380880" y="190512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глеводо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знообразные.  Полез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богревают. Двигают. Обогаща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снова экономики, благополучия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ефтепрод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30"/>
          <p:cNvSpPr/>
          <p:nvPr/>
        </p:nvSpPr>
        <p:spPr>
          <a:xfrm>
            <a:off x="762120" y="1981080"/>
            <a:ext cx="373356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2286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N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игура, составленная из отрез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636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9216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10500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497120" y="4114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58640" y="4800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3048120" y="1905120"/>
            <a:ext cx="152280" cy="152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419720" y="4114800"/>
            <a:ext cx="152280" cy="152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838080" y="5029200"/>
            <a:ext cx="152640" cy="152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0"/>
          <p:cNvSpPr/>
          <p:nvPr/>
        </p:nvSpPr>
        <p:spPr>
          <a:xfrm>
            <a:off x="685800" y="3352680"/>
            <a:ext cx="15228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3200400" y="6019920"/>
            <a:ext cx="152280" cy="152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343044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3"/>
          <p:cNvGrpSpPr/>
          <p:nvPr/>
        </p:nvGrpSpPr>
        <p:grpSpPr>
          <a:xfrm>
            <a:off x="4419720" y="152280"/>
            <a:ext cx="4724280" cy="6363720"/>
            <a:chOff x="4419720" y="152280"/>
            <a:chExt cx="4724280" cy="6363720"/>
          </a:xfrm>
        </p:grpSpPr>
        <p:grpSp>
          <p:nvGrpSpPr>
            <p:cNvPr id="67" name="Group 29"/>
            <p:cNvGrpSpPr/>
            <p:nvPr/>
          </p:nvGrpSpPr>
          <p:grpSpPr>
            <a:xfrm>
              <a:off x="4962600" y="1981080"/>
              <a:ext cx="3958560" cy="4534920"/>
              <a:chOff x="4962600" y="1981080"/>
              <a:chExt cx="3958560" cy="4534920"/>
            </a:xfrm>
          </p:grpSpPr>
          <p:sp>
            <p:nvSpPr>
              <p:cNvPr id="68" name="Freeform 21"/>
              <p:cNvSpPr/>
              <p:nvPr/>
            </p:nvSpPr>
            <p:spPr>
              <a:xfrm>
                <a:off x="5562360" y="2514600"/>
                <a:ext cx="2743200" cy="342900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2"/>
              <p:cNvSpPr/>
              <p:nvPr/>
            </p:nvSpPr>
            <p:spPr>
              <a:xfrm>
                <a:off x="5114880" y="297180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3"/>
              <p:cNvSpPr/>
              <p:nvPr/>
            </p:nvSpPr>
            <p:spPr>
              <a:xfrm>
                <a:off x="6791400" y="198108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4"/>
              <p:cNvSpPr/>
              <p:nvPr/>
            </p:nvSpPr>
            <p:spPr>
              <a:xfrm>
                <a:off x="8315280" y="327672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25"/>
              <p:cNvSpPr/>
              <p:nvPr/>
            </p:nvSpPr>
            <p:spPr>
              <a:xfrm>
                <a:off x="8086680" y="556272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6"/>
              <p:cNvSpPr/>
              <p:nvPr/>
            </p:nvSpPr>
            <p:spPr>
              <a:xfrm>
                <a:off x="7095960" y="586728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27"/>
              <p:cNvSpPr/>
              <p:nvPr/>
            </p:nvSpPr>
            <p:spPr>
              <a:xfrm>
                <a:off x="6105600" y="556272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28"/>
              <p:cNvSpPr/>
              <p:nvPr/>
            </p:nvSpPr>
            <p:spPr>
              <a:xfrm>
                <a:off x="4962600" y="4267080"/>
                <a:ext cx="6058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4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c4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33"/>
            <p:cNvSpPr/>
            <p:nvPr/>
          </p:nvSpPr>
          <p:spPr>
            <a:xfrm>
              <a:off x="4419720" y="152280"/>
              <a:ext cx="472428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угольник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часть плоскости, ограниченная лини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228600" y="228600"/>
            <a:ext cx="8686800" cy="3385800"/>
            <a:chOff x="228600" y="228600"/>
            <a:chExt cx="8686800" cy="3385800"/>
          </a:xfrm>
        </p:grpSpPr>
        <p:sp>
          <p:nvSpPr>
            <p:cNvPr id="78" name="Text Box 3"/>
            <p:cNvSpPr/>
            <p:nvPr/>
          </p:nvSpPr>
          <p:spPr>
            <a:xfrm>
              <a:off x="228600" y="228600"/>
              <a:ext cx="86868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етраэдр.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Слово составлено из гречески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четыре»  и                    - «основание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уквальное значение – «четырехгранник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-видимому, термин вперв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отреблен Евклидом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ле Платона чащ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стречается «пирамид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347760" y="836640"/>
                  <a:ext cx="218916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τετταρεζ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0" name="Group 5"/>
            <p:cNvGrpSpPr/>
            <p:nvPr/>
          </p:nvGrpSpPr>
          <p:grpSpPr>
            <a:xfrm>
              <a:off x="4495680" y="538200"/>
              <a:ext cx="1562040" cy="1062000"/>
              <a:chOff x="4495680" y="538200"/>
              <a:chExt cx="1562040" cy="1062000"/>
            </a:xfrm>
          </p:grpSpPr>
          <mc:AlternateContent>
            <mc:Choice xmlns:a14="http://schemas.microsoft.com/office/drawing/2010/main" Requires="a14">
              <p:sp>
                <p:nvSpPr>
                  <p:cNvPr id="81" name="Object 6"/>
                  <p:cNvSpPr txBox="1"/>
                  <p:nvPr/>
                </p:nvSpPr>
                <p:spPr>
                  <a:xfrm>
                    <a:off x="4495680" y="766800"/>
                    <a:ext cx="15620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εδρ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2" name="Text Box 7"/>
              <p:cNvSpPr/>
              <p:nvPr/>
            </p:nvSpPr>
            <p:spPr>
              <a:xfrm>
                <a:off x="4586040" y="538200"/>
                <a:ext cx="28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8"/>
              <p:cNvSpPr/>
              <p:nvPr/>
            </p:nvSpPr>
            <p:spPr>
              <a:xfrm>
                <a:off x="4663080" y="811080"/>
                <a:ext cx="29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9"/>
          <p:cNvGrpSpPr/>
          <p:nvPr/>
        </p:nvGrpSpPr>
        <p:grpSpPr>
          <a:xfrm>
            <a:off x="4573440" y="2133720"/>
            <a:ext cx="4329000" cy="4543920"/>
            <a:chOff x="4573440" y="2133720"/>
            <a:chExt cx="4329000" cy="4543920"/>
          </a:xfrm>
        </p:grpSpPr>
        <p:grpSp>
          <p:nvGrpSpPr>
            <p:cNvPr id="85" name="Group 10"/>
            <p:cNvGrpSpPr/>
            <p:nvPr/>
          </p:nvGrpSpPr>
          <p:grpSpPr>
            <a:xfrm>
              <a:off x="4573440" y="2133720"/>
              <a:ext cx="4329000" cy="4543920"/>
              <a:chOff x="4573440" y="2133720"/>
              <a:chExt cx="4329000" cy="4543920"/>
            </a:xfrm>
          </p:grpSpPr>
          <p:grpSp>
            <p:nvGrpSpPr>
              <p:cNvPr id="86" name="Group 11"/>
              <p:cNvGrpSpPr/>
              <p:nvPr/>
            </p:nvGrpSpPr>
            <p:grpSpPr>
              <a:xfrm>
                <a:off x="4724280" y="2293200"/>
                <a:ext cx="3897000" cy="3892320"/>
                <a:chOff x="4724280" y="2293200"/>
                <a:chExt cx="3897000" cy="3892320"/>
              </a:xfrm>
            </p:grpSpPr>
            <p:sp>
              <p:nvSpPr>
                <p:cNvPr id="87" name="AutoShape 12"/>
                <p:cNvSpPr/>
                <p:nvPr/>
              </p:nvSpPr>
              <p:spPr>
                <a:xfrm rot="19945800">
                  <a:off x="6362640" y="2438280"/>
                  <a:ext cx="1511280" cy="36003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6ffff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13"/>
                <p:cNvSpPr/>
                <p:nvPr/>
              </p:nvSpPr>
              <p:spPr>
                <a:xfrm rot="870000">
                  <a:off x="5084280" y="2739960"/>
                  <a:ext cx="2611440" cy="3168720"/>
                </a:xfrm>
                <a:prstGeom prst="triangle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4"/>
                <p:cNvSpPr/>
                <p:nvPr/>
              </p:nvSpPr>
              <p:spPr>
                <a:xfrm>
                  <a:off x="4724280" y="5477040"/>
                  <a:ext cx="3889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 Box 15"/>
              <p:cNvSpPr/>
              <p:nvPr/>
            </p:nvSpPr>
            <p:spPr>
              <a:xfrm>
                <a:off x="7011720" y="6096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16"/>
              <p:cNvSpPr/>
              <p:nvPr/>
            </p:nvSpPr>
            <p:spPr>
              <a:xfrm>
                <a:off x="4573440" y="5562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7"/>
              <p:cNvSpPr/>
              <p:nvPr/>
            </p:nvSpPr>
            <p:spPr>
              <a:xfrm>
                <a:off x="8450280" y="5410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8"/>
              <p:cNvSpPr/>
              <p:nvPr/>
            </p:nvSpPr>
            <p:spPr>
              <a:xfrm>
                <a:off x="586908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19"/>
            <p:cNvSpPr/>
            <p:nvPr/>
          </p:nvSpPr>
          <p:spPr>
            <a:xfrm>
              <a:off x="594684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траэдр – подсказанное нам природой идеальное равновесие, в основе которого, идеальность равностороннего треугольника. Тетраэдр - треугольник, но только в объемном виде, в наше время его можно назвать 3D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пределение и элементы тетраэ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бозначение и изображение тетраэ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иды тетраэ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трезки в тетраэдре и их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траэдр (форма) в живой природе, в технике, в философии, в быт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6963120" cy="1658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5120" y="762120"/>
            <a:ext cx="8067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Tetra Classic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картонная упаковка в форме тетраэдра для хранения молока, созданная в 1950 году компанией Tetra Pak. С 1959 года поставлялась и широко использовалась в СССР, где эти упаковки обычно назывались «пирамидками» или «треугольными пакетами». Пирамидки были двух основных размеров: большая (для молока и кефира) и поменьше (для сливок). Они были оформлены по-разному в зависимости от вида продукта. Оказалось, что на конвейере удобно склеивать подобные тетраэдры, отрезая заготовки для них от картонного “шлан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ton tea &amp;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1412640"/>
            <a:ext cx="7921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йная компания Lipton для разнообразия формы пакетиков для чая теперь выпускает их в виде тетраэ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2163960" cy="20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214632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012000" y="3897360"/>
            <a:ext cx="2017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оволо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5120" y="1770120"/>
            <a:ext cx="80676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т головоломки в виде тетраэ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95280" y="3753000"/>
            <a:ext cx="3295800" cy="273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017880" y="2565360"/>
            <a:ext cx="3502080" cy="274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6550200" y="3664080"/>
            <a:ext cx="24606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9-02-05T10:17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