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6DD-4D5A-40EC-B9E8-B73DE1F6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99B-AA8B-4CA6-8321-6523E4AE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DC9-4D4F-40AC-A4B8-039BAE50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B78-02FE-4FC2-86DE-07095C91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4D1-14F4-4C98-9CED-F8D4E0F1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3FB2-8490-4F0E-8273-EF05854B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2B6-AC86-4658-A81D-DEB3B972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44D-D99A-49E2-A8B1-F3C34C3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841F-6F38-40D7-939D-63CB237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CDA-DEF8-4E5D-9413-CF867E4C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C88-0887-41DE-BC6C-0DFB498B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586-459F-45A9-8E4A-1B3D6041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AA02-8B3F-40DE-AD1F-1D27B81EB0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8"/>
          <p:cNvSpPr/>
          <p:nvPr/>
        </p:nvSpPr>
        <p:spPr>
          <a:xfrm>
            <a:off x="395280" y="260280"/>
            <a:ext cx="8497800" cy="609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40388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1483920"/>
            <a:ext cx="3168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андрей.андрей-ПК\Desktop\nadejdina.jpg"/>
          <p:cNvPicPr/>
          <p:nvPr/>
        </p:nvPicPr>
        <p:blipFill>
          <a:blip r:embed="rId1"/>
          <a:stretch/>
        </p:blipFill>
        <p:spPr>
          <a:xfrm>
            <a:off x="144360" y="285840"/>
            <a:ext cx="8748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готовить пересказ любой ч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ть полезные советы об использовании  лука как  лечебного  сред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ть загадки, пословиц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говорки про л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C:\Users\admin\Desktop\0_5075c_71780bc6_XXXL.jpg"/>
          <p:cNvPicPr/>
          <p:nvPr/>
        </p:nvPicPr>
        <p:blipFill>
          <a:blip r:embed="rId1"/>
          <a:stretch/>
        </p:blipFill>
        <p:spPr>
          <a:xfrm>
            <a:off x="5940360" y="2890800"/>
            <a:ext cx="30243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324000" y="285840"/>
            <a:ext cx="8589960" cy="6246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35120" y="47628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Цели: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684360" y="1484280"/>
            <a:ext cx="74595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изучить целебные свойства лука; 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выяснить, от каких недугов помогает это растение;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показать значимость растения для здоровья человека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" name="Picture 6" descr="C:\Users\admin\Desktop\0_5075c_71780bc6_XXXL.jpg"/>
          <p:cNvPicPr/>
          <p:nvPr/>
        </p:nvPicPr>
        <p:blipFill>
          <a:blip r:embed="rId1"/>
          <a:stretch/>
        </p:blipFill>
        <p:spPr>
          <a:xfrm>
            <a:off x="6157800" y="2781360"/>
            <a:ext cx="311472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195640" y="549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итай правильн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суп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у л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ка- бат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лен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андрей.андрей-ПК\Desktop\c54c746245fb92fcc6351a5e0d8a3e57ce7cde52.jpg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9360" y="1084320"/>
            <a:ext cx="9134640" cy="5734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35280" y="1557360"/>
            <a:ext cx="53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убивает болезнетворные микроб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оберегает от простудных заболев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повышает иммунитет организ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улучшает пищевар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очищает кровь и  улучшает работу серд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-снимает головную б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47840" y="322200"/>
            <a:ext cx="376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Лук-лекарь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" name="Picture 13" descr="13"/>
          <p:cNvPicPr/>
          <p:nvPr/>
        </p:nvPicPr>
        <p:blipFill>
          <a:blip r:embed="rId1"/>
          <a:stretch/>
        </p:blipFill>
        <p:spPr>
          <a:xfrm>
            <a:off x="250920" y="1484280"/>
            <a:ext cx="3168720" cy="4105440"/>
          </a:xfrm>
          <a:prstGeom prst="rect">
            <a:avLst/>
          </a:prstGeom>
          <a:ln w="57240">
            <a:solidFill>
              <a:srgbClr val="99ff33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95280" y="260280"/>
            <a:ext cx="8497800" cy="609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C:\Users\андрей.андрей-ПК\Desktop\20152005184914-1024x768.jpg"/>
          <p:cNvPicPr/>
          <p:nvPr/>
        </p:nvPicPr>
        <p:blipFill>
          <a:blip r:embed="rId1"/>
          <a:stretch/>
        </p:blipFill>
        <p:spPr>
          <a:xfrm>
            <a:off x="360360" y="260280"/>
            <a:ext cx="856944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24000" y="404640"/>
            <a:ext cx="8497800" cy="6239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900000" y="928800"/>
            <a:ext cx="6769080" cy="185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783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 u="sng">
                <a:ln w="255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uFillTx/>
                <a:latin typeface="Arial"/>
              </a:rPr>
              <a:t> </a:t>
            </a:r>
            <a:endParaRPr b="1" lang="en-US" sz="1800" spc="1" strike="noStrike" u="sng">
              <a:ln w="25560">
                <a:solidFill>
                  <a:srgbClr val="ffff00"/>
                </a:solidFill>
                <a:miter/>
              </a:ln>
              <a:solidFill>
                <a:srgbClr val="339966"/>
              </a:solidFill>
              <a:uFillTx/>
              <a:latin typeface="Arial"/>
              <a:ea typeface="Arial"/>
            </a:endParaRPr>
          </a:p>
        </p:txBody>
      </p:sp>
      <p:pic>
        <p:nvPicPr>
          <p:cNvPr id="61" name="Picture 5" descr="C:\Users\андрей.андрей-ПК\Desktop\vyrashhivanie-luka-batuna-iz-semyan-na-podokonnike.jpg"/>
          <p:cNvPicPr/>
          <p:nvPr/>
        </p:nvPicPr>
        <p:blipFill>
          <a:blip r:embed="rId1"/>
          <a:stretch/>
        </p:blipFill>
        <p:spPr>
          <a:xfrm>
            <a:off x="324000" y="404640"/>
            <a:ext cx="8497800" cy="6239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9"/>
          <p:cNvSpPr/>
          <p:nvPr/>
        </p:nvSpPr>
        <p:spPr>
          <a:xfrm>
            <a:off x="142920" y="285840"/>
            <a:ext cx="8497800" cy="609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3059280" y="4869000"/>
            <a:ext cx="54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" name="Picture 5" descr="C:\Users\андрей.андрей-ПК\Desktop\mnogoyarusniy_luk-e1509298210975-768x526.jpg"/>
          <p:cNvPicPr/>
          <p:nvPr/>
        </p:nvPicPr>
        <p:blipFill>
          <a:blip r:embed="rId1"/>
          <a:stretch/>
        </p:blipFill>
        <p:spPr>
          <a:xfrm>
            <a:off x="142920" y="285840"/>
            <a:ext cx="8678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1"/>
          <p:cNvSpPr/>
          <p:nvPr/>
        </p:nvSpPr>
        <p:spPr>
          <a:xfrm>
            <a:off x="195120" y="428760"/>
            <a:ext cx="8840880" cy="609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" name="WordArt 13" descr=""/>
          <p:cNvPicPr/>
          <p:nvPr/>
        </p:nvPicPr>
        <p:blipFill>
          <a:blip r:embed="rId1"/>
          <a:stretch/>
        </p:blipFill>
        <p:spPr>
          <a:xfrm>
            <a:off x="19080" y="28116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4143240" y="3429000"/>
            <a:ext cx="464364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Если я буду… 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Теперь я 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Я выяснил(а)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Эта статья…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428920" y="1633680"/>
            <a:ext cx="3786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374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3:45:00Z</dcterms:created>
  <dc:creator>IT</dc:creator>
  <dc:description/>
  <dc:language>en-US</dc:language>
  <cp:lastModifiedBy>андрей</cp:lastModifiedBy>
  <dcterms:modified xsi:type="dcterms:W3CDTF">2018-04-29T18:14:37Z</dcterms:modified>
  <cp:revision>433</cp:revision>
  <dc:subject/>
  <dc:title>Лук</dc:title>
</cp:coreProperties>
</file>