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F25-0B09-49C3-80A3-70EE54D1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50A-1AFA-4CCA-A561-28CC59FB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64C-6B3B-4633-9F3C-CF939133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E06-8FE0-409C-A334-7130257F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8F63-5F6F-48D3-B1EA-562C9685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064D-8AA8-4481-BCAF-87FCAB4B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99EE-9344-40E5-9094-8C6CE066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DFCD-FDB9-4277-9E6E-62C24F10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6770-9575-4950-83BE-52E70429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DE04-ECBA-4312-8749-597F98B2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B1E4-BEDC-491E-9A7F-B051C52B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695-71B0-40AE-800A-6AB89048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566D-293B-497A-929A-A8856361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B94-C33E-4973-996D-29FB64C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D19F-E706-4451-AFB8-CF8379F4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910F-64EB-4301-A254-F03FCFE8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14FD-1B50-4E74-ABD9-85665DF5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AAE-41DF-49E2-90B6-0EEE5F48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F9D-24D7-44E7-B638-DF9947ED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937-411C-4E8F-96CE-4837E28D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265-A934-4068-9AD7-E1BC6C34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C06-74C3-4E2B-9849-82C968F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BC1-2936-4FF9-9A8B-3F562D6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892-7466-46E7-BB0D-E7366118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441F-87FB-4A48-9268-EEC1A7A11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AD29-5F6A-4FBD-9857-E9A879A9E5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"/>
              </a:rPr>
              <a:t>Храмы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р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я начальных клас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БОУ СОШ № 14 города Кузнец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стаевой Эллины Владимиров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Храм-часовня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араскевы-мученицы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4" name="Содержимое 3" descr="264_0132992b.jpg"/>
          <p:cNvPicPr/>
          <p:nvPr/>
        </p:nvPicPr>
        <p:blipFill>
          <a:blip r:embed="rId1"/>
          <a:stretch/>
        </p:blipFill>
        <p:spPr>
          <a:xfrm>
            <a:off x="1258920" y="1628640"/>
            <a:ext cx="66960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549000"/>
            <a:ext cx="83772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десь совершается крещение новорождённых, венчание новобрачных, отпевание умерших православных христиан. В храме совершались проводы защитников Отечества на войну и благодарственные службы после победы. Около храма наши предки  собирались на народные собрания. Неподалёку от храма устраивалась и торговая площад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ию и украшению храма отдавалось всё самое лучшее: лучшие силы, лучшие талан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888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3333"/>
          <p:cNvPicPr/>
          <p:nvPr/>
        </p:nvPicPr>
        <p:blipFill>
          <a:blip r:embed="rId1"/>
          <a:stretch/>
        </p:blipFill>
        <p:spPr>
          <a:xfrm>
            <a:off x="0" y="0"/>
            <a:ext cx="5472000" cy="410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4488f120496-1-"/>
          <p:cNvPicPr/>
          <p:nvPr/>
        </p:nvPicPr>
        <p:blipFill>
          <a:blip r:embed="rId2"/>
          <a:stretch/>
        </p:blipFill>
        <p:spPr>
          <a:xfrm>
            <a:off x="5462640" y="2276640"/>
            <a:ext cx="3681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22512-124014-9007cc47862e0c54925e34046f30a4af"/>
          <p:cNvPicPr/>
          <p:nvPr/>
        </p:nvPicPr>
        <p:blipFill>
          <a:blip r:embed="rId1"/>
          <a:stretch/>
        </p:blipFill>
        <p:spPr>
          <a:xfrm>
            <a:off x="0" y="593640"/>
            <a:ext cx="4172040" cy="626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35257909_1226691697_3533551"/>
          <p:cNvPicPr/>
          <p:nvPr/>
        </p:nvPicPr>
        <p:blipFill>
          <a:blip r:embed="rId2"/>
          <a:stretch/>
        </p:blipFill>
        <p:spPr>
          <a:xfrm>
            <a:off x="4143240" y="185724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tr_sob_kupola"/>
          <p:cNvPicPr/>
          <p:nvPr/>
        </p:nvPicPr>
        <p:blipFill>
          <a:blip r:embed="rId1"/>
          <a:stretch/>
        </p:blipFill>
        <p:spPr>
          <a:xfrm>
            <a:off x="250920" y="2421000"/>
            <a:ext cx="5472000" cy="410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p6250035"/>
          <p:cNvPicPr/>
          <p:nvPr/>
        </p:nvPicPr>
        <p:blipFill>
          <a:blip r:embed="rId2"/>
          <a:stretch/>
        </p:blipFill>
        <p:spPr>
          <a:xfrm>
            <a:off x="3851280" y="33336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hram_vasilija_blazhennogo"/>
          <p:cNvPicPr/>
          <p:nvPr/>
        </p:nvPicPr>
        <p:blipFill>
          <a:blip r:embed="rId1"/>
          <a:stretch/>
        </p:blipFill>
        <p:spPr>
          <a:xfrm>
            <a:off x="250920" y="736560"/>
            <a:ext cx="5030640" cy="612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88f07f716630"/>
          <p:cNvPicPr/>
          <p:nvPr/>
        </p:nvPicPr>
        <p:blipFill>
          <a:blip r:embed="rId2"/>
          <a:stretch/>
        </p:blipFill>
        <p:spPr>
          <a:xfrm>
            <a:off x="5435640" y="2205000"/>
            <a:ext cx="3495600" cy="465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6"/>
          <p:cNvSpPr txBox="1"/>
          <p:nvPr/>
        </p:nvSpPr>
        <p:spPr>
          <a:xfrm>
            <a:off x="6156360" y="404640"/>
            <a:ext cx="2592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ам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силия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женного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428760"/>
            <a:ext cx="848844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рам обычно строился на возвышенном, красивом мест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сё поистине ценное и прекрасное хранилось в храмах или монастырях – иконы, останки святых (мощи),  старинные рукописи, древние документ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рам на Руси является одним из  главных хранителей сокровищ культур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6" descr="34cfa50945511b3cb681e265d7f96b6a.jpg"/>
          <p:cNvPicPr/>
          <p:nvPr/>
        </p:nvPicPr>
        <p:blipFill>
          <a:blip r:embed="rId1"/>
          <a:stretch/>
        </p:blipFill>
        <p:spPr>
          <a:xfrm>
            <a:off x="324000" y="333360"/>
            <a:ext cx="5729040" cy="42973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свеча.jpg"/>
          <p:cNvPicPr/>
          <p:nvPr/>
        </p:nvPicPr>
        <p:blipFill>
          <a:blip r:embed="rId2"/>
          <a:stretch/>
        </p:blipFill>
        <p:spPr>
          <a:xfrm>
            <a:off x="4211640" y="3933720"/>
            <a:ext cx="47880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свеча.jpg"/>
          <p:cNvPicPr/>
          <p:nvPr/>
        </p:nvPicPr>
        <p:blipFill>
          <a:blip r:embed="rId1"/>
          <a:stretch/>
        </p:blipFill>
        <p:spPr>
          <a:xfrm>
            <a:off x="4211640" y="3933720"/>
            <a:ext cx="4788000" cy="27399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34cfa50945511b3cb681e265d7f96b6a.jpg"/>
          <p:cNvPicPr/>
          <p:nvPr/>
        </p:nvPicPr>
        <p:blipFill>
          <a:blip r:embed="rId2"/>
          <a:stretch/>
        </p:blipFill>
        <p:spPr>
          <a:xfrm>
            <a:off x="324000" y="333360"/>
            <a:ext cx="5729040" cy="4297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85480" y="571320"/>
            <a:ext cx="855972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у людей, вместе с ними  молюсь Богу и людям стараюсь помогать. Хочется быть похожим на эту свечу. Её огонёк тянется вверх, но свет и тепло свеча отдаёт тем, кто рядом с ней.  Вот такой должна быть жизнь человека:  душой тянуться к Небу, а своими делами  помогать ближни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WordArt 4"/>
          <p:cNvGrpSpPr/>
          <p:nvPr/>
        </p:nvGrpSpPr>
        <p:grpSpPr>
          <a:xfrm>
            <a:off x="1322280" y="542880"/>
            <a:ext cx="7072560" cy="5199120"/>
            <a:chOff x="1322280" y="542880"/>
            <a:chExt cx="7072560" cy="5199120"/>
          </a:xfrm>
        </p:grpSpPr>
        <p:pic>
          <p:nvPicPr>
            <p:cNvPr id="101" name="WordArt 4" descr=""/>
            <p:cNvPicPr/>
            <p:nvPr/>
          </p:nvPicPr>
          <p:blipFill>
            <a:blip r:embed="rId1"/>
            <a:stretch/>
          </p:blipFill>
          <p:spPr>
            <a:xfrm>
              <a:off x="1322280" y="542880"/>
              <a:ext cx="707256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332000" y="549360"/>
              <a:ext cx="705636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Горе на двоих -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полгоря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радость на двоих -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две радости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1-3"/>
          <p:cNvPicPr/>
          <p:nvPr/>
        </p:nvPicPr>
        <p:blipFill>
          <a:blip r:embed="rId1"/>
          <a:stretch/>
        </p:blipFill>
        <p:spPr>
          <a:xfrm>
            <a:off x="4281480" y="2211480"/>
            <a:ext cx="3243240" cy="219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SC03562"/>
          <p:cNvPicPr/>
          <p:nvPr/>
        </p:nvPicPr>
        <p:blipFill>
          <a:blip r:embed="rId2"/>
          <a:stretch/>
        </p:blipFill>
        <p:spPr>
          <a:xfrm>
            <a:off x="1619280" y="1125360"/>
            <a:ext cx="2355840" cy="289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os0302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2384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0" y="3516480"/>
            <a:ext cx="2508120" cy="3341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мп"/>
          <p:cNvPicPr/>
          <p:nvPr/>
        </p:nvPicPr>
        <p:blipFill>
          <a:blip r:embed="rId5"/>
          <a:stretch/>
        </p:blipFill>
        <p:spPr>
          <a:xfrm>
            <a:off x="0" y="0"/>
            <a:ext cx="2139840" cy="3154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Рисунок10"/>
          <p:cNvPicPr/>
          <p:nvPr/>
        </p:nvPicPr>
        <p:blipFill>
          <a:blip r:embed="rId6"/>
          <a:stretch/>
        </p:blipFill>
        <p:spPr>
          <a:xfrm>
            <a:off x="2484360" y="4464000"/>
            <a:ext cx="4248360" cy="239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стена"/>
          <p:cNvPicPr/>
          <p:nvPr/>
        </p:nvPicPr>
        <p:blipFill>
          <a:blip r:embed="rId7"/>
          <a:stretch/>
        </p:blipFill>
        <p:spPr>
          <a:xfrm>
            <a:off x="6721560" y="3716280"/>
            <a:ext cx="2422440" cy="229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Хоральная синагога в Санкт- Петербурге"/>
          <p:cNvPicPr/>
          <p:nvPr/>
        </p:nvPicPr>
        <p:blipFill>
          <a:blip r:embed="rId8"/>
          <a:stretch/>
        </p:blipFill>
        <p:spPr>
          <a:xfrm>
            <a:off x="3924360" y="0"/>
            <a:ext cx="23050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4920" y="620280"/>
            <a:ext cx="84502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Раньше на месте будущего поселения в первую очередь возводили церковь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По именованию храма часто получали названия русские города, поселени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659487"/>
          <p:cNvPicPr/>
          <p:nvPr/>
        </p:nvPicPr>
        <p:blipFill>
          <a:blip r:embed="rId1"/>
          <a:stretch/>
        </p:blipFill>
        <p:spPr>
          <a:xfrm>
            <a:off x="468360" y="32544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4149360"/>
            <a:ext cx="3744720" cy="2158920"/>
          </a:xfrm>
          <a:prstGeom prst="rect">
            <a:avLst/>
          </a:prstGeom>
          <a:gradFill rotWithShape="0">
            <a:gsLst>
              <a:gs pos="0">
                <a:srgbClr val="99cc00">
                  <a:alpha val="27058"/>
                </a:srgbClr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Храм - особое здание, посвященное Богу и предназначенное для общественного служения 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Храм Христа Спасителя"/>
          <p:cNvPicPr/>
          <p:nvPr/>
        </p:nvPicPr>
        <p:blipFill>
          <a:blip r:embed="rId2"/>
          <a:stretch/>
        </p:blipFill>
        <p:spPr>
          <a:xfrm>
            <a:off x="4140360" y="476280"/>
            <a:ext cx="4516200" cy="4535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390px-OrthodoxCross(black,contoured).svg.png"/>
          <p:cNvPicPr/>
          <p:nvPr/>
        </p:nvPicPr>
        <p:blipFill>
          <a:blip r:embed="rId3"/>
          <a:stretch/>
        </p:blipFill>
        <p:spPr>
          <a:xfrm>
            <a:off x="425520" y="260280"/>
            <a:ext cx="868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8" name="Picture 4" descr="139789413"/>
          <p:cNvPicPr/>
          <p:nvPr/>
        </p:nvPicPr>
        <p:blipFill>
          <a:blip r:embed="rId1"/>
          <a:stretch/>
        </p:blipFill>
        <p:spPr>
          <a:xfrm>
            <a:off x="4284720" y="321300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Вознесенский храм"/>
          <p:cNvPicPr/>
          <p:nvPr/>
        </p:nvPicPr>
        <p:blipFill>
          <a:blip r:embed="rId2"/>
          <a:stretch/>
        </p:blipFill>
        <p:spPr>
          <a:xfrm>
            <a:off x="0" y="0"/>
            <a:ext cx="4427640" cy="4032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4500720" y="476280"/>
            <a:ext cx="439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ор вознесени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иста спасителя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foto_img_1271_3995_dsc03146"/>
          <p:cNvPicPr/>
          <p:nvPr/>
        </p:nvPicPr>
        <p:blipFill>
          <a:blip r:embed="rId1"/>
          <a:stretch/>
        </p:blipFill>
        <p:spPr>
          <a:xfrm>
            <a:off x="0" y="0"/>
            <a:ext cx="3813120" cy="50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казанская"/>
          <p:cNvPicPr/>
          <p:nvPr/>
        </p:nvPicPr>
        <p:blipFill>
          <a:blip r:embed="rId2"/>
          <a:stretch/>
        </p:blipFill>
        <p:spPr>
          <a:xfrm>
            <a:off x="3276720" y="3173400"/>
            <a:ext cx="5867280" cy="36846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7"/>
          <p:cNvSpPr txBox="1"/>
          <p:nvPr/>
        </p:nvSpPr>
        <p:spPr>
          <a:xfrm>
            <a:off x="4284720" y="0"/>
            <a:ext cx="4464000" cy="299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ам во имя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занской иконы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жией матери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51280" y="476280"/>
            <a:ext cx="49910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3933720"/>
            <a:ext cx="40323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иколо – Покровск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хра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Рисунок 4" descr="январь2015.jpg"/>
          <p:cNvPicPr/>
          <p:nvPr/>
        </p:nvPicPr>
        <p:blipFill>
          <a:blip r:embed="rId1"/>
          <a:stretch/>
        </p:blipFill>
        <p:spPr>
          <a:xfrm>
            <a:off x="4559400" y="3213000"/>
            <a:ext cx="4584600" cy="3438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264_0223527b.jpg"/>
          <p:cNvPicPr/>
          <p:nvPr/>
        </p:nvPicPr>
        <p:blipFill>
          <a:blip r:embed="rId2"/>
          <a:stretch/>
        </p:blipFill>
        <p:spPr>
          <a:xfrm>
            <a:off x="104760" y="0"/>
            <a:ext cx="52592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244080"/>
            <a:ext cx="6696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Церковь Владимира равноапостольного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2" name="Содержимое 3" descr="264_0223522b.jpg"/>
          <p:cNvPicPr/>
          <p:nvPr/>
        </p:nvPicPr>
        <p:blipFill>
          <a:blip r:embed="rId1"/>
          <a:stretch/>
        </p:blipFill>
        <p:spPr>
          <a:xfrm>
            <a:off x="2843280" y="1916280"/>
            <a:ext cx="341928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8:14:32Z</dcterms:created>
  <dc:creator>Элла</dc:creator>
  <dc:description/>
  <dc:language>en-US</dc:language>
  <cp:lastModifiedBy>1</cp:lastModifiedBy>
  <dcterms:modified xsi:type="dcterms:W3CDTF">2016-03-16T17:47:18Z</dcterms:modified>
  <cp:revision>23</cp:revision>
  <dc:subject/>
  <dc:title>Слайд 1</dc:title>
</cp:coreProperties>
</file>