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10.png" ContentType="image/png"/>
  <Override PartName="/ppt/media/applause.wav" ContentType="audio/x-wav"/>
  <Override PartName="/ppt/media/image26.png" ContentType="image/png"/>
  <Override PartName="/ppt/media/image25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5.png" ContentType="image/png"/>
  <Override PartName="/ppt/media/image28.png" ContentType="image/png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971708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16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102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504040" y="-360"/>
            <a:ext cx="42098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4280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1640" y="325764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42102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504040" y="6513120"/>
            <a:ext cx="42098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6DF0-61C2-4492-BBC8-F22AD085BB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31431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71640" y="325764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5504040" y="6513480"/>
            <a:ext cx="4209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1419-132D-4279-93F6-6321E92BE1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BEDF-64EC-40B8-B85B-165C3111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77AF-025C-42A2-BB02-805F19F0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435A-05B3-4AA2-A160-780DC625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FBD8-A4A6-4367-9768-DAF86A2B1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4DF5-AE14-473A-8687-8C972472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D383-CBDF-44BE-B7AF-5D7D96AA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7A34-D769-4DC8-8FA1-C49FCAC5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90CF-D247-4D6E-98FB-DDF5B666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6124-2BB0-4540-8133-56EB9C99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3B0F-56A7-4215-B706-817F8FC5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8094-9120-4189-A0CF-2C85E66F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9D21-3C03-4B08-84F3-3EB5097F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926E-CE46-488C-A4FA-CE2AC61FFC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55;&#1088;&#1077;&#1079;&#1077;&#1085;&#1090;&#1072;&#1094;&#1080;&#1103;1.pptx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hyperlink" Target="file:///C:/Users/uzer/Desktop/&#1050;&#1054;&#1053;&#1050;&#1059;&#1056;&#1057;-21%20&#1074;&#1077;&#1082;/&#1050;&#1054;&#1053;&#1050;&#1059;&#1056;&#1057;-&#1053;&#1054;&#1042;&#1067;&#1045;%20&#1048;&#1044;&#1045;&#1048;/&#1056;&#1077;&#1083;&#1072;&#1082;&#1089;&#1072;&#1094;&#1080;&#1103;.pptx" TargetMode="Externa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«Рано или поздно всякая правильная математическая идея находит  применение в том или ином деле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44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А.Н. Кры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Прямоугольник 6" descr=""/>
          <p:cNvPicPr/>
          <p:nvPr/>
        </p:nvPicPr>
        <p:blipFill>
          <a:blip r:embed="rId1"/>
          <a:stretch/>
        </p:blipFill>
        <p:spPr>
          <a:xfrm>
            <a:off x="1474920" y="420840"/>
            <a:ext cx="5559120" cy="1060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books"/>
          <p:cNvPicPr/>
          <p:nvPr/>
        </p:nvPicPr>
        <p:blipFill>
          <a:blip r:embed="rId2"/>
          <a:stretch/>
        </p:blipFill>
        <p:spPr>
          <a:xfrm>
            <a:off x="7020000" y="333360"/>
            <a:ext cx="1944720" cy="15987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1258920" y="1052640"/>
            <a:ext cx="81867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площадь боковой поверхности правильной шестиугольной призмы, сторона основания которо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а 4, а высота − 7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4284720" y="3213000"/>
            <a:ext cx="436392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боковой поверхности правильной призмы ра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бок.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осн.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бок.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68"/>
          <p:cNvSpPr/>
          <p:nvPr/>
        </p:nvSpPr>
        <p:spPr>
          <a:xfrm>
            <a:off x="1312920" y="5975280"/>
            <a:ext cx="652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Ответ: 16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Группа 43"/>
          <p:cNvGrpSpPr/>
          <p:nvPr/>
        </p:nvGrpSpPr>
        <p:grpSpPr>
          <a:xfrm>
            <a:off x="609480" y="2152800"/>
            <a:ext cx="3056040" cy="3509640"/>
            <a:chOff x="609480" y="2152800"/>
            <a:chExt cx="3056040" cy="3509640"/>
          </a:xfrm>
        </p:grpSpPr>
        <p:sp>
          <p:nvSpPr>
            <p:cNvPr id="126" name="Полилиния 51"/>
            <p:cNvSpPr/>
            <p:nvPr/>
          </p:nvSpPr>
          <p:spPr>
            <a:xfrm>
              <a:off x="609480" y="2757960"/>
              <a:ext cx="3056040" cy="2904480"/>
            </a:xfrm>
            <a:custGeom>
              <a:avLst/>
              <a:gdLst>
                <a:gd name="textAreaLeft" fmla="*/ 0 w 3056040"/>
                <a:gd name="textAreaRight" fmla="*/ 3056400 w 3056040"/>
                <a:gd name="textAreaTop" fmla="*/ 0 h 2904480"/>
                <a:gd name="textAreaBottom" fmla="*/ 2904840 h 2904480"/>
              </a:gdLst>
              <a:ahLst/>
              <a:rect l="textAreaLeft" t="textAreaTop" r="textAreaRight" b="textAreaBottom"/>
              <a:pathLst>
                <a:path w="3056965" h="2904565">
                  <a:moveTo>
                    <a:pt x="0" y="0"/>
                  </a:moveTo>
                  <a:cubicBezTo>
                    <a:pt x="2988" y="767977"/>
                    <a:pt x="5977" y="1535953"/>
                    <a:pt x="8965" y="2303930"/>
                  </a:cubicBezTo>
                  <a:lnTo>
                    <a:pt x="914400" y="2904565"/>
                  </a:lnTo>
                  <a:lnTo>
                    <a:pt x="2447365" y="2904565"/>
                  </a:lnTo>
                  <a:lnTo>
                    <a:pt x="3056965" y="2294965"/>
                  </a:lnTo>
                  <a:lnTo>
                    <a:pt x="3056965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Прямая соединительная линия 53"/>
            <p:cNvSpPr/>
            <p:nvPr/>
          </p:nvSpPr>
          <p:spPr>
            <a:xfrm flipH="1">
              <a:off x="1523520" y="3371760"/>
              <a:ext cx="8640" cy="229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Прямая соединительная линия 54"/>
            <p:cNvSpPr/>
            <p:nvPr/>
          </p:nvSpPr>
          <p:spPr>
            <a:xfrm>
              <a:off x="3056040" y="3371760"/>
              <a:ext cx="1440" cy="229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Полилиния 55"/>
            <p:cNvSpPr/>
            <p:nvPr/>
          </p:nvSpPr>
          <p:spPr>
            <a:xfrm>
              <a:off x="609480" y="2152800"/>
              <a:ext cx="3056040" cy="1218960"/>
            </a:xfrm>
            <a:custGeom>
              <a:avLst/>
              <a:gdLst>
                <a:gd name="textAreaLeft" fmla="*/ 0 w 3056040"/>
                <a:gd name="textAreaRight" fmla="*/ 3056400 w 305604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3056965" h="1219200">
                  <a:moveTo>
                    <a:pt x="0" y="609600"/>
                  </a:moveTo>
                  <a:lnTo>
                    <a:pt x="618565" y="0"/>
                  </a:lnTo>
                  <a:lnTo>
                    <a:pt x="2133600" y="0"/>
                  </a:lnTo>
                  <a:lnTo>
                    <a:pt x="3056965" y="618565"/>
                  </a:lnTo>
                  <a:lnTo>
                    <a:pt x="2447365" y="1219200"/>
                  </a:lnTo>
                  <a:lnTo>
                    <a:pt x="923365" y="1219200"/>
                  </a:lnTo>
                  <a:lnTo>
                    <a:pt x="0" y="609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Полилиния 59"/>
            <p:cNvSpPr/>
            <p:nvPr/>
          </p:nvSpPr>
          <p:spPr>
            <a:xfrm>
              <a:off x="627120" y="4456800"/>
              <a:ext cx="3029400" cy="591480"/>
            </a:xfrm>
            <a:custGeom>
              <a:avLst/>
              <a:gdLst>
                <a:gd name="textAreaLeft" fmla="*/ 0 w 3029400"/>
                <a:gd name="textAreaRight" fmla="*/ 3029760 w 3029400"/>
                <a:gd name="textAreaTop" fmla="*/ 0 h 591480"/>
                <a:gd name="textAreaBottom" fmla="*/ 591840 h 591480"/>
              </a:gdLst>
              <a:ahLst/>
              <a:rect l="textAreaLeft" t="textAreaTop" r="textAreaRight" b="textAreaBottom"/>
              <a:pathLst>
                <a:path w="3039036" h="600635">
                  <a:moveTo>
                    <a:pt x="0" y="600635"/>
                  </a:moveTo>
                  <a:lnTo>
                    <a:pt x="600636" y="0"/>
                  </a:lnTo>
                  <a:lnTo>
                    <a:pt x="2124636" y="0"/>
                  </a:lnTo>
                  <a:lnTo>
                    <a:pt x="3039036" y="6006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Прямая соединительная линия 61"/>
            <p:cNvSpPr/>
            <p:nvPr/>
          </p:nvSpPr>
          <p:spPr>
            <a:xfrm>
              <a:off x="2742480" y="2152800"/>
              <a:ext cx="2520" cy="2304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Прямая соединительная линия 61"/>
            <p:cNvSpPr/>
            <p:nvPr/>
          </p:nvSpPr>
          <p:spPr>
            <a:xfrm flipH="1">
              <a:off x="1220400" y="2152800"/>
              <a:ext cx="6840" cy="2304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Box 36"/>
          <p:cNvSpPr/>
          <p:nvPr/>
        </p:nvSpPr>
        <p:spPr>
          <a:xfrm>
            <a:off x="254160" y="36608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Calibri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6"/>
          <p:cNvSpPr/>
          <p:nvPr/>
        </p:nvSpPr>
        <p:spPr>
          <a:xfrm>
            <a:off x="2133720" y="558180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Прямоугольник 15" descr=""/>
          <p:cNvPicPr/>
          <p:nvPr/>
        </p:nvPicPr>
        <p:blipFill>
          <a:blip r:embed="rId1"/>
          <a:stretch/>
        </p:blipFill>
        <p:spPr>
          <a:xfrm>
            <a:off x="944640" y="19080"/>
            <a:ext cx="8254800" cy="10904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Группа 35"/>
          <p:cNvGrpSpPr/>
          <p:nvPr/>
        </p:nvGrpSpPr>
        <p:grpSpPr>
          <a:xfrm>
            <a:off x="1042920" y="2205000"/>
            <a:ext cx="3962520" cy="3672000"/>
            <a:chOff x="1042920" y="2205000"/>
            <a:chExt cx="3962520" cy="3672000"/>
          </a:xfrm>
        </p:grpSpPr>
        <p:sp>
          <p:nvSpPr>
            <p:cNvPr id="137" name="Прямая соединительная линия 15"/>
            <p:cNvSpPr/>
            <p:nvPr/>
          </p:nvSpPr>
          <p:spPr>
            <a:xfrm flipH="1">
              <a:off x="1056240" y="4947480"/>
              <a:ext cx="978840" cy="929520"/>
            </a:xfrm>
            <a:prstGeom prst="line">
              <a:avLst/>
            </a:prstGeom>
            <a:ln w="1908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Куб 12"/>
            <p:cNvSpPr/>
            <p:nvPr/>
          </p:nvSpPr>
          <p:spPr>
            <a:xfrm>
              <a:off x="1042920" y="2205000"/>
              <a:ext cx="3962520" cy="3665160"/>
            </a:xfrm>
            <a:prstGeom prst="cube">
              <a:avLst>
                <a:gd name="adj" fmla="val 25347"/>
              </a:avLst>
            </a:pr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Прямая соединительная линия 13"/>
            <p:cNvSpPr/>
            <p:nvPr/>
          </p:nvSpPr>
          <p:spPr>
            <a:xfrm flipV="1">
              <a:off x="2035440" y="2212920"/>
              <a:ext cx="0" cy="2750760"/>
            </a:xfrm>
            <a:prstGeom prst="line">
              <a:avLst/>
            </a:prstGeom>
            <a:ln w="1908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Прямая соединительная линия 14"/>
            <p:cNvSpPr/>
            <p:nvPr/>
          </p:nvSpPr>
          <p:spPr>
            <a:xfrm flipH="1">
              <a:off x="2044080" y="4955760"/>
              <a:ext cx="2961000" cy="0"/>
            </a:xfrm>
            <a:prstGeom prst="line">
              <a:avLst/>
            </a:prstGeom>
            <a:ln w="1908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Box 1"/>
          <p:cNvSpPr/>
          <p:nvPr/>
        </p:nvSpPr>
        <p:spPr>
          <a:xfrm>
            <a:off x="1042920" y="1052640"/>
            <a:ext cx="86536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е ребро куба увеличили в 2 раза,  его площадь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рхности стала равна  360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площадь поверхности исходного куб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68"/>
          <p:cNvSpPr/>
          <p:nvPr/>
        </p:nvSpPr>
        <p:spPr>
          <a:xfrm>
            <a:off x="1312920" y="6068880"/>
            <a:ext cx="652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Ответ: 9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Группа 35"/>
          <p:cNvGrpSpPr/>
          <p:nvPr/>
        </p:nvGrpSpPr>
        <p:grpSpPr>
          <a:xfrm>
            <a:off x="1042920" y="3429000"/>
            <a:ext cx="2430360" cy="2433600"/>
            <a:chOff x="1042920" y="3429000"/>
            <a:chExt cx="2430360" cy="2433600"/>
          </a:xfrm>
        </p:grpSpPr>
        <p:sp>
          <p:nvSpPr>
            <p:cNvPr id="144" name="Куб 23"/>
            <p:cNvSpPr/>
            <p:nvPr/>
          </p:nvSpPr>
          <p:spPr>
            <a:xfrm>
              <a:off x="1042920" y="3429000"/>
              <a:ext cx="2430360" cy="2433600"/>
            </a:xfrm>
            <a:prstGeom prst="cube">
              <a:avLst>
                <a:gd name="adj" fmla="val 25148"/>
              </a:avLst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Прямая соединительная линия 24"/>
            <p:cNvSpPr/>
            <p:nvPr/>
          </p:nvSpPr>
          <p:spPr>
            <a:xfrm flipH="1" flipV="1">
              <a:off x="1633680" y="3438000"/>
              <a:ext cx="8280" cy="18212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Прямая соединительная линия 28"/>
            <p:cNvSpPr/>
            <p:nvPr/>
          </p:nvSpPr>
          <p:spPr>
            <a:xfrm flipH="1">
              <a:off x="1664640" y="5250240"/>
              <a:ext cx="1808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Прямая соединительная линия 32"/>
            <p:cNvSpPr/>
            <p:nvPr/>
          </p:nvSpPr>
          <p:spPr>
            <a:xfrm flipH="1">
              <a:off x="1051200" y="5250240"/>
              <a:ext cx="605520" cy="6058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Прямоугольник 15" descr=""/>
          <p:cNvPicPr/>
          <p:nvPr/>
        </p:nvPicPr>
        <p:blipFill>
          <a:blip r:embed="rId1"/>
          <a:stretch/>
        </p:blipFill>
        <p:spPr>
          <a:xfrm>
            <a:off x="768240" y="19080"/>
            <a:ext cx="8253360" cy="10904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957240" y="1197000"/>
            <a:ext cx="81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площадь поверхности многогранника, изображенного на рисунке (все двугранные углы прямы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3"/>
          <p:cNvSpPr/>
          <p:nvPr/>
        </p:nvSpPr>
        <p:spPr>
          <a:xfrm>
            <a:off x="3796920" y="6093000"/>
            <a:ext cx="15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40458c"/>
                </a:solidFill>
                <a:uFillTx/>
                <a:latin typeface="Times New Roman"/>
                <a:ea typeface="Times New Roman"/>
              </a:rPr>
              <a:t>Ответ:</a:t>
            </a:r>
            <a:r>
              <a:rPr b="0" i="1" lang="ru-RU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1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1" descr="http://reshuege.ru:89/formula/e0/e0902af6c2bc1cf6e85d16e3746e7b22.png"/>
          <p:cNvPicPr/>
          <p:nvPr/>
        </p:nvPicPr>
        <p:blipFill>
          <a:blip r:embed="rId1"/>
          <a:stretch/>
        </p:blipFill>
        <p:spPr>
          <a:xfrm>
            <a:off x="187200" y="-1095480"/>
            <a:ext cx="3314880" cy="152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3" descr="http://reshuege.ru:89/formula/e0/e0902af6c2bc1cf6e85d16e3746e7b22.png"/>
          <p:cNvPicPr/>
          <p:nvPr/>
        </p:nvPicPr>
        <p:blipFill>
          <a:blip r:embed="rId2"/>
          <a:stretch/>
        </p:blipFill>
        <p:spPr>
          <a:xfrm>
            <a:off x="187200" y="-1095480"/>
            <a:ext cx="3314880" cy="152640"/>
          </a:xfrm>
          <a:prstGeom prst="rect">
            <a:avLst/>
          </a:prstGeom>
          <a:ln w="0">
            <a:noFill/>
          </a:ln>
        </p:spPr>
      </p:pic>
      <p:grpSp>
        <p:nvGrpSpPr>
          <p:cNvPr id="153" name="Группа 125"/>
          <p:cNvGrpSpPr/>
          <p:nvPr/>
        </p:nvGrpSpPr>
        <p:grpSpPr>
          <a:xfrm>
            <a:off x="304920" y="2141280"/>
            <a:ext cx="4573440" cy="3701520"/>
            <a:chOff x="304920" y="2141280"/>
            <a:chExt cx="4573440" cy="3701520"/>
          </a:xfrm>
        </p:grpSpPr>
        <p:grpSp>
          <p:nvGrpSpPr>
            <p:cNvPr id="154" name="Группа 69"/>
            <p:cNvGrpSpPr/>
            <p:nvPr/>
          </p:nvGrpSpPr>
          <p:grpSpPr>
            <a:xfrm>
              <a:off x="304920" y="2141280"/>
              <a:ext cx="4573440" cy="3701520"/>
              <a:chOff x="304920" y="2141280"/>
              <a:chExt cx="4573440" cy="3701520"/>
            </a:xfrm>
          </p:grpSpPr>
          <p:grpSp>
            <p:nvGrpSpPr>
              <p:cNvPr id="155" name="Группа 28"/>
              <p:cNvGrpSpPr/>
              <p:nvPr/>
            </p:nvGrpSpPr>
            <p:grpSpPr>
              <a:xfrm>
                <a:off x="304920" y="2141280"/>
                <a:ext cx="4573440" cy="3701520"/>
                <a:chOff x="304920" y="2141280"/>
                <a:chExt cx="4573440" cy="3701520"/>
              </a:xfrm>
            </p:grpSpPr>
            <p:sp>
              <p:nvSpPr>
                <p:cNvPr id="156" name="Прямая соединительная линия 52"/>
                <p:cNvSpPr/>
                <p:nvPr/>
              </p:nvSpPr>
              <p:spPr>
                <a:xfrm flipV="1">
                  <a:off x="618120" y="2141280"/>
                  <a:ext cx="1227600" cy="89748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Прямая соединительная линия 50"/>
                <p:cNvSpPr/>
                <p:nvPr/>
              </p:nvSpPr>
              <p:spPr>
                <a:xfrm flipH="1">
                  <a:off x="2437920" y="2751120"/>
                  <a:ext cx="389160" cy="2876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Прямая соединительная линия 53"/>
                <p:cNvSpPr/>
                <p:nvPr/>
              </p:nvSpPr>
              <p:spPr>
                <a:xfrm flipV="1">
                  <a:off x="3666240" y="4572360"/>
                  <a:ext cx="1212120" cy="9230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Прямая соединительная линия 60"/>
                <p:cNvSpPr/>
                <p:nvPr/>
              </p:nvSpPr>
              <p:spPr>
                <a:xfrm flipV="1">
                  <a:off x="618120" y="4572360"/>
                  <a:ext cx="1218960" cy="9230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Прямая соединительная линия 61"/>
                <p:cNvSpPr/>
                <p:nvPr/>
              </p:nvSpPr>
              <p:spPr>
                <a:xfrm flipH="1" flipV="1">
                  <a:off x="1837080" y="2149920"/>
                  <a:ext cx="8280" cy="243072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Прямая соединительная линия 69"/>
                <p:cNvSpPr/>
                <p:nvPr/>
              </p:nvSpPr>
              <p:spPr>
                <a:xfrm>
                  <a:off x="1837440" y="4572360"/>
                  <a:ext cx="304092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Прямоугольник 88"/>
                <p:cNvSpPr/>
                <p:nvPr/>
              </p:nvSpPr>
              <p:spPr>
                <a:xfrm>
                  <a:off x="1919160" y="5443920"/>
                  <a:ext cx="324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000" spc="-1" strike="noStrike">
                      <a:solidFill>
                        <a:srgbClr val="c00000"/>
                      </a:solidFill>
                      <a:latin typeface="Calibri"/>
                      <a:ea typeface="Calibri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Прямоугольник 89"/>
                <p:cNvSpPr/>
                <p:nvPr/>
              </p:nvSpPr>
              <p:spPr>
                <a:xfrm>
                  <a:off x="4033440" y="2815920"/>
                  <a:ext cx="295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000" spc="-1" strike="noStrike">
                      <a:solidFill>
                        <a:srgbClr val="c00000"/>
                      </a:solidFill>
                      <a:latin typeface="Calibri"/>
                      <a:ea typeface="Calibri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Прямоугольник 90"/>
                <p:cNvSpPr/>
                <p:nvPr/>
              </p:nvSpPr>
              <p:spPr>
                <a:xfrm>
                  <a:off x="304920" y="3916440"/>
                  <a:ext cx="324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000" spc="-1" strike="noStrike">
                      <a:solidFill>
                        <a:srgbClr val="c00000"/>
                      </a:solidFill>
                      <a:latin typeface="Calibri"/>
                      <a:ea typeface="Calibri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Прямая соединительная линия 53"/>
              <p:cNvSpPr/>
              <p:nvPr/>
            </p:nvSpPr>
            <p:spPr>
              <a:xfrm flipV="1">
                <a:off x="4064040" y="2141640"/>
                <a:ext cx="814320" cy="6264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Прямоугольник 89"/>
              <p:cNvSpPr/>
              <p:nvPr/>
            </p:nvSpPr>
            <p:spPr>
              <a:xfrm>
                <a:off x="3377880" y="2338920"/>
                <a:ext cx="295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c00000"/>
                    </a:solidFill>
                    <a:latin typeface="Calibri"/>
                    <a:ea typeface="Calibri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Прямоугольник 89"/>
              <p:cNvSpPr/>
              <p:nvPr/>
            </p:nvSpPr>
            <p:spPr>
              <a:xfrm>
                <a:off x="961560" y="2194920"/>
                <a:ext cx="295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c00000"/>
                    </a:solidFill>
                    <a:latin typeface="Calibri"/>
                    <a:ea typeface="Calibri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Полилиния 48"/>
            <p:cNvSpPr/>
            <p:nvPr/>
          </p:nvSpPr>
          <p:spPr>
            <a:xfrm>
              <a:off x="618120" y="3039120"/>
              <a:ext cx="3048120" cy="2455920"/>
            </a:xfrm>
            <a:custGeom>
              <a:avLst/>
              <a:gdLst>
                <a:gd name="textAreaLeft" fmla="*/ 0 w 3048120"/>
                <a:gd name="textAreaRight" fmla="*/ 3048480 w 3048120"/>
                <a:gd name="textAreaTop" fmla="*/ 0 h 2455920"/>
                <a:gd name="textAreaBottom" fmla="*/ 2456280 h 2455920"/>
              </a:gdLst>
              <a:ahLst/>
              <a:rect l="textAreaLeft" t="textAreaTop" r="textAreaRight" b="textAreaBottom"/>
              <a:pathLst>
                <a:path w="3048000" h="2429934">
                  <a:moveTo>
                    <a:pt x="0" y="2429934"/>
                  </a:moveTo>
                  <a:lnTo>
                    <a:pt x="0" y="0"/>
                  </a:lnTo>
                  <a:lnTo>
                    <a:pt x="1820333" y="0"/>
                  </a:lnTo>
                  <a:lnTo>
                    <a:pt x="1820333" y="592667"/>
                  </a:lnTo>
                  <a:lnTo>
                    <a:pt x="3048000" y="592667"/>
                  </a:lnTo>
                  <a:lnTo>
                    <a:pt x="3048000" y="2429934"/>
                  </a:lnTo>
                  <a:lnTo>
                    <a:pt x="0" y="2429934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Полилиния 66"/>
            <p:cNvSpPr/>
            <p:nvPr/>
          </p:nvSpPr>
          <p:spPr>
            <a:xfrm>
              <a:off x="1845720" y="2141640"/>
              <a:ext cx="3032640" cy="2430720"/>
            </a:xfrm>
            <a:custGeom>
              <a:avLst/>
              <a:gdLst>
                <a:gd name="textAreaLeft" fmla="*/ 0 w 3032640"/>
                <a:gd name="textAreaRight" fmla="*/ 3033000 w 3032640"/>
                <a:gd name="textAreaTop" fmla="*/ 0 h 2430720"/>
                <a:gd name="textAreaBottom" fmla="*/ 2431080 h 2430720"/>
              </a:gdLst>
              <a:ahLst/>
              <a:rect l="textAreaLeft" t="textAreaTop" r="textAreaRight" b="textAreaBottom"/>
              <a:pathLst>
                <a:path w="3022600" h="2429933">
                  <a:moveTo>
                    <a:pt x="0" y="0"/>
                  </a:moveTo>
                  <a:lnTo>
                    <a:pt x="3022600" y="0"/>
                  </a:lnTo>
                  <a:lnTo>
                    <a:pt x="3022600" y="2429933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Прямая соединительная линия 50"/>
            <p:cNvSpPr/>
            <p:nvPr/>
          </p:nvSpPr>
          <p:spPr>
            <a:xfrm flipH="1">
              <a:off x="2437920" y="3352680"/>
              <a:ext cx="397800" cy="285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Прямая соединительная линия 50"/>
            <p:cNvSpPr/>
            <p:nvPr/>
          </p:nvSpPr>
          <p:spPr>
            <a:xfrm flipH="1">
              <a:off x="3666240" y="3352680"/>
              <a:ext cx="408240" cy="285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Прямоугольник 100"/>
            <p:cNvSpPr/>
            <p:nvPr/>
          </p:nvSpPr>
          <p:spPr>
            <a:xfrm>
              <a:off x="2827800" y="2751120"/>
              <a:ext cx="1244520" cy="6012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Прямоугольник 89"/>
            <p:cNvSpPr/>
            <p:nvPr/>
          </p:nvSpPr>
          <p:spPr>
            <a:xfrm>
              <a:off x="3779280" y="3417120"/>
              <a:ext cx="29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c00000"/>
                  </a:solidFill>
                  <a:latin typeface="Calibri"/>
                  <a:ea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Группа 124"/>
          <p:cNvGrpSpPr/>
          <p:nvPr/>
        </p:nvGrpSpPr>
        <p:grpSpPr>
          <a:xfrm>
            <a:off x="2441520" y="2760840"/>
            <a:ext cx="1628640" cy="869760"/>
            <a:chOff x="2441520" y="2760840"/>
            <a:chExt cx="1628640" cy="869760"/>
          </a:xfrm>
        </p:grpSpPr>
        <p:sp>
          <p:nvSpPr>
            <p:cNvPr id="175" name="Прямая соединительная линия 53"/>
            <p:cNvSpPr/>
            <p:nvPr/>
          </p:nvSpPr>
          <p:spPr>
            <a:xfrm flipH="1">
              <a:off x="3667320" y="2760840"/>
              <a:ext cx="402840" cy="282600"/>
            </a:xfrm>
            <a:prstGeom prst="line">
              <a:avLst/>
            </a:prstGeom>
            <a:ln w="22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Полилиния 119"/>
            <p:cNvSpPr/>
            <p:nvPr/>
          </p:nvSpPr>
          <p:spPr>
            <a:xfrm>
              <a:off x="2441520" y="3043440"/>
              <a:ext cx="1226160" cy="587160"/>
            </a:xfrm>
            <a:custGeom>
              <a:avLst/>
              <a:gdLst>
                <a:gd name="textAreaLeft" fmla="*/ 0 w 1226160"/>
                <a:gd name="textAreaRight" fmla="*/ 1226520 w 1226160"/>
                <a:gd name="textAreaTop" fmla="*/ 0 h 587160"/>
                <a:gd name="textAreaBottom" fmla="*/ 587520 h 587160"/>
              </a:gdLst>
              <a:ahLst/>
              <a:rect l="textAreaLeft" t="textAreaTop" r="textAreaRight" b="textAreaBottom"/>
              <a:pathLst>
                <a:path w="1223962" h="590550">
                  <a:moveTo>
                    <a:pt x="0" y="0"/>
                  </a:moveTo>
                  <a:lnTo>
                    <a:pt x="1223962" y="0"/>
                  </a:lnTo>
                  <a:lnTo>
                    <a:pt x="1223962" y="590550"/>
                  </a:lnTo>
                </a:path>
              </a:pathLst>
            </a:custGeom>
            <a:noFill/>
            <a:ln w="2232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Прямоугольник 132"/>
          <p:cNvSpPr/>
          <p:nvPr/>
        </p:nvSpPr>
        <p:spPr>
          <a:xfrm>
            <a:off x="2830680" y="2739960"/>
            <a:ext cx="1233360" cy="620640"/>
          </a:xfrm>
          <a:prstGeom prst="rect">
            <a:avLst/>
          </a:prstGeom>
          <a:solidFill>
            <a:srgbClr val="6666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олилиния 134"/>
          <p:cNvSpPr/>
          <p:nvPr/>
        </p:nvSpPr>
        <p:spPr>
          <a:xfrm>
            <a:off x="2443320" y="3352680"/>
            <a:ext cx="1614240" cy="285840"/>
          </a:xfrm>
          <a:custGeom>
            <a:avLst/>
            <a:gdLst>
              <a:gd name="textAreaLeft" fmla="*/ 0 w 1614240"/>
              <a:gd name="textAreaRight" fmla="*/ 1614600 w 16142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1614487" h="285750">
                <a:moveTo>
                  <a:pt x="0" y="285750"/>
                </a:moveTo>
                <a:lnTo>
                  <a:pt x="390525" y="0"/>
                </a:lnTo>
                <a:lnTo>
                  <a:pt x="1614487" y="4763"/>
                </a:lnTo>
                <a:lnTo>
                  <a:pt x="1228725" y="285750"/>
                </a:lnTo>
                <a:lnTo>
                  <a:pt x="0" y="285750"/>
                </a:lnTo>
                <a:close/>
              </a:path>
            </a:pathLst>
          </a:custGeom>
          <a:solidFill>
            <a:srgbClr val="00b0f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олилиния 135"/>
          <p:cNvSpPr/>
          <p:nvPr/>
        </p:nvSpPr>
        <p:spPr>
          <a:xfrm>
            <a:off x="2428920" y="2752560"/>
            <a:ext cx="409680" cy="876600"/>
          </a:xfrm>
          <a:custGeom>
            <a:avLst/>
            <a:gdLst>
              <a:gd name="textAreaLeft" fmla="*/ 0 w 409680"/>
              <a:gd name="textAreaRight" fmla="*/ 410040 w 409680"/>
              <a:gd name="textAreaTop" fmla="*/ 0 h 876600"/>
              <a:gd name="textAreaBottom" fmla="*/ 876960 h 876600"/>
            </a:gdLst>
            <a:ahLst/>
            <a:rect l="textAreaLeft" t="textAreaTop" r="textAreaRight" b="textAreaBottom"/>
            <a:pathLst>
              <a:path w="409575" h="876300">
                <a:moveTo>
                  <a:pt x="0" y="876300"/>
                </a:moveTo>
                <a:lnTo>
                  <a:pt x="400050" y="609600"/>
                </a:lnTo>
                <a:lnTo>
                  <a:pt x="409575" y="0"/>
                </a:lnTo>
                <a:lnTo>
                  <a:pt x="14288" y="290513"/>
                </a:lnTo>
                <a:lnTo>
                  <a:pt x="0" y="876300"/>
                </a:lnTo>
                <a:close/>
              </a:path>
            </a:pathLst>
          </a:custGeom>
          <a:solidFill>
            <a:srgbClr val="92d05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Прямоугольник 35" descr=""/>
          <p:cNvPicPr/>
          <p:nvPr/>
        </p:nvPicPr>
        <p:blipFill>
          <a:blip r:embed="rId3"/>
          <a:stretch/>
        </p:blipFill>
        <p:spPr>
          <a:xfrm>
            <a:off x="768240" y="19080"/>
            <a:ext cx="8253360" cy="10904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22222E-006 L 1.38889E-006 -0.08542 E">
                                      <p:cBhvr>
                                        <p:cTn id="314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33333E-006 L 0.13524 -3.33333E-006 E">
                                      <p:cBhvr>
                                        <p:cTn id="323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48148E-006 L -0.04271 0.04445 E">
                                      <p:cBhvr>
                                        <p:cTn id="332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880920" y="981000"/>
            <a:ext cx="82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среднюю линию основания треугольной призмы, площадь боковой поверхности которой равна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8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ведена плоскость, параллельная боковому ребру. Найдите площадь боковой поверхности отсеченной треугольной призм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3"/>
          <p:cNvSpPr/>
          <p:nvPr/>
        </p:nvSpPr>
        <p:spPr>
          <a:xfrm>
            <a:off x="4067280" y="2637000"/>
            <a:ext cx="4575240" cy="34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боковых граней отсеченной призмы вдвое меньше соответствующих площадей боковых граней исходной призм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площадь боковой поверхности отсеченной призмы вдвое меньше площади боковой поверхности исходн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бок.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8/2 = 49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68"/>
          <p:cNvSpPr/>
          <p:nvPr/>
        </p:nvSpPr>
        <p:spPr>
          <a:xfrm>
            <a:off x="1312920" y="6094440"/>
            <a:ext cx="652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Ответ: </a:t>
            </a:r>
            <a:r>
              <a:rPr b="0" i="1" lang="en-US" sz="2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49</a:t>
            </a:r>
            <a:r>
              <a:rPr b="0" i="1" lang="ru-RU" sz="2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Группа 71"/>
          <p:cNvGrpSpPr/>
          <p:nvPr/>
        </p:nvGrpSpPr>
        <p:grpSpPr>
          <a:xfrm>
            <a:off x="684360" y="2421000"/>
            <a:ext cx="3352680" cy="3057480"/>
            <a:chOff x="684360" y="2421000"/>
            <a:chExt cx="3352680" cy="3057480"/>
          </a:xfrm>
        </p:grpSpPr>
        <p:sp>
          <p:nvSpPr>
            <p:cNvPr id="185" name="Полилиния 15"/>
            <p:cNvSpPr/>
            <p:nvPr/>
          </p:nvSpPr>
          <p:spPr>
            <a:xfrm>
              <a:off x="1598760" y="2421000"/>
              <a:ext cx="2438280" cy="91476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914760"/>
                <a:gd name="textAreaBottom" fmla="*/ 915120 h 914760"/>
              </a:gdLst>
              <a:ahLst/>
              <a:rect l="textAreaLeft" t="textAreaTop" r="textAreaRight" b="textAreaBottom"/>
              <a:pathLst>
                <a:path w="2438400" h="914400">
                  <a:moveTo>
                    <a:pt x="0" y="914400"/>
                  </a:moveTo>
                  <a:lnTo>
                    <a:pt x="2438400" y="914400"/>
                  </a:lnTo>
                  <a:lnTo>
                    <a:pt x="1524000" y="0"/>
                  </a:lnTo>
                  <a:lnTo>
                    <a:pt x="0" y="9144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Полилиния 18"/>
            <p:cNvSpPr/>
            <p:nvPr/>
          </p:nvSpPr>
          <p:spPr>
            <a:xfrm>
              <a:off x="709560" y="4555440"/>
              <a:ext cx="2438280" cy="92304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923040"/>
                <a:gd name="textAreaBottom" fmla="*/ 923400 h 923040"/>
              </a:gdLst>
              <a:ahLst/>
              <a:rect l="textAreaLeft" t="textAreaTop" r="textAreaRight" b="textAreaBottom"/>
              <a:pathLst>
                <a:path w="2438400" h="922867">
                  <a:moveTo>
                    <a:pt x="0" y="914400"/>
                  </a:moveTo>
                  <a:lnTo>
                    <a:pt x="1540934" y="0"/>
                  </a:lnTo>
                  <a:lnTo>
                    <a:pt x="2438400" y="92286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Прямая соединительная линия 21"/>
            <p:cNvSpPr/>
            <p:nvPr/>
          </p:nvSpPr>
          <p:spPr>
            <a:xfrm flipH="1">
              <a:off x="2250720" y="2421000"/>
              <a:ext cx="871920" cy="2134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Прямая соединительная линия 27"/>
            <p:cNvSpPr/>
            <p:nvPr/>
          </p:nvSpPr>
          <p:spPr>
            <a:xfrm flipH="1">
              <a:off x="1911960" y="3335760"/>
              <a:ext cx="914400" cy="2134440"/>
            </a:xfrm>
            <a:prstGeom prst="line">
              <a:avLst/>
            </a:prstGeom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Прямая соединительная линия 31"/>
            <p:cNvSpPr/>
            <p:nvPr/>
          </p:nvSpPr>
          <p:spPr>
            <a:xfrm flipH="1">
              <a:off x="1454760" y="2869920"/>
              <a:ext cx="905760" cy="2168280"/>
            </a:xfrm>
            <a:prstGeom prst="line">
              <a:avLst/>
            </a:prstGeom>
            <a:ln w="1260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Прямая соединительная линия 35"/>
            <p:cNvSpPr/>
            <p:nvPr/>
          </p:nvSpPr>
          <p:spPr>
            <a:xfrm>
              <a:off x="2360520" y="2869920"/>
              <a:ext cx="465480" cy="465840"/>
            </a:xfrm>
            <a:prstGeom prst="line">
              <a:avLst/>
            </a:prstGeom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Прямая соединительная линия 39"/>
            <p:cNvSpPr/>
            <p:nvPr/>
          </p:nvSpPr>
          <p:spPr>
            <a:xfrm flipH="1" flipV="1">
              <a:off x="1454760" y="5037840"/>
              <a:ext cx="457200" cy="431640"/>
            </a:xfrm>
            <a:prstGeom prst="line">
              <a:avLst/>
            </a:prstGeom>
            <a:ln w="1260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Полилиния 47"/>
            <p:cNvSpPr/>
            <p:nvPr/>
          </p:nvSpPr>
          <p:spPr>
            <a:xfrm>
              <a:off x="684360" y="3327120"/>
              <a:ext cx="3352680" cy="214272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142720"/>
                <a:gd name="textAreaBottom" fmla="*/ 2143080 h 2142720"/>
              </a:gdLst>
              <a:ahLst/>
              <a:rect l="textAreaLeft" t="textAreaTop" r="textAreaRight" b="textAreaBottom"/>
              <a:pathLst>
                <a:path w="3352800" h="2142067">
                  <a:moveTo>
                    <a:pt x="914400" y="0"/>
                  </a:moveTo>
                  <a:lnTo>
                    <a:pt x="0" y="2142067"/>
                  </a:lnTo>
                  <a:lnTo>
                    <a:pt x="2446867" y="2142067"/>
                  </a:lnTo>
                  <a:lnTo>
                    <a:pt x="3352800" y="846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Полилиния 49"/>
            <p:cNvSpPr/>
            <p:nvPr/>
          </p:nvSpPr>
          <p:spPr>
            <a:xfrm>
              <a:off x="1454760" y="2869920"/>
              <a:ext cx="1371600" cy="260028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2600280"/>
                <a:gd name="textAreaBottom" fmla="*/ 2600280 h 2600280"/>
              </a:gdLst>
              <a:ahLst/>
              <a:rect l="textAreaLeft" t="textAreaTop" r="textAreaRight" b="textAreaBottom"/>
              <a:pathLst>
                <a:path w="1371600" h="2599267">
                  <a:moveTo>
                    <a:pt x="905933" y="0"/>
                  </a:moveTo>
                  <a:lnTo>
                    <a:pt x="0" y="2167467"/>
                  </a:lnTo>
                  <a:lnTo>
                    <a:pt x="457200" y="2599267"/>
                  </a:lnTo>
                  <a:lnTo>
                    <a:pt x="1371600" y="465667"/>
                  </a:lnTo>
                  <a:lnTo>
                    <a:pt x="905933" y="0"/>
                  </a:lnTo>
                  <a:close/>
                </a:path>
              </a:pathLst>
            </a:custGeom>
            <a:solidFill>
              <a:srgbClr val="00b0f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Прямоугольник 15" descr=""/>
          <p:cNvPicPr/>
          <p:nvPr/>
        </p:nvPicPr>
        <p:blipFill>
          <a:blip r:embed="rId1"/>
          <a:stretch/>
        </p:blipFill>
        <p:spPr>
          <a:xfrm>
            <a:off x="768240" y="19080"/>
            <a:ext cx="8253360" cy="10904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Box 2"/>
          <p:cNvSpPr/>
          <p:nvPr/>
        </p:nvSpPr>
        <p:spPr>
          <a:xfrm>
            <a:off x="928080" y="981000"/>
            <a:ext cx="7049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«Решение задач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а вычислени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лощади поверхнос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измы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258560" y="105264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обходимо просчитать, какая упаковка будет экономически выгодна для производства: упаковка, имеющая форму правильного тетраэдра или упаковка, имеющая форму прямоугольного параллелепипе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ить экономически выгодную упаковку. Найдите, сколько завод будет экономить картона в день, если будет выпускать 3000 упаковок для с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Прямоугольник 3" descr=""/>
          <p:cNvPicPr/>
          <p:nvPr/>
        </p:nvPicPr>
        <p:blipFill>
          <a:blip r:embed="rId1"/>
          <a:stretch/>
        </p:blipFill>
        <p:spPr>
          <a:xfrm>
            <a:off x="768240" y="66600"/>
            <a:ext cx="8253360" cy="78732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1" descr=""/>
          <p:cNvPicPr/>
          <p:nvPr/>
        </p:nvPicPr>
        <p:blipFill>
          <a:blip r:embed="rId2"/>
          <a:srcRect l="12873" t="0" r="0" b="0"/>
          <a:stretch/>
        </p:blipFill>
        <p:spPr>
          <a:xfrm>
            <a:off x="900000" y="3789360"/>
            <a:ext cx="3959280" cy="324648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4" descr="http://prodbazis.ru/Upload/product/1284/%D1%81%D0%BE%D0%BA%20%D0%B4%D0%BE%D0%B1%D1%80%D1%8B%D0%B9%202%D0%BB%20%D0%B0%D0%BF%D0%B5%D0%BB%D1%8C%D1%81%D0%B8%D0%BD.jpg"/>
          <p:cNvPicPr/>
          <p:nvPr/>
        </p:nvPicPr>
        <p:blipFill>
          <a:blip r:embed="rId3"/>
          <a:stretch/>
        </p:blipFill>
        <p:spPr>
          <a:xfrm>
            <a:off x="5580000" y="3789360"/>
            <a:ext cx="2820960" cy="28209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Прямоугольник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8240" y="19080"/>
            <a:ext cx="8253360" cy="1090440"/>
          </a:xfrm>
          <a:prstGeom prst="rect">
            <a:avLst/>
          </a:prstGeom>
          <a:ln w="0">
            <a:noFill/>
          </a:ln>
        </p:spPr>
      </p:pic>
      <p:pic>
        <p:nvPicPr>
          <p:cNvPr id="202" name="Содержимое 5" descr=""/>
          <p:cNvPicPr/>
          <p:nvPr/>
        </p:nvPicPr>
        <p:blipFill>
          <a:blip r:embed="rId3"/>
          <a:stretch/>
        </p:blipFill>
        <p:spPr>
          <a:xfrm>
            <a:off x="450720" y="1579680"/>
            <a:ext cx="8242560" cy="4619520"/>
          </a:xfrm>
          <a:prstGeom prst="rect">
            <a:avLst/>
          </a:prstGeom>
          <a:ln w="0">
            <a:noFill/>
          </a:ln>
        </p:spPr>
      </p:pic>
      <p:sp>
        <p:nvSpPr>
          <p:cNvPr id="203" name="Управляющая кнопка: далее 6">
            <a:hlinkClick r:id="rId4"/>
          </p:cNvPr>
          <p:cNvSpPr/>
          <p:nvPr/>
        </p:nvSpPr>
        <p:spPr>
          <a:xfrm>
            <a:off x="7308720" y="6093000"/>
            <a:ext cx="1224000" cy="576000"/>
          </a:xfrm>
          <a:custGeom>
            <a:avLst/>
            <a:gdLst>
              <a:gd name="textAreaLeft" fmla="*/ 37080 w 1224000"/>
              <a:gd name="textAreaRight" fmla="*/ 1186920 w 1224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5885" h="21600">
                <a:moveTo>
                  <a:pt x="0" y="0"/>
                </a:moveTo>
                <a:lnTo>
                  <a:pt x="45885" y="0"/>
                </a:lnTo>
                <a:lnTo>
                  <a:pt x="45885" y="21600"/>
                </a:lnTo>
                <a:lnTo>
                  <a:pt x="0" y="21600"/>
                </a:lnTo>
                <a:close/>
              </a:path>
              <a:path fill="lightenLess" w="45885" h="21600">
                <a:moveTo>
                  <a:pt x="0" y="0"/>
                </a:moveTo>
                <a:lnTo>
                  <a:pt x="45885" y="0"/>
                </a:lnTo>
                <a:lnTo>
                  <a:pt x="44485" y="1400"/>
                </a:lnTo>
                <a:lnTo>
                  <a:pt x="1400" y="1400"/>
                </a:lnTo>
                <a:close/>
              </a:path>
              <a:path fill="darken" w="45885" h="21600">
                <a:moveTo>
                  <a:pt x="45885" y="0"/>
                </a:moveTo>
                <a:lnTo>
                  <a:pt x="45885" y="21600"/>
                </a:lnTo>
                <a:lnTo>
                  <a:pt x="44485" y="20200"/>
                </a:lnTo>
                <a:lnTo>
                  <a:pt x="44485" y="1400"/>
                </a:lnTo>
                <a:close/>
              </a:path>
              <a:path fill="darkenLess" w="45885" h="21600">
                <a:moveTo>
                  <a:pt x="45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85" y="20200"/>
                </a:lnTo>
                <a:close/>
              </a:path>
              <a:path fill="lighten" w="45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885" h="21600">
                <a:moveTo>
                  <a:pt x="15936" y="3794"/>
                </a:moveTo>
                <a:lnTo>
                  <a:pt x="29949" y="10800"/>
                </a:lnTo>
                <a:lnTo>
                  <a:pt x="1593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агональ правильной четырехуголь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мы равна 12см и  составляет с боковой гранью угол 30</a:t>
            </a:r>
            <a:r>
              <a:rPr b="0" lang="ru-RU" sz="32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0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Найти площадь поверхности призмы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Прямоугольник 3" descr=""/>
          <p:cNvPicPr/>
          <p:nvPr/>
        </p:nvPicPr>
        <p:blipFill>
          <a:blip r:embed="rId1"/>
          <a:stretch/>
        </p:blipFill>
        <p:spPr>
          <a:xfrm>
            <a:off x="768240" y="19080"/>
            <a:ext cx="8253360" cy="10904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суд, имеющий форму правильной треугольной призмы, налили 1100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ды и полностью в нее погрузили деталь. При этом уровень жидкости в сосуде поднялся с отметки 25 см до отметки 29 см. Чему равен объем детал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выразите в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Прямоугольник 3" descr=""/>
          <p:cNvPicPr/>
          <p:nvPr/>
        </p:nvPicPr>
        <p:blipFill>
          <a:blip r:embed="rId1"/>
          <a:stretch/>
        </p:blipFill>
        <p:spPr>
          <a:xfrm>
            <a:off x="768240" y="19080"/>
            <a:ext cx="8253360" cy="1090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http://bankege.ru/images/2/22/B11_9.png"/>
          <p:cNvPicPr/>
          <p:nvPr/>
        </p:nvPicPr>
        <p:blipFill>
          <a:blip r:embed="rId2"/>
          <a:stretch/>
        </p:blipFill>
        <p:spPr>
          <a:xfrm>
            <a:off x="6804000" y="4437000"/>
            <a:ext cx="2048040" cy="20480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258560" y="1341360"/>
            <a:ext cx="762012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ть п.30 §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ЕГЭ из открытого ба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е прямой призмы – прямоугольный треугольник с катетами 16 и 12 см. Меньшая боковая грань и основание призм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вели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площадь боковой и полной поверхности приз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практического содер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j0232133"/>
          <p:cNvPicPr/>
          <p:nvPr/>
        </p:nvPicPr>
        <p:blipFill>
          <a:blip r:embed="rId1"/>
          <a:stretch/>
        </p:blipFill>
        <p:spPr>
          <a:xfrm>
            <a:off x="395280" y="-171360"/>
            <a:ext cx="2948040" cy="302400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7"/>
          <p:cNvSpPr/>
          <p:nvPr/>
        </p:nvSpPr>
        <p:spPr>
          <a:xfrm>
            <a:off x="2987640" y="333360"/>
            <a:ext cx="5857920" cy="85716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Impact"/>
              </a:rPr>
              <a:t>Домашнее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4"/>
          <p:cNvSpPr/>
          <p:nvPr/>
        </p:nvSpPr>
        <p:spPr>
          <a:xfrm>
            <a:off x="1692360" y="4508640"/>
            <a:ext cx="72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ционер заказал аквариум, имеющий форму правильной шестиугольной призмы. Сколько квадратных метров стекла необходимо для изготовления аквариума, если сторона осн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 м, а высота 1,2 м? Ответ округлите до сот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928080" y="981000"/>
            <a:ext cx="7049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Тема урок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«Решение задач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а вычислени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лощади поверхнос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измы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36"/>
          <p:cNvSpPr/>
          <p:nvPr/>
        </p:nvSpPr>
        <p:spPr>
          <a:xfrm>
            <a:off x="1033560" y="431172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Calibri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ая соединительная линия 53"/>
          <p:cNvSpPr/>
          <p:nvPr/>
        </p:nvSpPr>
        <p:spPr>
          <a:xfrm flipH="1">
            <a:off x="2131920" y="1832040"/>
            <a:ext cx="6480" cy="2438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54"/>
          <p:cNvSpPr/>
          <p:nvPr/>
        </p:nvSpPr>
        <p:spPr>
          <a:xfrm flipH="1">
            <a:off x="3351240" y="2752560"/>
            <a:ext cx="6480" cy="243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ая соединительная линия 61"/>
          <p:cNvSpPr/>
          <p:nvPr/>
        </p:nvSpPr>
        <p:spPr>
          <a:xfrm>
            <a:off x="601560" y="5184720"/>
            <a:ext cx="2749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ая соединительная линия 54"/>
          <p:cNvSpPr/>
          <p:nvPr/>
        </p:nvSpPr>
        <p:spPr>
          <a:xfrm flipH="1">
            <a:off x="601560" y="2752560"/>
            <a:ext cx="6480" cy="243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олилиния 63"/>
          <p:cNvSpPr/>
          <p:nvPr/>
        </p:nvSpPr>
        <p:spPr>
          <a:xfrm flipH="1" rot="10800000">
            <a:off x="608040" y="1831680"/>
            <a:ext cx="2749680" cy="920520"/>
          </a:xfrm>
          <a:custGeom>
            <a:avLst/>
            <a:gdLst>
              <a:gd name="textAreaLeft" fmla="*/ 360 w 2749680"/>
              <a:gd name="textAreaRight" fmla="*/ 2750400 w 2749680"/>
              <a:gd name="textAreaTop" fmla="*/ 0 h 920520"/>
              <a:gd name="textAreaBottom" fmla="*/ 920880 h 920520"/>
            </a:gdLst>
            <a:ahLst/>
            <a:rect l="textAreaLeft" t="textAreaTop" r="textAreaRight" b="textAreaBottom"/>
            <a:pathLst>
              <a:path w="2749550" h="920750">
                <a:moveTo>
                  <a:pt x="0" y="0"/>
                </a:moveTo>
                <a:lnTo>
                  <a:pt x="2749550" y="0"/>
                </a:lnTo>
                <a:lnTo>
                  <a:pt x="1530350" y="920750"/>
                </a:lnTo>
                <a:lnTo>
                  <a:pt x="0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олилиния 64"/>
          <p:cNvSpPr/>
          <p:nvPr/>
        </p:nvSpPr>
        <p:spPr>
          <a:xfrm flipV="1">
            <a:off x="601560" y="4270320"/>
            <a:ext cx="2749680" cy="914400"/>
          </a:xfrm>
          <a:custGeom>
            <a:avLst/>
            <a:gdLst>
              <a:gd name="textAreaLeft" fmla="*/ 0 w 2749680"/>
              <a:gd name="textAreaRight" fmla="*/ 2750040 w 27496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2749550" h="914400">
                <a:moveTo>
                  <a:pt x="0" y="0"/>
                </a:moveTo>
                <a:lnTo>
                  <a:pt x="1530350" y="914400"/>
                </a:lnTo>
                <a:lnTo>
                  <a:pt x="274955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6"/>
          <p:cNvSpPr/>
          <p:nvPr/>
        </p:nvSpPr>
        <p:spPr>
          <a:xfrm>
            <a:off x="2598840" y="429588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Calibri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олилиния 38"/>
          <p:cNvSpPr/>
          <p:nvPr/>
        </p:nvSpPr>
        <p:spPr>
          <a:xfrm>
            <a:off x="1876320" y="4414680"/>
            <a:ext cx="447840" cy="157320"/>
          </a:xfrm>
          <a:custGeom>
            <a:avLst/>
            <a:gdLst>
              <a:gd name="textAreaLeft" fmla="*/ 0 w 447840"/>
              <a:gd name="textAreaRight" fmla="*/ 448200 w 447840"/>
              <a:gd name="textAreaTop" fmla="*/ 0 h 157320"/>
              <a:gd name="textAreaBottom" fmla="*/ 157680 h 157320"/>
            </a:gdLst>
            <a:ahLst/>
            <a:rect l="textAreaLeft" t="textAreaTop" r="textAreaRight" b="textAreaBottom"/>
            <a:pathLst>
              <a:path w="447675" h="157162">
                <a:moveTo>
                  <a:pt x="0" y="9525"/>
                </a:moveTo>
                <a:lnTo>
                  <a:pt x="204788" y="157162"/>
                </a:lnTo>
                <a:lnTo>
                  <a:pt x="44767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6"/>
          <p:cNvSpPr/>
          <p:nvPr/>
        </p:nvSpPr>
        <p:spPr>
          <a:xfrm>
            <a:off x="1403280" y="260280"/>
            <a:ext cx="7201080" cy="85716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Impact"/>
              </a:rPr>
              <a:t>Домашнее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7"/>
          <p:cNvSpPr/>
          <p:nvPr/>
        </p:nvSpPr>
        <p:spPr>
          <a:xfrm>
            <a:off x="3780000" y="2349360"/>
            <a:ext cx="511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ЕГЭ из открытого ба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е прямой призмы – прямоугольный треугольник с катетами 16 и 12 см. Меньшая боковая грань и основание призм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вели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площадь боковой и полной поверхности пр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" descr=""/>
          <p:cNvPicPr/>
          <p:nvPr/>
        </p:nvPicPr>
        <p:blipFill>
          <a:blip r:embed="rId1"/>
          <a:stretch/>
        </p:blipFill>
        <p:spPr>
          <a:xfrm>
            <a:off x="6953400" y="620640"/>
            <a:ext cx="2190600" cy="16430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258560" y="1341360"/>
            <a:ext cx="762012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практического содер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7"/>
          <p:cNvSpPr/>
          <p:nvPr/>
        </p:nvSpPr>
        <p:spPr>
          <a:xfrm>
            <a:off x="2987640" y="333360"/>
            <a:ext cx="5857920" cy="85716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Impact"/>
              </a:rPr>
              <a:t>Домашнее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4"/>
          <p:cNvSpPr/>
          <p:nvPr/>
        </p:nvSpPr>
        <p:spPr>
          <a:xfrm>
            <a:off x="1619280" y="1844640"/>
            <a:ext cx="72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ционер заказал аквариум, имеющий форму правильной шестиугольной призмы. Сколько квадратных метров стекла необходимо для изготовления аквариума, если сторона осн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 м, а высота 1,2 м? Ответ округлите до сот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C:\Users\дима\Desktop\87339349_1_644x461_akvarium-panoramnyy-shestiugolnik-tyumen.jpg"/>
          <p:cNvPicPr/>
          <p:nvPr/>
        </p:nvPicPr>
        <p:blipFill>
          <a:blip r:embed="rId1"/>
          <a:stretch/>
        </p:blipFill>
        <p:spPr>
          <a:xfrm>
            <a:off x="3203640" y="4221000"/>
            <a:ext cx="3171600" cy="2376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" descr=""/>
          <p:cNvPicPr/>
          <p:nvPr/>
        </p:nvPicPr>
        <p:blipFill>
          <a:blip r:embed="rId2"/>
          <a:stretch/>
        </p:blipFill>
        <p:spPr>
          <a:xfrm>
            <a:off x="826920" y="0"/>
            <a:ext cx="2190960" cy="16430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Прямоугольник 5" descr=""/>
          <p:cNvPicPr/>
          <p:nvPr/>
        </p:nvPicPr>
        <p:blipFill>
          <a:blip r:embed="rId1"/>
          <a:stretch/>
        </p:blipFill>
        <p:spPr>
          <a:xfrm>
            <a:off x="907920" y="450720"/>
            <a:ext cx="7718400" cy="1092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Картинки по запросу анимашки в презентацию по математике"/>
          <p:cNvPicPr/>
          <p:nvPr/>
        </p:nvPicPr>
        <p:blipFill>
          <a:blip r:embed="rId2"/>
          <a:stretch/>
        </p:blipFill>
        <p:spPr>
          <a:xfrm>
            <a:off x="1476360" y="2060640"/>
            <a:ext cx="6643800" cy="42861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Прямоугольник 3" descr=""/>
          <p:cNvPicPr/>
          <p:nvPr/>
        </p:nvPicPr>
        <p:blipFill>
          <a:blip r:embed="rId1"/>
          <a:stretch/>
        </p:blipFill>
        <p:spPr>
          <a:xfrm>
            <a:off x="768240" y="19080"/>
            <a:ext cx="8253360" cy="10904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971280" y="1599840"/>
            <a:ext cx="771516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зультатом своей личной работы считаю, что я 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. Разобрался в те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. Научился решать за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. Повторил весь ранее изученный материал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  вам не хватало на уроке при решении задач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. Знаний.    Б.   Времени.       С. Желания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. Решал норма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то оказывал вам помощь  в преодолении трудностей на уроке?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. Одноклассники.           Б. Учитель.                                                                            С. Учебник.                       Д. Никт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9144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ерите из предоставленных пословиц и поговорок и крылатых выражений только те, которые соответствуют вашей работе и вашему настроению сегодня на уро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мение и труд все перетр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Бить баклу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лышал звон, да не знаю где 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 мастерством люди не родятся, а добытым ремеслом гордя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Прямоугольник 3" descr=""/>
          <p:cNvPicPr/>
          <p:nvPr/>
        </p:nvPicPr>
        <p:blipFill>
          <a:blip r:embed="rId1"/>
          <a:stretch/>
        </p:blipFill>
        <p:spPr>
          <a:xfrm>
            <a:off x="768240" y="19080"/>
            <a:ext cx="8253360" cy="1090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PE07677_"/>
          <p:cNvPicPr/>
          <p:nvPr/>
        </p:nvPicPr>
        <p:blipFill>
          <a:blip r:embed="rId2"/>
          <a:stretch/>
        </p:blipFill>
        <p:spPr>
          <a:xfrm>
            <a:off x="1042920" y="4869000"/>
            <a:ext cx="1714680" cy="17175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1" descr=""/>
          <p:cNvPicPr/>
          <p:nvPr/>
        </p:nvPicPr>
        <p:blipFill>
          <a:blip r:embed="rId1"/>
          <a:stretch/>
        </p:blipFill>
        <p:spPr>
          <a:xfrm>
            <a:off x="689040" y="12600"/>
            <a:ext cx="8070840" cy="63882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WordArt 8" descr=""/>
          <p:cNvPicPr/>
          <p:nvPr/>
        </p:nvPicPr>
        <p:blipFill>
          <a:blip r:embed="rId1"/>
          <a:stretch/>
        </p:blipFill>
        <p:spPr>
          <a:xfrm>
            <a:off x="-334800" y="-334800"/>
            <a:ext cx="9485280" cy="552276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2" descr="https://ds02.infourok.ru/uploads/ex/0b3d/0007bfe4-573b184e/3/hello_html_68278a41.jpg"/>
          <p:cNvPicPr/>
          <p:nvPr/>
        </p:nvPicPr>
        <p:blipFill>
          <a:blip r:embed="rId2"/>
          <a:stretch/>
        </p:blipFill>
        <p:spPr>
          <a:xfrm>
            <a:off x="5435640" y="4221000"/>
            <a:ext cx="3143160" cy="2214720"/>
          </a:xfrm>
          <a:prstGeom prst="rect">
            <a:avLst/>
          </a:prstGeom>
          <a:ln w="0">
            <a:noFill/>
          </a:ln>
        </p:spPr>
      </p:pic>
    </p:spTree>
  </p:cSld>
  <p:transition>
    <p:pull dir="ru"/>
    <p:sndAc>
      <p:stSnd>
        <p:snd r:embed="rId3" name="applause.wav"/>
      </p:stSnd>
    </p:sndAc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"/>
          <p:cNvPicPr/>
          <p:nvPr/>
        </p:nvPicPr>
        <p:blipFill>
          <a:blip r:embed="rId1"/>
          <a:stretch/>
        </p:blipFill>
        <p:spPr>
          <a:xfrm>
            <a:off x="-60480" y="1378080"/>
            <a:ext cx="8807760" cy="489420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4" descr=""/>
          <p:cNvPicPr/>
          <p:nvPr/>
        </p:nvPicPr>
        <p:blipFill>
          <a:blip r:embed="rId2"/>
          <a:stretch/>
        </p:blipFill>
        <p:spPr>
          <a:xfrm>
            <a:off x="768240" y="19080"/>
            <a:ext cx="8253360" cy="1090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1" descr=""/>
          <p:cNvPicPr/>
          <p:nvPr/>
        </p:nvPicPr>
        <p:blipFill>
          <a:blip r:embed="rId1"/>
          <a:stretch/>
        </p:blipFill>
        <p:spPr>
          <a:xfrm>
            <a:off x="1407960" y="1590840"/>
            <a:ext cx="7150320" cy="37558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Какой многогранн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ывается призм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ая призма называется прям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ая призма называется правиль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называется площадью поверхности призм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вычисляется площадь боковой поверхности прямой приз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Прямоугольник 3" descr=""/>
          <p:cNvPicPr/>
          <p:nvPr/>
        </p:nvPicPr>
        <p:blipFill>
          <a:blip r:embed="rId1"/>
          <a:stretch/>
        </p:blipFill>
        <p:spPr>
          <a:xfrm>
            <a:off x="768240" y="19080"/>
            <a:ext cx="8253360" cy="1090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" descr=""/>
          <p:cNvPicPr/>
          <p:nvPr/>
        </p:nvPicPr>
        <p:blipFill>
          <a:blip r:embed="rId2"/>
          <a:stretch/>
        </p:blipFill>
        <p:spPr>
          <a:xfrm>
            <a:off x="6953400" y="907920"/>
            <a:ext cx="2190600" cy="16430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285920" y="1600200"/>
            <a:ext cx="595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вычислить площадь полной поверхности призм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йте определение угла между прямой и плоск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формулируйте теорему о трех перпендикуля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шифруйте дату: 06.02.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Прямоугольник 3" descr=""/>
          <p:cNvPicPr/>
          <p:nvPr/>
        </p:nvPicPr>
        <p:blipFill>
          <a:blip r:embed="rId1"/>
          <a:stretch/>
        </p:blipFill>
        <p:spPr>
          <a:xfrm>
            <a:off x="768240" y="19080"/>
            <a:ext cx="8253360" cy="1090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" descr=""/>
          <p:cNvPicPr/>
          <p:nvPr/>
        </p:nvPicPr>
        <p:blipFill>
          <a:blip r:embed="rId2"/>
          <a:stretch/>
        </p:blipFill>
        <p:spPr>
          <a:xfrm>
            <a:off x="6953400" y="1125360"/>
            <a:ext cx="2190600" cy="16434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Установите  соответств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476360" y="1197000"/>
            <a:ext cx="2374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лощадь боков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верхности прямой призмы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476360" y="5157720"/>
            <a:ext cx="2374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лощад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ямоугольного  треуголь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476360" y="2781360"/>
            <a:ext cx="237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лощад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авильного треуголь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1476360" y="5950080"/>
            <a:ext cx="237492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лощадь квадрата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476360" y="3573360"/>
            <a:ext cx="2374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лощадь пол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верхности призмы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1476360" y="4365720"/>
            <a:ext cx="237492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лощадь правиль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шестиугольника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1476360" y="1989000"/>
            <a:ext cx="2374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Теорема Пифагор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0"/>
          <p:cNvSpPr/>
          <p:nvPr/>
        </p:nvSpPr>
        <p:spPr>
          <a:xfrm>
            <a:off x="684360" y="1197000"/>
            <a:ext cx="576000" cy="555480"/>
          </a:xfrm>
          <a:prstGeom prst="ellipse">
            <a:avLst/>
          </a:prstGeom>
          <a:solidFill>
            <a:srgbClr val="fee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1"/>
          <p:cNvSpPr/>
          <p:nvPr/>
        </p:nvSpPr>
        <p:spPr>
          <a:xfrm>
            <a:off x="684360" y="1989000"/>
            <a:ext cx="576000" cy="555840"/>
          </a:xfrm>
          <a:prstGeom prst="ellipse">
            <a:avLst/>
          </a:prstGeom>
          <a:solidFill>
            <a:srgbClr val="fee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2"/>
          <p:cNvSpPr/>
          <p:nvPr/>
        </p:nvSpPr>
        <p:spPr>
          <a:xfrm>
            <a:off x="684360" y="2781360"/>
            <a:ext cx="576000" cy="555480"/>
          </a:xfrm>
          <a:prstGeom prst="ellipse">
            <a:avLst/>
          </a:prstGeom>
          <a:solidFill>
            <a:srgbClr val="fee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3"/>
          <p:cNvSpPr/>
          <p:nvPr/>
        </p:nvSpPr>
        <p:spPr>
          <a:xfrm>
            <a:off x="684360" y="3573360"/>
            <a:ext cx="576000" cy="555840"/>
          </a:xfrm>
          <a:prstGeom prst="ellipse">
            <a:avLst/>
          </a:prstGeom>
          <a:solidFill>
            <a:srgbClr val="fee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4"/>
          <p:cNvSpPr/>
          <p:nvPr/>
        </p:nvSpPr>
        <p:spPr>
          <a:xfrm>
            <a:off x="684360" y="4365720"/>
            <a:ext cx="576000" cy="555480"/>
          </a:xfrm>
          <a:prstGeom prst="ellipse">
            <a:avLst/>
          </a:prstGeom>
          <a:solidFill>
            <a:srgbClr val="fee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5"/>
          <p:cNvSpPr/>
          <p:nvPr/>
        </p:nvSpPr>
        <p:spPr>
          <a:xfrm>
            <a:off x="684360" y="5157720"/>
            <a:ext cx="576000" cy="555840"/>
          </a:xfrm>
          <a:prstGeom prst="ellipse">
            <a:avLst/>
          </a:prstGeom>
          <a:solidFill>
            <a:srgbClr val="fee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6"/>
          <p:cNvSpPr/>
          <p:nvPr/>
        </p:nvSpPr>
        <p:spPr>
          <a:xfrm>
            <a:off x="684360" y="5950080"/>
            <a:ext cx="576000" cy="555480"/>
          </a:xfrm>
          <a:prstGeom prst="ellipse">
            <a:avLst/>
          </a:prstGeom>
          <a:solidFill>
            <a:srgbClr val="fee8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18"/>
              <p:cNvSpPr txBox="1"/>
              <p:nvPr/>
            </p:nvSpPr>
            <p:spPr>
              <a:xfrm>
                <a:off x="5508720" y="836640"/>
                <a:ext cx="144936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" name="Rectangle 1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20"/>
              <p:cNvSpPr txBox="1"/>
              <p:nvPr/>
            </p:nvSpPr>
            <p:spPr>
              <a:xfrm>
                <a:off x="6372360" y="1844640"/>
                <a:ext cx="2276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Rectangle 2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22"/>
              <p:cNvSpPr txBox="1"/>
              <p:nvPr/>
            </p:nvSpPr>
            <p:spPr>
              <a:xfrm>
                <a:off x="4572000" y="2565360"/>
                <a:ext cx="12603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24"/>
              <p:cNvSpPr txBox="1"/>
              <p:nvPr/>
            </p:nvSpPr>
            <p:spPr>
              <a:xfrm>
                <a:off x="6516720" y="3141720"/>
                <a:ext cx="9478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25"/>
              <p:cNvSpPr txBox="1"/>
              <p:nvPr/>
            </p:nvSpPr>
            <p:spPr>
              <a:xfrm>
                <a:off x="6732720" y="5661000"/>
                <a:ext cx="153180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26"/>
              <p:cNvSpPr txBox="1"/>
              <p:nvPr/>
            </p:nvSpPr>
            <p:spPr>
              <a:xfrm>
                <a:off x="4932360" y="3789360"/>
                <a:ext cx="14479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28"/>
              <p:cNvSpPr txBox="1"/>
              <p:nvPr/>
            </p:nvSpPr>
            <p:spPr>
              <a:xfrm>
                <a:off x="4788000" y="4941720"/>
                <a:ext cx="182700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8" name="Freeform 29"/>
          <p:cNvSpPr/>
          <p:nvPr/>
        </p:nvSpPr>
        <p:spPr>
          <a:xfrm>
            <a:off x="3468600" y="1481040"/>
            <a:ext cx="1044720" cy="107316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658" h="676">
                <a:moveTo>
                  <a:pt x="0" y="0"/>
                </a:moveTo>
                <a:lnTo>
                  <a:pt x="658" y="676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30"/>
          <p:cNvSpPr/>
          <p:nvPr/>
        </p:nvSpPr>
        <p:spPr>
          <a:xfrm>
            <a:off x="3708360" y="2276640"/>
            <a:ext cx="965160" cy="2904840"/>
          </a:xfrm>
          <a:custGeom>
            <a:avLst/>
            <a:gdLst>
              <a:gd name="textAreaLeft" fmla="*/ 0 w 965160"/>
              <a:gd name="textAreaRight" fmla="*/ 965520 w 965160"/>
              <a:gd name="textAreaTop" fmla="*/ 0 h 2904840"/>
              <a:gd name="textAreaBottom" fmla="*/ 2905200 h 2904840"/>
            </a:gdLst>
            <a:ahLst/>
            <a:rect l="textAreaLeft" t="textAreaTop" r="textAreaRight" b="textAreaBottom"/>
            <a:pathLst>
              <a:path w="608" h="1830">
                <a:moveTo>
                  <a:pt x="0" y="0"/>
                </a:moveTo>
                <a:lnTo>
                  <a:pt x="608" y="1830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31"/>
          <p:cNvSpPr/>
          <p:nvPr/>
        </p:nvSpPr>
        <p:spPr>
          <a:xfrm>
            <a:off x="3635280" y="1407960"/>
            <a:ext cx="2867040" cy="1660680"/>
          </a:xfrm>
          <a:custGeom>
            <a:avLst/>
            <a:gdLst>
              <a:gd name="textAreaLeft" fmla="*/ 0 w 2867040"/>
              <a:gd name="textAreaRight" fmla="*/ 2867400 w 2867040"/>
              <a:gd name="textAreaTop" fmla="*/ 0 h 1660680"/>
              <a:gd name="textAreaBottom" fmla="*/ 1661040 h 1660680"/>
            </a:gdLst>
            <a:ahLst/>
            <a:rect l="textAreaLeft" t="textAreaTop" r="textAreaRight" b="textAreaBottom"/>
            <a:pathLst>
              <a:path w="1806" h="1046">
                <a:moveTo>
                  <a:pt x="0" y="1046"/>
                </a:moveTo>
                <a:lnTo>
                  <a:pt x="1806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32"/>
          <p:cNvSpPr/>
          <p:nvPr/>
        </p:nvSpPr>
        <p:spPr>
          <a:xfrm>
            <a:off x="3635280" y="2147760"/>
            <a:ext cx="2706840" cy="1641600"/>
          </a:xfrm>
          <a:custGeom>
            <a:avLst/>
            <a:gdLst>
              <a:gd name="textAreaLeft" fmla="*/ 0 w 2706840"/>
              <a:gd name="textAreaRight" fmla="*/ 2706840 w 2706840"/>
              <a:gd name="textAreaTop" fmla="*/ 0 h 1641600"/>
              <a:gd name="textAreaBottom" fmla="*/ 1641960 h 1641600"/>
            </a:gdLst>
            <a:ahLst/>
            <a:rect l="textAreaLeft" t="textAreaTop" r="textAreaRight" b="textAreaBottom"/>
            <a:pathLst>
              <a:path w="1705" h="1034">
                <a:moveTo>
                  <a:pt x="0" y="1034"/>
                </a:moveTo>
                <a:lnTo>
                  <a:pt x="1705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3"/>
          <p:cNvSpPr/>
          <p:nvPr/>
        </p:nvSpPr>
        <p:spPr>
          <a:xfrm>
            <a:off x="3708360" y="4653000"/>
            <a:ext cx="2909880" cy="1298520"/>
          </a:xfrm>
          <a:custGeom>
            <a:avLst/>
            <a:gdLst>
              <a:gd name="textAreaLeft" fmla="*/ 0 w 2909880"/>
              <a:gd name="textAreaRight" fmla="*/ 2910240 w 2909880"/>
              <a:gd name="textAreaTop" fmla="*/ 0 h 1298520"/>
              <a:gd name="textAreaBottom" fmla="*/ 1298520 h 1298520"/>
            </a:gdLst>
            <a:ahLst/>
            <a:rect l="textAreaLeft" t="textAreaTop" r="textAreaRight" b="textAreaBottom"/>
            <a:pathLst>
              <a:path w="1833" h="818">
                <a:moveTo>
                  <a:pt x="0" y="0"/>
                </a:moveTo>
                <a:lnTo>
                  <a:pt x="1833" y="818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34"/>
          <p:cNvSpPr/>
          <p:nvPr/>
        </p:nvSpPr>
        <p:spPr>
          <a:xfrm>
            <a:off x="3635280" y="4340160"/>
            <a:ext cx="1241640" cy="1104840"/>
          </a:xfrm>
          <a:custGeom>
            <a:avLst/>
            <a:gdLst>
              <a:gd name="textAreaLeft" fmla="*/ 0 w 1241640"/>
              <a:gd name="textAreaRight" fmla="*/ 1242000 w 1241640"/>
              <a:gd name="textAreaTop" fmla="*/ 0 h 1104840"/>
              <a:gd name="textAreaBottom" fmla="*/ 1104840 h 1104840"/>
            </a:gdLst>
            <a:ahLst/>
            <a:rect l="textAreaLeft" t="textAreaTop" r="textAreaRight" b="textAreaBottom"/>
            <a:pathLst>
              <a:path w="782" h="696">
                <a:moveTo>
                  <a:pt x="0" y="696"/>
                </a:moveTo>
                <a:lnTo>
                  <a:pt x="782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5"/>
          <p:cNvSpPr/>
          <p:nvPr/>
        </p:nvSpPr>
        <p:spPr>
          <a:xfrm>
            <a:off x="3708360" y="3411360"/>
            <a:ext cx="2720880" cy="275436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2754360"/>
              <a:gd name="textAreaBottom" fmla="*/ 2754720 h 2754360"/>
            </a:gdLst>
            <a:ahLst/>
            <a:rect l="textAreaLeft" t="textAreaTop" r="textAreaRight" b="textAreaBottom"/>
            <a:pathLst>
              <a:path w="1714" h="1735">
                <a:moveTo>
                  <a:pt x="0" y="1735"/>
                </a:moveTo>
                <a:lnTo>
                  <a:pt x="1714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36"/>
          <p:cNvSpPr txBox="1"/>
          <p:nvPr/>
        </p:nvSpPr>
        <p:spPr>
          <a:xfrm>
            <a:off x="395280" y="765000"/>
            <a:ext cx="8137440" cy="609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 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96" name="WordArt 36"/>
          <p:cNvSpPr txBox="1"/>
          <p:nvPr/>
        </p:nvSpPr>
        <p:spPr>
          <a:xfrm>
            <a:off x="826920" y="765000"/>
            <a:ext cx="8137800" cy="609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Молодцы!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>
    <p:pull dir="r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9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5.43353E-006 C 0.05416 -0.02358 0.1085 -0.04716 0.13489 -0.06982 C 0.16128 -0.09248 0.16562 -0.11676 0.15868 -0.13548 C 0.15173 -0.15421 0.1269 -0.17849 0.09357 -0.18196 C 0.06024 -0.18543 -0.01667 -0.16138 -0.04132 -0.15652 C -0.06598 -0.15167 -0.06007 -0.15213 -0.054 -0.15236 E">
                                      <p:cBhvr>
                                        <p:cTn id="96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84 -0.00508 C -0.07084 -0.00485 0.06562 -0.00208 0.20208 0.00116 E">
                                      <p:cBhvr>
                                        <p:cTn id="9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10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46821E-007 C 0.08507 -0.02035 0.17014 -0.04046 0.22552 -0.05711 C 0.2809 -0.07376 0.31475 -0.07468 0.33177 -0.09942 C 0.34878 -0.12416 0.33611 -0.17503 0.32812 -0.20555 C 0.32014 -0.23607 0.3217 -0.25896 0.2842 -0.28324 C 0.2467 -0.30751 0.1625 -0.32555 0.1033 -0.35098 C 0.04409 -0.37642 -0.04254 -0.42127 -0.07136 -0.43538 E">
                                      <p:cBhvr>
                                        <p:cTn id="110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389 -0.00185 C 0.23368 0.01549 0.33142 0.06266 0.33142 0.10174 C 0.33142 0.14081 0.27968 0.20879 0.21389 0.23283 C 0.14809 0.25688 -0.00608 0.24301 -0.06389 0.24555 E">
                                      <p:cBhvr>
                                        <p:cTn id="122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1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2 -0.00463 C 0.01111 -0.01919 0.02361 -0.03376 0.03993 -0.03861 C 0.05625 -0.04347 0.07934 -0.04046 0.09705 -0.03422 C 0.11475 -0.02798 0.13767 -0.02451 0.1467 -0.00139 C 0.15573 0.02173 0.16041 0.06821 0.15139 0.10428 C 0.14236 0.14035 0.12604 0.1926 0.09236 0.21526 C 0.05868 0.23792 0.00416 0.23514 -0.05052 0.24046 C -0.10521 0.24578 -0.17084 0.24624 -0.23629 0.24694 E">
                                      <p:cBhvr>
                                        <p:cTn id="134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1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6.35838E-007 C -0.0257 0.01873 -0.05139 0.03769 -0.06667 0.03584 C -0.08195 0.03399 -0.09653 0.00763 -0.09202 -0.01064 C -0.0875 -0.0289 -0.06389 -0.06173 -0.03976 -0.07399 C -0.01563 -0.08624 0.02535 -0.07746 0.05243 -0.08462 C 0.07951 -0.09179 0.11232 -0.0948 0.12326 -0.11723 C 0.1342 -0.13965 0.1335 -0.20301 0.11857 -0.21873 C 0.10364 -0.23445 0.06302 -0.21873 0.03333 -0.21156 C 0.00364 -0.20439 -0.02552 -0.18289 -0.06025 -0.17549 C -0.09497 -0.16809 -0.13542 -0.16254 -0.17465 -0.16717 C -0.21389 -0.17179 -0.25469 -0.18752 -0.29531 -0.20301 E">
                                      <p:cBhvr>
                                        <p:cTn id="146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1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86127E-006 C 0.02327 0.00693 0.0467 0.0141 0.07309 0.02543 C 0.09948 0.03676 0.13698 0.04832 0.15886 0.06774 C 0.18073 0.08716 0.2467 0.12601 0.20486 0.14173 C 0.16302 0.15745 0.03542 0.15999 -0.09201 0.16277 E">
                                      <p:cBhvr>
                                        <p:cTn id="158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16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56069E-006 C 0.01459 -0.02358 0.02917 -0.04693 0.04132 -0.04878 C 0.05348 -0.05063 0.06702 -0.03075 0.07309 -0.01063 C 0.07917 0.00948 0.07431 0.04717 0.07778 0.07168 C 0.08125 0.09619 0.08438 0.13457 0.09358 0.13734 C 0.10278 0.14012 0.12379 0.09041 0.13334 0.08879 C 0.14289 0.08717 0.14584 0.10613 0.15087 0.12694 C 0.15591 0.14775 0.16094 0.19098 0.16355 0.21364 C 0.16615 0.2363 0.16806 0.23885 0.16684 0.26243 C 0.16563 0.28601 0.16233 0.32763 0.15573 0.35538 C 0.14914 0.38312 0.14566 0.40856 0.12709 0.42937 C 0.10851 0.45017 0.07466 0.48116 0.04445 0.47977 C 0.01424 0.47838 -0.0026 0.43052 -0.05399 0.42058 C -0.10538 0.41064 -0.18454 0.41549 -0.26354 0.42058 E">
                                      <p:cBhvr>
                                        <p:cTn id="170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896760" y="1052640"/>
            <a:ext cx="82472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ем прямой треугольной призм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ит прямоугольный треугольник с катетами 10 и 24. Площадь ее поверхности равна 1680. Найдите высоту призмы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8"/>
          <p:cNvSpPr/>
          <p:nvPr/>
        </p:nvSpPr>
        <p:spPr>
          <a:xfrm>
            <a:off x="3564000" y="6237360"/>
            <a:ext cx="652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40458c"/>
                </a:solidFill>
                <a:uFillTx/>
                <a:latin typeface="Times New Roman"/>
                <a:ea typeface="Times New Roman"/>
              </a:rPr>
              <a:t>Ответ:</a:t>
            </a:r>
            <a:r>
              <a:rPr b="0" i="1" lang="ru-RU" sz="2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26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6"/>
          <p:cNvSpPr/>
          <p:nvPr/>
        </p:nvSpPr>
        <p:spPr>
          <a:xfrm>
            <a:off x="1033560" y="431172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Calibri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53"/>
          <p:cNvSpPr/>
          <p:nvPr/>
        </p:nvSpPr>
        <p:spPr>
          <a:xfrm flipH="1">
            <a:off x="2131920" y="1832040"/>
            <a:ext cx="6480" cy="2438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54"/>
          <p:cNvSpPr/>
          <p:nvPr/>
        </p:nvSpPr>
        <p:spPr>
          <a:xfrm flipH="1">
            <a:off x="3351240" y="2752560"/>
            <a:ext cx="6480" cy="243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61"/>
          <p:cNvSpPr/>
          <p:nvPr/>
        </p:nvSpPr>
        <p:spPr>
          <a:xfrm>
            <a:off x="601560" y="5184720"/>
            <a:ext cx="2749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54"/>
          <p:cNvSpPr/>
          <p:nvPr/>
        </p:nvSpPr>
        <p:spPr>
          <a:xfrm flipH="1">
            <a:off x="601560" y="2752560"/>
            <a:ext cx="6480" cy="243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олилиния 63"/>
          <p:cNvSpPr/>
          <p:nvPr/>
        </p:nvSpPr>
        <p:spPr>
          <a:xfrm flipH="1" rot="10800000">
            <a:off x="608040" y="1831680"/>
            <a:ext cx="2749680" cy="920520"/>
          </a:xfrm>
          <a:custGeom>
            <a:avLst/>
            <a:gdLst>
              <a:gd name="textAreaLeft" fmla="*/ 360 w 2749680"/>
              <a:gd name="textAreaRight" fmla="*/ 2750400 w 2749680"/>
              <a:gd name="textAreaTop" fmla="*/ 0 h 920520"/>
              <a:gd name="textAreaBottom" fmla="*/ 920880 h 920520"/>
            </a:gdLst>
            <a:ahLst/>
            <a:rect l="textAreaLeft" t="textAreaTop" r="textAreaRight" b="textAreaBottom"/>
            <a:pathLst>
              <a:path w="2749550" h="920750">
                <a:moveTo>
                  <a:pt x="0" y="0"/>
                </a:moveTo>
                <a:lnTo>
                  <a:pt x="2749550" y="0"/>
                </a:lnTo>
                <a:lnTo>
                  <a:pt x="1530350" y="920750"/>
                </a:lnTo>
                <a:lnTo>
                  <a:pt x="0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олилиния 64"/>
          <p:cNvSpPr/>
          <p:nvPr/>
        </p:nvSpPr>
        <p:spPr>
          <a:xfrm flipV="1">
            <a:off x="601560" y="4270320"/>
            <a:ext cx="2749680" cy="914400"/>
          </a:xfrm>
          <a:custGeom>
            <a:avLst/>
            <a:gdLst>
              <a:gd name="textAreaLeft" fmla="*/ 0 w 2749680"/>
              <a:gd name="textAreaRight" fmla="*/ 2750040 w 27496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2749550" h="914400">
                <a:moveTo>
                  <a:pt x="0" y="0"/>
                </a:moveTo>
                <a:lnTo>
                  <a:pt x="1530350" y="914400"/>
                </a:lnTo>
                <a:lnTo>
                  <a:pt x="274955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6"/>
          <p:cNvSpPr/>
          <p:nvPr/>
        </p:nvSpPr>
        <p:spPr>
          <a:xfrm>
            <a:off x="2598840" y="429588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Calibri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олилиния 38"/>
          <p:cNvSpPr/>
          <p:nvPr/>
        </p:nvSpPr>
        <p:spPr>
          <a:xfrm>
            <a:off x="1876320" y="4414680"/>
            <a:ext cx="447840" cy="157320"/>
          </a:xfrm>
          <a:custGeom>
            <a:avLst/>
            <a:gdLst>
              <a:gd name="textAreaLeft" fmla="*/ 0 w 447840"/>
              <a:gd name="textAreaRight" fmla="*/ 448200 w 447840"/>
              <a:gd name="textAreaTop" fmla="*/ 0 h 157320"/>
              <a:gd name="textAreaBottom" fmla="*/ 157680 h 157320"/>
            </a:gdLst>
            <a:ahLst/>
            <a:rect l="textAreaLeft" t="textAreaTop" r="textAreaRight" b="textAreaBottom"/>
            <a:pathLst>
              <a:path w="447675" h="157162">
                <a:moveTo>
                  <a:pt x="0" y="9525"/>
                </a:moveTo>
                <a:lnTo>
                  <a:pt x="204788" y="157162"/>
                </a:lnTo>
                <a:lnTo>
                  <a:pt x="44767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39"/>
          <p:cNvSpPr/>
          <p:nvPr/>
        </p:nvSpPr>
        <p:spPr>
          <a:xfrm>
            <a:off x="3962520" y="2205000"/>
            <a:ext cx="518148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ем гипотенузы прямоугольного треугольника по теореме Пифагора: с=2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осн.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½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=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 · 10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бок.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осн.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=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+ 10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· h =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ов.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осн.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б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м, 1680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0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ткуда найдем высоту приз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=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80 – 24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=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=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6"/>
          <p:cNvSpPr/>
          <p:nvPr/>
        </p:nvSpPr>
        <p:spPr>
          <a:xfrm>
            <a:off x="1727280" y="51166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Calibri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Прямоугольник 15" descr=""/>
          <p:cNvPicPr/>
          <p:nvPr/>
        </p:nvPicPr>
        <p:blipFill>
          <a:blip r:embed="rId1"/>
          <a:stretch/>
        </p:blipFill>
        <p:spPr>
          <a:xfrm>
            <a:off x="457200" y="19080"/>
            <a:ext cx="8564400" cy="1090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" descr=""/>
          <p:cNvPicPr/>
          <p:nvPr/>
        </p:nvPicPr>
        <p:blipFill>
          <a:blip r:embed="rId2"/>
          <a:stretch/>
        </p:blipFill>
        <p:spPr>
          <a:xfrm>
            <a:off x="6953400" y="0"/>
            <a:ext cx="1979640" cy="14842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900000" y="981000"/>
            <a:ext cx="86536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поверхности куба равна 24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его  диагонал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"/>
          <p:cNvSpPr/>
          <p:nvPr/>
        </p:nvSpPr>
        <p:spPr>
          <a:xfrm>
            <a:off x="4356000" y="2565360"/>
            <a:ext cx="436428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поверхности куба ра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куба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а</a:t>
            </a:r>
            <a:r>
              <a:rPr b="0" i="1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a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</a:t>
            </a:r>
            <a:r>
              <a:rPr b="0" i="1" lang="ru-RU" sz="2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драт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агонали куб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куба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 =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 =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√3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68"/>
          <p:cNvSpPr/>
          <p:nvPr/>
        </p:nvSpPr>
        <p:spPr>
          <a:xfrm>
            <a:off x="1312920" y="5975280"/>
            <a:ext cx="652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Ответ: 2√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Группа 35"/>
          <p:cNvGrpSpPr/>
          <p:nvPr/>
        </p:nvGrpSpPr>
        <p:grpSpPr>
          <a:xfrm>
            <a:off x="1219320" y="1828440"/>
            <a:ext cx="2446200" cy="2446560"/>
            <a:chOff x="1219320" y="1828440"/>
            <a:chExt cx="2446200" cy="2446560"/>
          </a:xfrm>
        </p:grpSpPr>
        <p:sp>
          <p:nvSpPr>
            <p:cNvPr id="116" name="Куб 23"/>
            <p:cNvSpPr/>
            <p:nvPr/>
          </p:nvSpPr>
          <p:spPr>
            <a:xfrm>
              <a:off x="1219320" y="1828800"/>
              <a:ext cx="2446200" cy="2446200"/>
            </a:xfrm>
            <a:prstGeom prst="cube">
              <a:avLst>
                <a:gd name="adj" fmla="val 25347"/>
              </a:avLst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Прямая соединительная линия 24"/>
            <p:cNvSpPr/>
            <p:nvPr/>
          </p:nvSpPr>
          <p:spPr>
            <a:xfrm flipH="1" flipV="1">
              <a:off x="1828440" y="1828440"/>
              <a:ext cx="8280" cy="1830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Прямая соединительная линия 28"/>
            <p:cNvSpPr/>
            <p:nvPr/>
          </p:nvSpPr>
          <p:spPr>
            <a:xfrm flipH="1">
              <a:off x="1845360" y="3659400"/>
              <a:ext cx="18198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Прямая соединительная линия 32"/>
            <p:cNvSpPr/>
            <p:nvPr/>
          </p:nvSpPr>
          <p:spPr>
            <a:xfrm flipH="1">
              <a:off x="1227240" y="3659400"/>
              <a:ext cx="609480" cy="6087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Прямая соединительная линия 17"/>
          <p:cNvSpPr/>
          <p:nvPr/>
        </p:nvSpPr>
        <p:spPr>
          <a:xfrm>
            <a:off x="5249880" y="3624120"/>
            <a:ext cx="41436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Прямоугольник 11" descr=""/>
          <p:cNvPicPr/>
          <p:nvPr/>
        </p:nvPicPr>
        <p:blipFill>
          <a:blip r:embed="rId1"/>
          <a:stretch/>
        </p:blipFill>
        <p:spPr>
          <a:xfrm>
            <a:off x="944640" y="19080"/>
            <a:ext cx="8254800" cy="10904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7T13:56:44Z</dcterms:created>
  <dc:creator>alex</dc:creator>
  <dc:description/>
  <dc:language>en-US</dc:language>
  <cp:lastModifiedBy>uzer</cp:lastModifiedBy>
  <dcterms:modified xsi:type="dcterms:W3CDTF">2019-10-13T10:15:35Z</dcterms:modified>
  <cp:revision>250</cp:revision>
  <dc:subject/>
  <dc:title>Слайд 1</dc:title>
</cp:coreProperties>
</file>