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B53-0CD4-4E31-A26F-FFD50BB9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F6C-60A6-44C7-9D5C-C1085CE9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AFA-75D0-47E8-9BBD-DFAC4614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879-6FAD-4E95-9D6D-94CF3353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7BBF-51B2-49B1-A7B8-4C1FBD58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6998-A192-4D2C-A367-A0F9B136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5728-61F3-4572-B49C-4EFFADE2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922B-4718-4D21-8A2C-4B35F408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D60B-6295-49AB-B6EF-1289140E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DDF5-2241-4126-A379-F4837EF5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E2D3-9C6B-48E3-B5EC-B51505B5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EFB-60F5-4ECB-9B41-CB42E8EE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0FE1-8899-401C-BCEE-1CA42750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3DD9-F943-42E5-BF6E-C970217E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12B2-7B73-4D29-B215-7544341B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8F20-E159-402D-A0B1-4E6BB5B2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FE41-F57A-44D4-BA76-BBDE6B5E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773F4-6DDD-4EB5-8A00-57161A7E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4E158-7AD7-4510-B116-96D7E1A3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9224D-921D-4A91-9CE7-6460A307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FD001-88BC-49D2-993F-78D48028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ADDD0-F04E-4853-AEE0-231963B7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A6C-BBEA-4800-8A3F-EC5DA4DA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FFF0-5C7B-4DCA-943A-A3CF21F0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D864-CC6D-435C-A2C6-1DA1FF7E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4BC4B-D0DA-4DC1-BFD5-974F7A73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F6DD7-E7DE-4C75-BFD3-3414F6AB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95128-399E-49DD-9FD7-7B9F0B21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6E5D7-E96E-4414-9A27-B915AB9C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BD1E2-0823-49B6-9A9F-69AA933C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F1D98-6544-432B-9D88-908BAC6E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DAFC4-549F-482E-9249-04CCB5C2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4DE6-31B1-45CD-9218-E1A4F8E3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FFA-4519-4F12-9ECE-F9BA68F8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6E339-EC91-410E-B8B4-C2B56321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6EB2B-6D7E-4F2D-9055-A4E8F6B7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96FDB-479B-4DE8-ACD5-1D5F46B8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A9FC4-0624-4C17-942D-F2D7CC57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38ECB-3DBE-4F0B-952C-0A53BF00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C2795-FCC0-4701-8621-8327AD79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5ACC2-9C40-4AE1-9F2A-CB03A7A3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0F475-6CDF-438D-9BEF-A9380942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5EB6B-569D-496F-B5F2-A49F3651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49A-5B87-4AB1-B565-64E31714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1CC-634B-4D8C-B65A-51194C8C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F39C-3B2E-4DD8-9F8D-01142704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E0F-013E-4E71-8D81-4B90AA1D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95A-620D-40F8-9CCA-6CA792D8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334C-E2EF-4A88-B9F2-97246CD2218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1FCD-F1E5-4F7D-BB8E-C4E50436AA1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3930-9217-4973-AC02-51CB2CF7B0A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D6AB-6C89-41BB-83EF-FC21B0FDD43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H:\Documents and Settings\user\Мои документы\Мои рисунки\iCA9X4LYA.jpg"/>
          <p:cNvPicPr/>
          <p:nvPr/>
        </p:nvPicPr>
        <p:blipFill>
          <a:blip r:embed="rId1"/>
          <a:stretch/>
        </p:blipFill>
        <p:spPr>
          <a:xfrm rot="20506200">
            <a:off x="244080" y="379440"/>
            <a:ext cx="2746440" cy="2000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:\Documents and Settings\user\Мои документы\Мои рисунки\iCA93YN9Y.jpg"/>
          <p:cNvPicPr/>
          <p:nvPr/>
        </p:nvPicPr>
        <p:blipFill>
          <a:blip r:embed="rId2"/>
          <a:stretch/>
        </p:blipFill>
        <p:spPr>
          <a:xfrm rot="612000">
            <a:off x="6013080" y="237960"/>
            <a:ext cx="2917800" cy="2664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H:\Documents and Settings\user\Мои документы\Мои рисунки\iCAU8K10Q.jpg"/>
          <p:cNvPicPr/>
          <p:nvPr/>
        </p:nvPicPr>
        <p:blipFill>
          <a:blip r:embed="rId3"/>
          <a:stretch/>
        </p:blipFill>
        <p:spPr>
          <a:xfrm rot="20482200">
            <a:off x="334440" y="3735360"/>
            <a:ext cx="3384720" cy="265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H:\Documents and Settings\user\Мои документы\Мои рисунки\iCA9CRURQ.jpg"/>
          <p:cNvPicPr/>
          <p:nvPr/>
        </p:nvPicPr>
        <p:blipFill>
          <a:blip r:embed="rId4"/>
          <a:stretch/>
        </p:blipFill>
        <p:spPr>
          <a:xfrm>
            <a:off x="3500280" y="0"/>
            <a:ext cx="2409840" cy="194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" descr="H:\Documents and Settings\user\Мои документы\Мои рисунки\iCAS9WZAF.jpg"/>
          <p:cNvPicPr/>
          <p:nvPr/>
        </p:nvPicPr>
        <p:blipFill>
          <a:blip r:embed="rId5"/>
          <a:stretch/>
        </p:blipFill>
        <p:spPr>
          <a:xfrm rot="21447600">
            <a:off x="3242880" y="4106520"/>
            <a:ext cx="3292560" cy="2617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9" descr="H:\Documents and Settings\user\Мои документы\Мои рисунки\iCAUJNBPU.jpg"/>
          <p:cNvPicPr/>
          <p:nvPr/>
        </p:nvPicPr>
        <p:blipFill>
          <a:blip r:embed="rId6"/>
          <a:stretch/>
        </p:blipFill>
        <p:spPr>
          <a:xfrm>
            <a:off x="3500280" y="2071800"/>
            <a:ext cx="2268720" cy="1728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C:\Documents and Settings\user1\Мои документы\Мои рисунки\iCAL6A4NO.jpg"/>
          <p:cNvPicPr/>
          <p:nvPr/>
        </p:nvPicPr>
        <p:blipFill>
          <a:blip r:embed="rId7"/>
          <a:stretch/>
        </p:blipFill>
        <p:spPr>
          <a:xfrm rot="1081200">
            <a:off x="6200280" y="3706920"/>
            <a:ext cx="2714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353880"/>
            <a:ext cx="7864560" cy="1285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2205000"/>
            <a:ext cx="78548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2f2f2"/>
                </a:solidFill>
                <a:latin typeface="Book Antiqua"/>
              </a:rPr>
              <a:t>Тема: Нравственные ценности современной молодежи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Book Antiqua"/>
              </a:rPr>
              <a:t>Преподаватель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Book Antiqua"/>
              </a:rPr>
              <a:t>Буторина Ирин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Book Antiqua"/>
              </a:rPr>
              <a:t>Вячеславов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530280" y="-6480"/>
            <a:ext cx="7864560" cy="920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56760" y="157140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2f2f2"/>
                </a:solidFill>
                <a:uFillTx/>
                <a:latin typeface="Book Antiqua"/>
              </a:rPr>
              <a:t>Совесть</a:t>
            </a:r>
            <a:r>
              <a:rPr b="0" lang="ru-RU" sz="2500" spc="-1" strike="noStrike">
                <a:solidFill>
                  <a:srgbClr val="f2f2f2"/>
                </a:solidFill>
                <a:latin typeface="Book Antiqua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чувство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равственной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ветственности за своё поведение перед окружающими людьми, обществом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2f2f2"/>
                </a:solidFill>
                <a:uFillTx/>
                <a:latin typeface="Book Antiqua"/>
              </a:rPr>
              <a:t>Нравственность</a:t>
            </a:r>
            <a:r>
              <a:rPr b="0" lang="ru-RU" sz="2500" spc="-1" strike="noStrike">
                <a:solidFill>
                  <a:srgbClr val="f2f2f2"/>
                </a:solidFill>
                <a:latin typeface="Book Antiqua"/>
              </a:rPr>
              <a:t> - </a:t>
            </a:r>
            <a:r>
              <a:rPr b="0" lang="ru-RU" sz="2400" spc="-1" strike="noStrike">
                <a:solidFill>
                  <a:srgbClr val="f2f2f2"/>
                </a:solidFill>
                <a:latin typeface="Book Antiqua"/>
              </a:rPr>
              <a:t>совокупность норм поведения человека в обществ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2f2f2"/>
                </a:solidFill>
                <a:uFillTx/>
                <a:latin typeface="Book Antiqua"/>
              </a:rPr>
              <a:t>Честь</a:t>
            </a:r>
            <a:r>
              <a:rPr b="1" lang="ru-RU" sz="2500" spc="-1" strike="noStrike">
                <a:solidFill>
                  <a:srgbClr val="f2f2f2"/>
                </a:solidFill>
                <a:latin typeface="Book Antiqua"/>
              </a:rPr>
              <a:t> </a:t>
            </a:r>
            <a:r>
              <a:rPr b="0" lang="ru-RU" sz="2500" spc="-1" strike="noStrike">
                <a:solidFill>
                  <a:srgbClr val="f2f2f2"/>
                </a:solidFill>
                <a:latin typeface="Book Antiqua"/>
              </a:rPr>
              <a:t> - </a:t>
            </a:r>
            <a:r>
              <a:rPr b="0" lang="ru-RU" sz="2400" spc="-1" strike="noStrike">
                <a:solidFill>
                  <a:srgbClr val="f2f2f2"/>
                </a:solidFill>
                <a:latin typeface="Book Antiqua"/>
              </a:rPr>
              <a:t>достойные уважения и гордости моральные качества и этические принципы личност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2f2f2"/>
                </a:solidFill>
                <a:uFillTx/>
                <a:latin typeface="Book Antiqua"/>
              </a:rPr>
              <a:t>Достоинство</a:t>
            </a:r>
            <a:r>
              <a:rPr b="1" lang="ru-RU" sz="2500" spc="-1" strike="noStrike">
                <a:solidFill>
                  <a:srgbClr val="f2f2f2"/>
                </a:solidFill>
                <a:latin typeface="Book Antiqua"/>
              </a:rPr>
              <a:t> </a:t>
            </a:r>
            <a:r>
              <a:rPr b="0" lang="ru-RU" sz="2500" spc="-1" strike="noStrike">
                <a:solidFill>
                  <a:srgbClr val="f2f2f2"/>
                </a:solidFill>
                <a:latin typeface="Book Antiqua"/>
              </a:rPr>
              <a:t>- </a:t>
            </a:r>
            <a:r>
              <a:rPr b="0" lang="ru-RU" sz="2400" spc="-1" strike="noStrike">
                <a:solidFill>
                  <a:srgbClr val="f2f2f2"/>
                </a:solidFill>
                <a:latin typeface="Book Antiqua"/>
              </a:rPr>
              <a:t>совокупность высоких моральных качеств в самом себ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396720" y="-6480"/>
            <a:ext cx="8193240" cy="920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56760" y="157140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2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Ситуация 2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9" descr="H:\Documents and Settings\user\Мои документы\Мои рисунки\iCAJXBNQQ.jpg"/>
          <p:cNvPicPr/>
          <p:nvPr/>
        </p:nvPicPr>
        <p:blipFill>
          <a:blip r:embed="rId2"/>
          <a:stretch/>
        </p:blipFill>
        <p:spPr>
          <a:xfrm>
            <a:off x="500040" y="1143000"/>
            <a:ext cx="3181320" cy="1935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Documents and Settings\user1\Мои документы\Мои рисунки\iCAXHAC7L.jpg"/>
          <p:cNvPicPr/>
          <p:nvPr/>
        </p:nvPicPr>
        <p:blipFill>
          <a:blip r:embed="rId3"/>
          <a:stretch/>
        </p:blipFill>
        <p:spPr>
          <a:xfrm>
            <a:off x="5143680" y="1143000"/>
            <a:ext cx="3346200" cy="1881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Documents and Settings\user1\Мои документы\Мои рисунки\iCAHKOMFW.jpg"/>
          <p:cNvPicPr/>
          <p:nvPr/>
        </p:nvPicPr>
        <p:blipFill>
          <a:blip r:embed="rId4"/>
          <a:stretch/>
        </p:blipFill>
        <p:spPr>
          <a:xfrm>
            <a:off x="785880" y="3714840"/>
            <a:ext cx="2462040" cy="24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C:\Documents and Settings\user1\Мои документы\Мои рисунки\iCAKTZURE.jpg"/>
          <p:cNvPicPr/>
          <p:nvPr/>
        </p:nvPicPr>
        <p:blipFill>
          <a:blip r:embed="rId5"/>
          <a:stretch/>
        </p:blipFill>
        <p:spPr>
          <a:xfrm>
            <a:off x="5000760" y="3714840"/>
            <a:ext cx="3429000" cy="252576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7"/>
          <p:cNvSpPr/>
          <p:nvPr/>
        </p:nvSpPr>
        <p:spPr>
          <a:xfrm>
            <a:off x="1071720" y="2809800"/>
            <a:ext cx="417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итуация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8"/>
          <p:cNvSpPr/>
          <p:nvPr/>
        </p:nvSpPr>
        <p:spPr>
          <a:xfrm>
            <a:off x="1214280" y="6357960"/>
            <a:ext cx="75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итуация 3                                                       Ситуация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530280" y="-6480"/>
            <a:ext cx="7864560" cy="65833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56760" y="285480"/>
            <a:ext cx="835812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 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до, чтобы человек поступал правильно, по совести не тогда, когда на него смотрят, его слышат, могут похвалить, а когда никто не видит и никогда не узнает, как было. Надо поступать правильно ради правды, ради долга перед самим собой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С. Макаренко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1071720" y="28098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 flipV="1">
            <a:off x="1143000" y="645876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530280" y="-6480"/>
            <a:ext cx="7864560" cy="6583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56760" y="285480"/>
            <a:ext cx="835812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1071720" y="28098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8"/>
          <p:cNvSpPr/>
          <p:nvPr/>
        </p:nvSpPr>
        <p:spPr>
          <a:xfrm flipV="1">
            <a:off x="1143000" y="645876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4T09:47:53Z</dcterms:created>
  <dc:creator>user</dc:creator>
  <dc:description/>
  <dc:language>en-US</dc:language>
  <cp:lastModifiedBy>user</cp:lastModifiedBy>
  <dcterms:modified xsi:type="dcterms:W3CDTF">2016-03-03T05:18:23Z</dcterms:modified>
  <cp:revision>13</cp:revision>
  <dc:subject/>
  <dc:title>Слайд 1</dc:title>
</cp:coreProperties>
</file>