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E409-E9DE-4287-A8BB-F9E33A2C7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837F-96F5-44A7-BCAC-178D4C77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1F30-052F-49C7-9678-9238B379C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02A6-A6FB-44AE-AE51-8F954FD43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3EE6-C59B-4A0F-B2DA-0F8AA889D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2D69-17BA-41D6-927C-8D164646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CEA0-F531-4DA5-A3AF-6F7E4B80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4719-CA55-4530-85EB-903D145C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1290-1B85-4781-A590-18958F76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1A83-B3F1-4447-9080-127AB9AC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A755-379B-4420-A8E3-65D3BA8E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BA15-A26B-44B5-92C4-4A5D4BD3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DBA3-4F9A-4418-B1E0-6337B1E7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4D82-B504-4A83-B039-772DA754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1518-B7EC-46D8-8551-94A6B08D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68E2-C7D8-4DDD-9B1C-2D83BEFEB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7A20-CDA2-4098-AF06-174EF5C58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1312A-D572-4BFE-86F8-FF6743201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B85CC-8F02-4729-83F0-6474DFCE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BC50C-0AF1-46BC-B503-5BF24B1E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A267F-89CA-4110-A7EE-4F917469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59026-90F5-4788-9262-E2C75239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AB51-A006-45DB-9CA7-24554984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BE281-FF4B-444A-A451-8D3D802E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DFCE3-A76C-49B0-BF4D-2569FC9F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37BF5-5B85-413B-AFB3-4841C34E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1052C-AC64-4F3E-A428-19506965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6B2F9-2A35-4B68-A73D-0F473528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515A8-C3EC-4304-B0DC-F296D565A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71C64-A97D-42A8-9BF5-8571A04B7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FB2E5-49EE-4491-A23E-296398858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96D8B-575F-4E16-A671-6F399C46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CFB27-DB58-4739-96DF-26CC4FEE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B54F-0CD5-451A-BAC1-BC8ADAF4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0B6AC-DFFC-48F5-9195-82901BE5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E0F94-E7D8-40F9-8303-A3D640EE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81DDA-48C9-4F86-B476-D381ADDB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CDA74-20CB-4AD8-BA39-73A78574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E8DD4-55EC-440E-B17E-43C5C0ED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C2427-D052-4E40-B0CD-2DB4696A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BBDEC-8B5F-4586-8DC0-AB103519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0537B-9F9D-4AA0-8673-692D81B5A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F7EDB-3897-40F0-9413-E60888489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2182-49BF-4A79-82D2-655CEF2E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B667-A5C7-40E2-8844-46864EC2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717D-3E2B-4FC9-8B68-D21BD49E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90B4-4026-4C1B-85FA-855B0368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66CD-7F82-49D0-8385-26DCFBCF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A50D-3F7C-4082-96C7-25BC40573E15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7592-BA57-4B5F-8EC2-A9D1064430AD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05EC-2F4D-4A6F-A9E2-E2DB8D8EE253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E9A9-8EFC-48C3-9809-A532D01113F7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H:\Documents and Settings\user\Мои документы\Мои рисунки\iCA9X4LYA.jpg"/>
          <p:cNvPicPr/>
          <p:nvPr/>
        </p:nvPicPr>
        <p:blipFill>
          <a:blip r:embed="rId1"/>
          <a:stretch/>
        </p:blipFill>
        <p:spPr>
          <a:xfrm rot="20506200">
            <a:off x="244080" y="379440"/>
            <a:ext cx="2746440" cy="20001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H:\Documents and Settings\user\Мои документы\Мои рисунки\iCA93YN9Y.jpg"/>
          <p:cNvPicPr/>
          <p:nvPr/>
        </p:nvPicPr>
        <p:blipFill>
          <a:blip r:embed="rId2"/>
          <a:stretch/>
        </p:blipFill>
        <p:spPr>
          <a:xfrm rot="612000">
            <a:off x="6013080" y="237960"/>
            <a:ext cx="2917800" cy="2664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H:\Documents and Settings\user\Мои документы\Мои рисунки\iCAU8K10Q.jpg"/>
          <p:cNvPicPr/>
          <p:nvPr/>
        </p:nvPicPr>
        <p:blipFill>
          <a:blip r:embed="rId3"/>
          <a:stretch/>
        </p:blipFill>
        <p:spPr>
          <a:xfrm rot="20482200">
            <a:off x="334440" y="3735360"/>
            <a:ext cx="3384720" cy="2651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H:\Documents and Settings\user\Мои документы\Мои рисунки\iCA9CRURQ.jpg"/>
          <p:cNvPicPr/>
          <p:nvPr/>
        </p:nvPicPr>
        <p:blipFill>
          <a:blip r:embed="rId4"/>
          <a:stretch/>
        </p:blipFill>
        <p:spPr>
          <a:xfrm>
            <a:off x="3500280" y="0"/>
            <a:ext cx="2409840" cy="1944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6" descr="H:\Documents and Settings\user\Мои документы\Мои рисунки\iCAS9WZAF.jpg"/>
          <p:cNvPicPr/>
          <p:nvPr/>
        </p:nvPicPr>
        <p:blipFill>
          <a:blip r:embed="rId5"/>
          <a:stretch/>
        </p:blipFill>
        <p:spPr>
          <a:xfrm rot="21447600">
            <a:off x="3242880" y="4106520"/>
            <a:ext cx="3292560" cy="2617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9" descr="H:\Documents and Settings\user\Мои документы\Мои рисунки\iCAUJNBPU.jpg"/>
          <p:cNvPicPr/>
          <p:nvPr/>
        </p:nvPicPr>
        <p:blipFill>
          <a:blip r:embed="rId6"/>
          <a:stretch/>
        </p:blipFill>
        <p:spPr>
          <a:xfrm>
            <a:off x="3500280" y="2071800"/>
            <a:ext cx="2268720" cy="1728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C:\Documents and Settings\user1\Мои документы\Мои рисунки\iCAL6A4NO.jpg"/>
          <p:cNvPicPr/>
          <p:nvPr/>
        </p:nvPicPr>
        <p:blipFill>
          <a:blip r:embed="rId7"/>
          <a:stretch/>
        </p:blipFill>
        <p:spPr>
          <a:xfrm rot="1081200">
            <a:off x="6200280" y="3706920"/>
            <a:ext cx="27147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30280" y="353880"/>
            <a:ext cx="7864560" cy="1285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2205000"/>
            <a:ext cx="7854840" cy="3168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2f2f2"/>
                </a:solidFill>
                <a:latin typeface="Book Antiqua"/>
              </a:rPr>
              <a:t>Тема: Нравственные ценности современной молодежи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Book Antiqua"/>
              </a:rPr>
              <a:t>Преподаватель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Book Antiqua"/>
              </a:rPr>
              <a:t>Буторина Ирина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Book Antiqua"/>
              </a:rPr>
              <a:t>Вячеславовн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530280" y="-6480"/>
            <a:ext cx="7864560" cy="9208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356760" y="1571400"/>
            <a:ext cx="8358120" cy="4857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f2f2f2"/>
                </a:solidFill>
                <a:uFillTx/>
                <a:latin typeface="Book Antiqua"/>
              </a:rPr>
              <a:t>Совесть</a:t>
            </a:r>
            <a:r>
              <a:rPr b="0" lang="ru-RU" sz="2500" spc="-1" strike="noStrike">
                <a:solidFill>
                  <a:srgbClr val="f2f2f2"/>
                </a:solidFill>
                <a:latin typeface="Book Antiqua"/>
              </a:rPr>
              <a:t> -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чувство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равственной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тветственности за своё поведение перед окружающими людьми, обществом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f2f2f2"/>
                </a:solidFill>
                <a:uFillTx/>
                <a:latin typeface="Book Antiqua"/>
              </a:rPr>
              <a:t>Нравственность</a:t>
            </a:r>
            <a:r>
              <a:rPr b="0" lang="ru-RU" sz="2500" spc="-1" strike="noStrike">
                <a:solidFill>
                  <a:srgbClr val="f2f2f2"/>
                </a:solidFill>
                <a:latin typeface="Book Antiqua"/>
              </a:rPr>
              <a:t> - </a:t>
            </a:r>
            <a:r>
              <a:rPr b="0" lang="ru-RU" sz="2400" spc="-1" strike="noStrike">
                <a:solidFill>
                  <a:srgbClr val="f2f2f2"/>
                </a:solidFill>
                <a:latin typeface="Book Antiqua"/>
              </a:rPr>
              <a:t>совокупность норм поведения человека в обществ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f2f2f2"/>
                </a:solidFill>
                <a:uFillTx/>
                <a:latin typeface="Book Antiqua"/>
              </a:rPr>
              <a:t>Честь</a:t>
            </a:r>
            <a:r>
              <a:rPr b="1" lang="ru-RU" sz="2500" spc="-1" strike="noStrike">
                <a:solidFill>
                  <a:srgbClr val="f2f2f2"/>
                </a:solidFill>
                <a:latin typeface="Book Antiqua"/>
              </a:rPr>
              <a:t> </a:t>
            </a:r>
            <a:r>
              <a:rPr b="0" lang="ru-RU" sz="2500" spc="-1" strike="noStrike">
                <a:solidFill>
                  <a:srgbClr val="f2f2f2"/>
                </a:solidFill>
                <a:latin typeface="Book Antiqua"/>
              </a:rPr>
              <a:t> - </a:t>
            </a:r>
            <a:r>
              <a:rPr b="0" lang="ru-RU" sz="2400" spc="-1" strike="noStrike">
                <a:solidFill>
                  <a:srgbClr val="f2f2f2"/>
                </a:solidFill>
                <a:latin typeface="Book Antiqua"/>
              </a:rPr>
              <a:t>достойные уважения и гордости моральные качества и этические принципы личност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f2f2f2"/>
                </a:solidFill>
                <a:uFillTx/>
                <a:latin typeface="Book Antiqua"/>
              </a:rPr>
              <a:t>Достоинство</a:t>
            </a:r>
            <a:r>
              <a:rPr b="1" lang="ru-RU" sz="2500" spc="-1" strike="noStrike">
                <a:solidFill>
                  <a:srgbClr val="f2f2f2"/>
                </a:solidFill>
                <a:latin typeface="Book Antiqua"/>
              </a:rPr>
              <a:t> </a:t>
            </a:r>
            <a:r>
              <a:rPr b="0" lang="ru-RU" sz="2500" spc="-1" strike="noStrike">
                <a:solidFill>
                  <a:srgbClr val="f2f2f2"/>
                </a:solidFill>
                <a:latin typeface="Book Antiqua"/>
              </a:rPr>
              <a:t>- </a:t>
            </a:r>
            <a:r>
              <a:rPr b="0" lang="ru-RU" sz="2400" spc="-1" strike="noStrike">
                <a:solidFill>
                  <a:srgbClr val="f2f2f2"/>
                </a:solidFill>
                <a:latin typeface="Book Antiqua"/>
              </a:rPr>
              <a:t>совокупность высоких моральных качеств в самом себе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396720" y="-6480"/>
            <a:ext cx="8193240" cy="9208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356760" y="1571400"/>
            <a:ext cx="8358120" cy="4857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2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 Antiqua"/>
              </a:rPr>
              <a:t>   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Book Antiqua"/>
              </a:rPr>
              <a:t>Ситуация 2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Picture 9" descr="H:\Documents and Settings\user\Мои документы\Мои рисунки\iCAJXBNQQ.jpg"/>
          <p:cNvPicPr/>
          <p:nvPr/>
        </p:nvPicPr>
        <p:blipFill>
          <a:blip r:embed="rId2"/>
          <a:stretch/>
        </p:blipFill>
        <p:spPr>
          <a:xfrm>
            <a:off x="500040" y="1143000"/>
            <a:ext cx="3181320" cy="1935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C:\Documents and Settings\user1\Мои документы\Мои рисунки\iCAXHAC7L.jpg"/>
          <p:cNvPicPr/>
          <p:nvPr/>
        </p:nvPicPr>
        <p:blipFill>
          <a:blip r:embed="rId3"/>
          <a:stretch/>
        </p:blipFill>
        <p:spPr>
          <a:xfrm>
            <a:off x="5143680" y="1143000"/>
            <a:ext cx="3346200" cy="1881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C:\Documents and Settings\user1\Мои документы\Мои рисунки\iCAHKOMFW.jpg"/>
          <p:cNvPicPr/>
          <p:nvPr/>
        </p:nvPicPr>
        <p:blipFill>
          <a:blip r:embed="rId4"/>
          <a:stretch/>
        </p:blipFill>
        <p:spPr>
          <a:xfrm>
            <a:off x="785880" y="3714840"/>
            <a:ext cx="2462040" cy="2449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C:\Documents and Settings\user1\Мои документы\Мои рисунки\iCAKTZURE.jpg"/>
          <p:cNvPicPr/>
          <p:nvPr/>
        </p:nvPicPr>
        <p:blipFill>
          <a:blip r:embed="rId5"/>
          <a:stretch/>
        </p:blipFill>
        <p:spPr>
          <a:xfrm>
            <a:off x="5000760" y="3714840"/>
            <a:ext cx="3429000" cy="252576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7"/>
          <p:cNvSpPr/>
          <p:nvPr/>
        </p:nvSpPr>
        <p:spPr>
          <a:xfrm>
            <a:off x="1071720" y="2809800"/>
            <a:ext cx="4176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Ситуация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8"/>
          <p:cNvSpPr/>
          <p:nvPr/>
        </p:nvSpPr>
        <p:spPr>
          <a:xfrm>
            <a:off x="1214280" y="6357960"/>
            <a:ext cx="75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Ситуация 3                                                       Ситуация 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530280" y="-6480"/>
            <a:ext cx="7864560" cy="65833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356760" y="285480"/>
            <a:ext cx="8358120" cy="4143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 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Надо, чтобы человек поступал правильно, по совести не тогда, когда на него смотрят, его слышат, могут похвалить, а когда никто не видит и никогда не узнает, как было. Надо поступать правильно ради правды, ради долга перед самим собой»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С. Макаренко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6" name="Прямоугольник 7"/>
          <p:cNvSpPr/>
          <p:nvPr/>
        </p:nvSpPr>
        <p:spPr>
          <a:xfrm>
            <a:off x="1071720" y="28098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8"/>
          <p:cNvSpPr/>
          <p:nvPr/>
        </p:nvSpPr>
        <p:spPr>
          <a:xfrm flipV="1">
            <a:off x="1143000" y="6458760"/>
            <a:ext cx="757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1"/>
          <a:stretch/>
        </p:blipFill>
        <p:spPr>
          <a:xfrm>
            <a:off x="530280" y="-6480"/>
            <a:ext cx="7864560" cy="65833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356760" y="285480"/>
            <a:ext cx="8358120" cy="4143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Прямоугольник 7"/>
          <p:cNvSpPr/>
          <p:nvPr/>
        </p:nvSpPr>
        <p:spPr>
          <a:xfrm>
            <a:off x="1071720" y="28098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8"/>
          <p:cNvSpPr/>
          <p:nvPr/>
        </p:nvSpPr>
        <p:spPr>
          <a:xfrm flipV="1">
            <a:off x="1143000" y="6458760"/>
            <a:ext cx="757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4T09:47:53Z</dcterms:created>
  <dc:creator>user</dc:creator>
  <dc:description/>
  <dc:language>en-US</dc:language>
  <cp:lastModifiedBy>user</cp:lastModifiedBy>
  <dcterms:modified xsi:type="dcterms:W3CDTF">2016-03-03T05:18:23Z</dcterms:modified>
  <cp:revision>13</cp:revision>
  <dc:subject/>
  <dc:title>Слайд 1</dc:title>
</cp:coreProperties>
</file>