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78D-9872-4E0E-A987-86B042D2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4DC-A189-4149-98E2-4A1FB9B5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207-7A3A-4F7F-9BE3-C7F4893A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003-8BF1-4C6F-B374-7D29D446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51D4-07B3-43E0-B43D-3C1511C2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019A-D773-47C7-84A7-D0148FE8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BF7F-F254-412D-BB97-5FB1AE2A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805B-FAEB-486A-AA1B-8C44FD1C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BDC-059C-449B-BCD5-F803B890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AEF1-6E88-49FE-A512-BFE90913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809C-248D-4A56-A761-5CE28216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3CC-0FC4-4C45-9A00-9ABEB7DF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46D1-579A-4C34-95CF-1B29D59A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5CDC-DE8F-4077-929D-E60B7CA4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CE06-61DA-4A5A-BA04-771F66D1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8041-6D9A-41C9-A714-E8A8B51E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91DE-D01D-4BE1-81AA-2E15EC90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759-E223-4F1F-A069-CE7E8B38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6A0-40A6-4B65-BE3C-CB7B945A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FED-8D4B-4616-9B52-CA0C991D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E6C-5797-4535-A55E-9613744C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D09-1C86-4858-91A6-88E2A3B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6A1-FEE8-4375-A9E9-6B4789A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E36-9A7C-44EF-8FE2-19BF9E2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3292-19EE-4BE7-AA51-D963E6B17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0C63-1548-466A-B63C-D060ABE86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00" y="404640"/>
            <a:ext cx="5270760" cy="32371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рок литературы в 5 классе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      …        »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br>
              <a:rPr sz="4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(по рассказу В.И. Белова «Скворцы»)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521080" cy="3311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100" name=""/>
          <p:cNvSpPr/>
          <p:nvPr/>
        </p:nvSpPr>
        <p:spPr>
          <a:xfrm>
            <a:off x="468360" y="3845160"/>
            <a:ext cx="381636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оброта приносит людям радость                                                                                            И взамен не требует награды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. Тулупов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92720" y="4508640"/>
            <a:ext cx="3164040" cy="1892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6662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расска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 Павлуня лежит дома, бол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. Мальчик с отцом сделали сквореч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3.Скворечник уп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4.Павлуня хочет спасти скворечник и оказывается на ого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5.Отец вновь поставил сквореч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Каким мы видим героя 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ый, любознательный, приобщён к миру природы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блюдатель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ый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уткий, внимательный,  с любовью ко всему окружающ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уется за других, заботливый, добрый, наблюдательный, умный, догадлив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елый, отважный, умеет жертвовать собой, чуткий, добрый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зывчивый, мечтатель, способен на активное добр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502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рок добр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по рассказу В.И. Бе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Скворцы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708360" y="2637000"/>
            <a:ext cx="2158920" cy="309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00720" y="1844640"/>
            <a:ext cx="2540160" cy="1765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3025800" cy="1994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ffff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227640" y="4076640"/>
            <a:ext cx="2548080" cy="21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95280" y="1916280"/>
            <a:ext cx="2736720" cy="1885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23640" y="-360"/>
            <a:ext cx="392724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емья скворц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Скворцы прилетели с юга, устал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Скворцы прилетели и начали полную жизнь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-360"/>
            <a:ext cx="417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авлуня и его семь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альчик тоже устал, пролежал всю зим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Хотя и в постели, Павлуня тоже начал активное наблюден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292392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кворец за полной работой, скворчиха тоже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Скворцы поют, радуютс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140360" y="2997000"/>
            <a:ext cx="47196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одители Павлуни очень трудолюбивы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 мальчика поднялось настроение. Павлуня тоже любит жизнь, семья не паникует, спокойно выходят из трудной ситуации, радуются каждому дню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56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кая раб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ишите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чинение - размышлен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ожидает Павлуню завтра?» 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ьте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исьмо Павлун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выраз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ём свои мысли и пожел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льчи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284720" y="4797360"/>
            <a:ext cx="4200480" cy="173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439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оброта приносит людям радость                                                                                        И взамен не требует награды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43640" y="1268280"/>
            <a:ext cx="2160720" cy="1673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305080" cy="15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19640" y="134136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659640" y="3213000"/>
            <a:ext cx="2077920" cy="1739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9640" y="3284640"/>
            <a:ext cx="201636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276720" y="3141720"/>
            <a:ext cx="2665440" cy="1942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508720" y="5300640"/>
            <a:ext cx="2735280" cy="134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826920" y="5300640"/>
            <a:ext cx="2953080" cy="1405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468360" y="134136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3059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Сегодня я узнал (-а)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Было интерес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Я понял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Я научил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Мне захотелос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54:02Z</dcterms:created>
  <dc:creator>Kompik</dc:creator>
  <dc:description/>
  <dc:language>en-US</dc:language>
  <cp:lastModifiedBy>Татьяна </cp:lastModifiedBy>
  <dcterms:modified xsi:type="dcterms:W3CDTF">2019-10-07T21:14:31Z</dcterms:modified>
  <cp:revision>5</cp:revision>
  <dc:subject/>
  <dc:title>Урок литературы в 5 классе  «      …        »  (по рассказу В.И. Белова «Скворцы»).</dc:title>
</cp:coreProperties>
</file>