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43.png" ContentType="image/png"/>
  <Override PartName="/ppt/media/image53.jpeg" ContentType="image/jpeg"/>
  <Override PartName="/ppt/media/image44.png" ContentType="image/png"/>
  <Override PartName="/ppt/media/image46.png" ContentType="image/png"/>
  <Override PartName="/ppt/media/image49.png" ContentType="image/png"/>
  <Override PartName="/ppt/media/image35.png" ContentType="image/png"/>
  <Override PartName="/ppt/media/image5.jpeg" ContentType="image/jpeg"/>
  <Override PartName="/ppt/media/image50.jpeg" ContentType="image/jpeg"/>
  <Override PartName="/ppt/media/image13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1.png" ContentType="image/png"/>
  <Override PartName="/ppt/media/image48.jpeg" ContentType="image/jpeg"/>
  <Override PartName="/ppt/media/image54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212-4D3C-460F-9ABC-D5CC375D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3AF-E67C-471F-82DF-94047637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9DB68-5029-4491-9E16-E23735FE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36CDA-DBCE-4882-B782-73532EA6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F630D-3DF4-4D77-AA0B-76D7E7C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2FA0F-C958-4F75-99B3-FC6EDA2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1DB9D-7763-453A-8C14-8705562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9E2FD-1D02-4251-A245-5E65ED8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DEF92-CDFE-45CF-8728-FEB2509E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6D75C-63BA-4B88-8C04-213483B0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31921-D153-4E44-8BB3-819432EF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2735-DBA0-4354-A345-27121198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621-CD9A-4E37-924C-856751AA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F319-7984-4AE6-B444-A92A8AF6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5B52B-9C18-47A1-972A-5139887A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D452F-7696-4BDE-BD9F-D9902E70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051ED-8DB5-4687-B138-98F6809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B609B-FDA5-43E4-9C06-6488BFE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421AB-5466-4990-BBCF-FEB8760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F5D32-1B7D-4DEC-82B9-4F8EB0B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D50D8-E490-4E17-AA4B-C038656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E8071-103E-48E3-A724-3D4779C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50A60-7121-4BDA-8476-C134A3B7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1B8-C8EC-4881-9DFC-04EF71E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F6F9E-0A65-46C2-A0CA-2F6B67A2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260E0-6BD9-4264-9504-8A555164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07CA7-0904-43B4-963A-8212358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71693-097A-42B8-9C39-C332FC7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EC61-F88A-4ED4-B13B-D11DA10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B7F5A-7943-4618-8753-16CC1B6E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A8F22-D4AD-43E4-A618-49F552C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EDA3-F716-4D70-8ABA-2AC9168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DFC0F-B70D-4D49-8036-111B841E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B0D7-030F-4154-83DA-BBE4D97F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6BE0-F4F5-46FD-B0D5-4D2E950C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C7477-DCC6-44CA-8C59-EA802D85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55533-597D-4058-B944-D01D8E0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245DB-DD81-458A-9F95-0D5C4908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4152E-E130-4134-A73C-DA1A87B7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F2353-A0EE-44BE-8AB0-94D4814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2508D-7D77-4566-AA56-A84D542C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4388B-007B-4406-8213-41B3D8E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23847-79EE-44FA-840E-3BF090C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24AFC-579F-4069-AC32-83BD4706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24F0C-5651-4257-93BA-2E3E58C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2036-2C47-49D4-AEF1-86F074BD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484CC-B3F3-47D3-B124-67DA3C2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64DC5-EF26-4B58-8FD9-DB24DDB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86D5E-4349-4AA3-BB7F-2F962F6A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8F7FE-95FE-4732-BE74-8902C993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04BD6-3EA4-49DB-B601-E8C41966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5012B-D1A1-4D28-B5FE-BE778F4E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E046C-D7FF-4EF2-A3AF-2BDFB8EF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E9318-CAAA-4A69-B2D2-32CCFD88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71672-4D99-48D1-8062-B1E0E8FD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C81B0-09BC-4711-B3A3-8462B50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749-4A2A-4281-B987-854C04F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9E15D-27CA-4DE4-9D2B-C2A4880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912A0-B7AB-40B1-B40F-7DCE51E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29ED3-2BAC-48A6-AC44-DF39202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8BE6A-0A90-470D-8543-32016F0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92AA1-F879-4A81-B2DD-38238481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3F56B-56BC-4510-9AC0-CC963280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83FDB-DC50-469A-81B3-97CF42A6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C078-61D8-476D-B1A2-BA2A667A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87B3-3A99-464D-9B6E-DF09B4F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0D5F-4274-4A5F-9600-2FE922F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8A7A-C4B6-4CAA-896E-26C6919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DEA-50AE-47AE-8968-64EB685F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0A7-97BD-41AB-87B0-30AF611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26E1-B431-4355-946D-F724A8F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7362-8A36-4071-B9FD-C7ED54D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B009-791D-4EA5-B57A-68143987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26B2-3D99-4398-A1EC-F14B92F6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7740-1A1B-4F9B-AB49-61ADFAD1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F523-306A-4B38-8FB6-895FEF77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3725-17CE-4E7D-8A08-6540E68D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37EE-0DC6-481C-BA96-620DA11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BC57-3168-4ACA-81EB-ABE143E8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DA0-C8C6-45AC-8D7A-DAE7EEE5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53F1-04B3-4FBE-92C5-03F2B7E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E992-4E0F-49EB-83A9-78C39A9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46E2-D042-4E2C-8A44-E3B77BD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AA46-BBB7-42CF-9D42-E6A5D42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8AE4-07E9-4079-83C5-AEE80BF0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814B-1B69-46F9-A19F-90A2717B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7AD6-B6CE-4D96-848E-CF230633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A4B1-F042-4F1E-972B-F74DD175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6BF1-01A7-480A-AE8B-AD068E4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2CB5-826B-4188-BF8B-B8008566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9F8-F37A-4217-8887-D101446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9A7D-D109-4B08-B148-BE58A2C8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1FC2-CF8A-479E-B5AA-6CD3D84C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6693-0570-4859-B5A6-B5B41648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DB6E-0092-423E-A22D-E961654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A63C-F41A-47C2-AC81-6528AF7F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FE18-9BCA-40D3-BC1E-E5130E7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3F61-B481-432E-97FA-D075D80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3E22-D301-410A-9E55-CF38A9E2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8029-2485-4C25-B4A3-A98656FD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81F6-6C01-472B-A42D-44A2CCD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CDA-58A4-41D5-A410-592DF39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5CEC-888A-4F20-873F-0E9B4956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5A47-3F30-4EFE-9FAF-D83B974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687B-E2F9-47DE-A8A2-B85C3BB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A74A-1108-4DA6-AA55-82FE36D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B2B7-A569-447B-BAA8-26646254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05CE-2964-48F3-98DF-075CEFC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307D-D2E4-49F0-85B0-9D93872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22B16-8A84-43D7-A31D-71A35F7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9441-BCBF-4F5F-B750-1F677C1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51BA-1568-4DBE-BCA3-BD53CBCC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E9B-4D67-485A-9773-F8892CF7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C2AA-CB9B-442E-9B92-EC5AE5F8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4924-2570-4E1B-AAFA-4A2DE2CF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C4B0B-85B5-4AAE-86CF-8B3C1F76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AB78-2577-41A7-9805-60C9F001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CA06-9CAD-4537-96E0-963E998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AB4F-EF3F-4F84-9B3B-11ECD558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06CD-9EA9-4110-B269-57776BC1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3552-84ED-40A6-82BF-DF8737B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67780-6AD5-469D-ACF4-7982C4C8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E282B-5DCD-471A-A7FF-50E63CF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3D4-B325-406A-8CB2-78E8FE6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95B4-D2E0-404F-B059-D3F5EBF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A201-2FB6-49CA-804D-A09DCBCB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AEA6-6606-4A00-9B53-7628194C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7590-416B-4B6D-8CE0-33E6DA23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904F9-E41E-49A6-BF91-5E55674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A6CC9-5512-40C3-B507-70A065A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7596-C1E0-4351-B584-D7665C78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6D64-103C-4F41-928C-3CA8BA17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26096-96EE-4F40-BF49-65A2D3C2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DC340-BA71-41CF-ACCE-91FE589F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BD2-555C-4502-96EE-F1031D0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4DBBB-5856-4E53-B151-9DF2E85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37B9A-9C07-4A15-9F9A-CDCC46C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8FBD1-E956-4099-9FCF-DBC1CDBD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FF176-0402-4D3E-ABB4-76660A4D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7639A-6971-4B0C-934B-02A5DABF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8D67-B392-43FE-980F-02E15A67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FFB0A-5DB8-483D-8A1A-EF16E323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9CF0-3429-4078-8B7C-561D373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401F4-8598-4358-A61B-5B771EFD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B0FD-5552-40A4-85FF-F1932AC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6B8-CF54-4A20-AA24-AA7ABD4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77EF-9021-47F8-84A0-D9784022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42E87-BA72-4CC4-A16D-66B061C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6D142-6386-44BE-9F0C-D309E82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3842-D7B8-427B-BAD7-ABBDC58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E117F-AA28-4DE2-9579-4CBE6AD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C87F-4A48-4F52-BA52-3EF79D99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36035-D8A5-4C55-9F38-4C06FC2F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22597-1B36-4858-8287-9DEA8CDB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C800E-200E-46BB-8B35-C8F6A6B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82AA6-2CD9-48CB-96B3-EC1EA99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EC38-6726-481D-800B-EC1011BF7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BEA-8204-4094-A69B-6D92203F11F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87A-9D55-41E1-AA18-9D2C1CE2CD6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005-14E0-4EEC-8814-F285EE0B547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71B8-A815-4167-8733-0A7BEFB442E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C61-84A9-4C00-A7A1-15FA81F98E4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727-CF69-4CB9-A347-1EE54DDFE1B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4F9-CEC7-4533-9AC6-05522665228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84D-0BDD-4412-BE6A-8C7FA65E0A2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8B2-8AA0-42AE-86C5-0D207D0F65B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A484-0898-49A7-A517-B645949813E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FF6E-3938-4292-ADE2-C2407254E96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E1AA-C79A-44C4-B519-CA002138BA7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1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1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1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Викторина </a:t>
            </a:r>
            <a:br>
              <a:rPr sz="4800"/>
            </a:b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«Хочу всё знать!»,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священная 75-летию Победы в Великой Отечественной войне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3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4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Текст 2"/>
          <p:cNvSpPr/>
          <p:nvPr/>
        </p:nvSpPr>
        <p:spPr>
          <a:xfrm>
            <a:off x="457200" y="5029200"/>
            <a:ext cx="77724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ambria"/>
                <a:ea typeface="Arial"/>
              </a:rPr>
              <a:t>Автор: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ambria"/>
                <a:ea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ambria"/>
                <a:ea typeface="Arial"/>
              </a:rPr>
              <a:t>Богданова Окса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Нижний колонтитул 4"/>
          <p:cNvSpPr/>
          <p:nvPr/>
        </p:nvSpPr>
        <p:spPr>
          <a:xfrm>
            <a:off x="457200" y="6143760"/>
            <a:ext cx="7238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ambria"/>
                <a:ea typeface="Arial"/>
              </a:rPr>
              <a:t>МАОУ Тисульская СОШ №1 Кемеровская обл.                                    201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1">
            <a:hlinkClick r:id="" action="ppaction://hlinkshowjump?jump=nextslide"/>
          </p:cNvPr>
          <p:cNvSpPr/>
          <p:nvPr/>
        </p:nvSpPr>
        <p:spPr>
          <a:xfrm>
            <a:off x="7238880" y="6459480"/>
            <a:ext cx="17179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haron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2" descr=""/>
          <p:cNvPicPr/>
          <p:nvPr/>
        </p:nvPicPr>
        <p:blipFill>
          <a:blip r:embed="rId2"/>
          <a:stretch/>
        </p:blipFill>
        <p:spPr>
          <a:xfrm>
            <a:off x="103320" y="176040"/>
            <a:ext cx="8132760" cy="295776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1" descr=""/>
          <p:cNvPicPr/>
          <p:nvPr/>
        </p:nvPicPr>
        <p:blipFill>
          <a:blip r:embed="rId3"/>
          <a:stretch/>
        </p:blipFill>
        <p:spPr>
          <a:xfrm>
            <a:off x="5245200" y="343836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3" descr=""/>
          <p:cNvPicPr/>
          <p:nvPr/>
        </p:nvPicPr>
        <p:blipFill>
          <a:blip r:embed="rId4"/>
          <a:stretch/>
        </p:blipFill>
        <p:spPr>
          <a:xfrm>
            <a:off x="390600" y="1968480"/>
            <a:ext cx="3127320" cy="635040"/>
          </a:xfrm>
          <a:prstGeom prst="rect">
            <a:avLst/>
          </a:prstGeom>
          <a:ln w="0">
            <a:noFill/>
          </a:ln>
        </p:spPr>
      </p:pic>
      <p:pic>
        <p:nvPicPr>
          <p:cNvPr id="620" name="Прямоугольник 4" descr=""/>
          <p:cNvPicPr/>
          <p:nvPr/>
        </p:nvPicPr>
        <p:blipFill>
          <a:blip r:embed="rId5"/>
          <a:stretch/>
        </p:blipFill>
        <p:spPr>
          <a:xfrm>
            <a:off x="390600" y="2882880"/>
            <a:ext cx="3127320" cy="635040"/>
          </a:xfrm>
          <a:prstGeom prst="rect">
            <a:avLst/>
          </a:prstGeom>
          <a:ln w="0">
            <a:noFill/>
          </a:ln>
        </p:spPr>
      </p:pic>
      <p:pic>
        <p:nvPicPr>
          <p:cNvPr id="621" name="Прямоугольник 5" descr=""/>
          <p:cNvPicPr/>
          <p:nvPr/>
        </p:nvPicPr>
        <p:blipFill>
          <a:blip r:embed="rId6"/>
          <a:stretch/>
        </p:blipFill>
        <p:spPr>
          <a:xfrm>
            <a:off x="469800" y="3797280"/>
            <a:ext cx="3127320" cy="635040"/>
          </a:xfrm>
          <a:prstGeom prst="rect">
            <a:avLst/>
          </a:prstGeom>
          <a:ln w="0">
            <a:noFill/>
          </a:ln>
        </p:spPr>
      </p:pic>
      <p:sp>
        <p:nvSpPr>
          <p:cNvPr id="622" name="WordArt 6"/>
          <p:cNvSpPr txBox="1"/>
          <p:nvPr/>
        </p:nvSpPr>
        <p:spPr>
          <a:xfrm>
            <a:off x="1434960" y="466884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3" name="Picture 5" descr="i?id=106853756-01"/>
          <p:cNvPicPr/>
          <p:nvPr/>
        </p:nvPicPr>
        <p:blipFill>
          <a:blip r:embed="rId7"/>
          <a:stretch/>
        </p:blipFill>
        <p:spPr>
          <a:xfrm>
            <a:off x="3797280" y="25844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24" name="WordArt 7"/>
          <p:cNvSpPr txBox="1"/>
          <p:nvPr/>
        </p:nvSpPr>
        <p:spPr>
          <a:xfrm>
            <a:off x="3774960" y="1933560"/>
            <a:ext cx="38102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Управляющая кнопка: возврат 9">
            <a:hlinkClick r:id="rId8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городе блокада длилась 900 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2563920" cy="39625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1" descr=""/>
          <p:cNvPicPr/>
          <p:nvPr/>
        </p:nvPicPr>
        <p:blipFill>
          <a:blip r:embed="rId2"/>
          <a:stretch/>
        </p:blipFill>
        <p:spPr>
          <a:xfrm>
            <a:off x="4257720" y="2019240"/>
            <a:ext cx="4589280" cy="2705040"/>
          </a:xfrm>
          <a:prstGeom prst="rect">
            <a:avLst/>
          </a:prstGeom>
          <a:ln w="0">
            <a:noFill/>
          </a:ln>
        </p:spPr>
      </p:pic>
      <p:sp>
        <p:nvSpPr>
          <p:cNvPr id="629" name="Управляющая кнопка: возврат 6"/>
          <p:cNvSpPr/>
          <p:nvPr/>
        </p:nvSpPr>
        <p:spPr>
          <a:xfrm>
            <a:off x="6781680" y="60199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55" h="21600">
                <a:moveTo>
                  <a:pt x="39771" y="7493"/>
                </a:moveTo>
                <a:lnTo>
                  <a:pt x="43278" y="7493"/>
                </a:lnTo>
                <a:lnTo>
                  <a:pt x="43278" y="12828"/>
                </a:lnTo>
                <a:cubicBezTo>
                  <a:pt x="43278" y="13751"/>
                  <a:pt x="44079" y="14482"/>
                  <a:pt x="45115" y="14482"/>
                </a:cubicBezTo>
                <a:lnTo>
                  <a:pt x="46777" y="14482"/>
                </a:lnTo>
                <a:cubicBezTo>
                  <a:pt x="47813" y="14482"/>
                  <a:pt x="48614" y="13751"/>
                  <a:pt x="48614" y="12828"/>
                </a:cubicBezTo>
                <a:lnTo>
                  <a:pt x="48614" y="7493"/>
                </a:lnTo>
                <a:lnTo>
                  <a:pt x="46777" y="7493"/>
                </a:lnTo>
                <a:lnTo>
                  <a:pt x="50285" y="3985"/>
                </a:lnTo>
                <a:lnTo>
                  <a:pt x="53958" y="7493"/>
                </a:lnTo>
                <a:lnTo>
                  <a:pt x="52121" y="7493"/>
                </a:lnTo>
                <a:lnTo>
                  <a:pt x="52121" y="12828"/>
                </a:lnTo>
                <a:cubicBezTo>
                  <a:pt x="52121" y="15596"/>
                  <a:pt x="49545" y="18155"/>
                  <a:pt x="46777" y="18155"/>
                </a:cubicBezTo>
                <a:lnTo>
                  <a:pt x="45115" y="18155"/>
                </a:lnTo>
                <a:cubicBezTo>
                  <a:pt x="42347" y="18155"/>
                  <a:pt x="39771" y="15596"/>
                  <a:pt x="39771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http://old.orenburg.spravedlivo.ru/upload/orenburg/Vopros.jpg"/>
          <p:cNvPicPr/>
          <p:nvPr/>
        </p:nvPicPr>
        <p:blipFill>
          <a:blip r:embed="rId3"/>
          <a:stretch/>
        </p:blipFill>
        <p:spPr>
          <a:xfrm>
            <a:off x="809640" y="2057400"/>
            <a:ext cx="31384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овой, стрелок – автоматчик. В бою у деревни Чернушки он закрыл своим телом амбразуру дз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"/>
          <p:cNvPicPr/>
          <p:nvPr/>
        </p:nvPicPr>
        <p:blipFill>
          <a:blip r:embed="rId1"/>
          <a:srcRect l="3031" t="4814" r="4547" b="12357"/>
          <a:stretch/>
        </p:blipFill>
        <p:spPr>
          <a:xfrm>
            <a:off x="1752480" y="274320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633" name="Управляющая кнопка: возврат 5"/>
          <p:cNvSpPr/>
          <p:nvPr/>
        </p:nvSpPr>
        <p:spPr>
          <a:xfrm>
            <a:off x="6934320" y="60958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http://old.orenburg.spravedlivo.ru/upload/orenburg/Vopros.jpg"/>
          <p:cNvPicPr/>
          <p:nvPr/>
        </p:nvPicPr>
        <p:blipFill>
          <a:blip r:embed="rId2"/>
          <a:stretch/>
        </p:blipFill>
        <p:spPr>
          <a:xfrm>
            <a:off x="1714680" y="2482920"/>
            <a:ext cx="4762440" cy="40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советский реактивный гвардейский миномет времен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tretch/>
        </p:blipFill>
        <p:spPr>
          <a:xfrm>
            <a:off x="1944720" y="2438280"/>
            <a:ext cx="4989600" cy="374328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"/>
          <p:cNvSpPr/>
          <p:nvPr/>
        </p:nvSpPr>
        <p:spPr>
          <a:xfrm>
            <a:off x="1915200" y="2438280"/>
            <a:ext cx="19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атю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Управляющая кнопка: возврат 7"/>
          <p:cNvSpPr/>
          <p:nvPr/>
        </p:nvSpPr>
        <p:spPr>
          <a:xfrm>
            <a:off x="7010280" y="61722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55" h="21600">
                <a:moveTo>
                  <a:pt x="39771" y="7493"/>
                </a:moveTo>
                <a:lnTo>
                  <a:pt x="43278" y="7493"/>
                </a:lnTo>
                <a:lnTo>
                  <a:pt x="43278" y="12828"/>
                </a:lnTo>
                <a:cubicBezTo>
                  <a:pt x="43278" y="13751"/>
                  <a:pt x="44079" y="14482"/>
                  <a:pt x="45115" y="14482"/>
                </a:cubicBezTo>
                <a:lnTo>
                  <a:pt x="46777" y="14482"/>
                </a:lnTo>
                <a:cubicBezTo>
                  <a:pt x="47813" y="14482"/>
                  <a:pt x="48614" y="13751"/>
                  <a:pt x="48614" y="12828"/>
                </a:cubicBezTo>
                <a:lnTo>
                  <a:pt x="48614" y="7493"/>
                </a:lnTo>
                <a:lnTo>
                  <a:pt x="46777" y="7493"/>
                </a:lnTo>
                <a:lnTo>
                  <a:pt x="50285" y="3985"/>
                </a:lnTo>
                <a:lnTo>
                  <a:pt x="53958" y="7493"/>
                </a:lnTo>
                <a:lnTo>
                  <a:pt x="52121" y="7493"/>
                </a:lnTo>
                <a:lnTo>
                  <a:pt x="52121" y="12828"/>
                </a:lnTo>
                <a:cubicBezTo>
                  <a:pt x="52121" y="15596"/>
                  <a:pt x="49545" y="18155"/>
                  <a:pt x="46777" y="18155"/>
                </a:cubicBezTo>
                <a:lnTo>
                  <a:pt x="45115" y="18155"/>
                </a:lnTo>
                <a:cubicBezTo>
                  <a:pt x="42347" y="18155"/>
                  <a:pt x="39771" y="15596"/>
                  <a:pt x="39771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7" descr="http://old.orenburg.spravedlivo.ru/upload/orenburg/Vopros.jpg"/>
          <p:cNvPicPr/>
          <p:nvPr/>
        </p:nvPicPr>
        <p:blipFill>
          <a:blip r:embed="rId2"/>
          <a:stretch/>
        </p:blipFill>
        <p:spPr>
          <a:xfrm>
            <a:off x="1828800" y="1969920"/>
            <a:ext cx="5126040" cy="46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67 году в Москве у Кремлевской стены зажжен Вечный огонь в память героев, павших в годы Великой Отечественной войны. Как называется этот памя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6" descr=""/>
          <p:cNvPicPr/>
          <p:nvPr/>
        </p:nvPicPr>
        <p:blipFill>
          <a:blip r:embed="rId1"/>
          <a:stretch/>
        </p:blipFill>
        <p:spPr>
          <a:xfrm>
            <a:off x="2209680" y="3425760"/>
            <a:ext cx="4267440" cy="3194280"/>
          </a:xfrm>
          <a:prstGeom prst="rect">
            <a:avLst/>
          </a:prstGeom>
          <a:ln w="0">
            <a:noFill/>
          </a:ln>
        </p:spPr>
      </p:pic>
      <p:sp>
        <p:nvSpPr>
          <p:cNvPr id="642" name="Управляющая кнопка: возврат 5"/>
          <p:cNvSpPr/>
          <p:nvPr/>
        </p:nvSpPr>
        <p:spPr>
          <a:xfrm>
            <a:off x="6858000" y="62485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http://old.orenburg.spravedlivo.ru/upload/orenburg/Vopros.jpg"/>
          <p:cNvPicPr/>
          <p:nvPr/>
        </p:nvPicPr>
        <p:blipFill>
          <a:blip r:embed="rId2"/>
          <a:stretch/>
        </p:blipFill>
        <p:spPr>
          <a:xfrm>
            <a:off x="2209680" y="3193920"/>
            <a:ext cx="42674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AutoShape 5"/>
          <p:cNvSpPr/>
          <p:nvPr/>
        </p:nvSpPr>
        <p:spPr>
          <a:xfrm>
            <a:off x="7696080" y="63244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9298" y="3837"/>
                </a:moveTo>
                <a:lnTo>
                  <a:pt x="31874" y="6448"/>
                </a:lnTo>
                <a:lnTo>
                  <a:pt x="31874" y="4707"/>
                </a:lnTo>
                <a:lnTo>
                  <a:pt x="33649" y="4707"/>
                </a:lnTo>
                <a:lnTo>
                  <a:pt x="33649" y="8224"/>
                </a:lnTo>
                <a:lnTo>
                  <a:pt x="36261" y="10800"/>
                </a:lnTo>
                <a:lnTo>
                  <a:pt x="34607" y="10800"/>
                </a:lnTo>
                <a:lnTo>
                  <a:pt x="34607" y="17989"/>
                </a:lnTo>
                <a:lnTo>
                  <a:pt x="23988" y="17989"/>
                </a:lnTo>
                <a:lnTo>
                  <a:pt x="23988" y="10800"/>
                </a:lnTo>
                <a:lnTo>
                  <a:pt x="22335" y="10800"/>
                </a:lnTo>
                <a:close/>
              </a:path>
              <a:path fill="darkenLess" w="58595" h="21600">
                <a:moveTo>
                  <a:pt x="31874" y="6448"/>
                </a:moveTo>
                <a:lnTo>
                  <a:pt x="31874" y="4707"/>
                </a:lnTo>
                <a:lnTo>
                  <a:pt x="33649" y="4707"/>
                </a:lnTo>
                <a:lnTo>
                  <a:pt x="33649" y="8224"/>
                </a:lnTo>
                <a:close/>
              </a:path>
              <a:path fill="darkenLess" w="58595" h="21600">
                <a:moveTo>
                  <a:pt x="28375" y="14299"/>
                </a:moveTo>
                <a:lnTo>
                  <a:pt x="30220" y="14299"/>
                </a:lnTo>
                <a:lnTo>
                  <a:pt x="30220" y="17989"/>
                </a:lnTo>
                <a:lnTo>
                  <a:pt x="34607" y="17989"/>
                </a:lnTo>
                <a:lnTo>
                  <a:pt x="34607" y="10800"/>
                </a:lnTo>
                <a:lnTo>
                  <a:pt x="23988" y="10800"/>
                </a:lnTo>
                <a:lnTo>
                  <a:pt x="23988" y="17989"/>
                </a:lnTo>
                <a:lnTo>
                  <a:pt x="28375" y="17989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haroni"/>
              </a:rPr>
              <a:t>да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380880" y="10666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Используем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Картинки о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2. Классные часы (беседы, устный журнал,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мужества, ток-шоу). 1-11 классы /Авт.-сост. С.В. Шевченко и др.- Волгоград: Учитель,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шабло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28600" y="152280"/>
          <a:ext cx="8686800" cy="6553440"/>
        </p:xfrm>
        <a:graphic>
          <a:graphicData uri="http://schemas.openxmlformats.org/drawingml/2006/table">
            <a:tbl>
              <a:tblPr/>
              <a:tblGrid>
                <a:gridCol w="1736640"/>
                <a:gridCol w="1736640"/>
                <a:gridCol w="1740240"/>
                <a:gridCol w="1736640"/>
                <a:gridCol w="1736640"/>
              </a:tblGrid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9" name="Picture 33" descr=""/>
          <p:cNvPicPr/>
          <p:nvPr/>
        </p:nvPicPr>
        <p:blipFill>
          <a:blip r:embed="rId1"/>
          <a:stretch/>
        </p:blipFill>
        <p:spPr>
          <a:xfrm>
            <a:off x="298440" y="228600"/>
            <a:ext cx="1606680" cy="1787400"/>
          </a:xfrm>
          <a:prstGeom prst="rect">
            <a:avLst/>
          </a:prstGeom>
          <a:ln w="0">
            <a:noFill/>
          </a:ln>
        </p:spPr>
      </p:pic>
      <p:sp>
        <p:nvSpPr>
          <p:cNvPr id="540" name="WordArt 34"/>
          <p:cNvSpPr txBox="1"/>
          <p:nvPr/>
        </p:nvSpPr>
        <p:spPr>
          <a:xfrm>
            <a:off x="2209680" y="60948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1" name="WordArt 35"/>
          <p:cNvSpPr txBox="1"/>
          <p:nvPr/>
        </p:nvSpPr>
        <p:spPr>
          <a:xfrm>
            <a:off x="3962520" y="685800"/>
            <a:ext cx="1218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2" name="WordArt 36"/>
          <p:cNvSpPr txBox="1"/>
          <p:nvPr/>
        </p:nvSpPr>
        <p:spPr>
          <a:xfrm>
            <a:off x="5638680" y="6858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3" name="WordArt 37"/>
          <p:cNvSpPr txBox="1"/>
          <p:nvPr/>
        </p:nvSpPr>
        <p:spPr>
          <a:xfrm>
            <a:off x="7467480" y="6858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4" name="WordArt 38"/>
          <p:cNvSpPr txBox="1"/>
          <p:nvPr/>
        </p:nvSpPr>
        <p:spPr>
          <a:xfrm rot="18271800">
            <a:off x="181440" y="2896200"/>
            <a:ext cx="1830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1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1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WordArt 40"/>
          <p:cNvSpPr txBox="1"/>
          <p:nvPr/>
        </p:nvSpPr>
        <p:spPr>
          <a:xfrm>
            <a:off x="2133720" y="3048120"/>
            <a:ext cx="1218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6" name="WordArt 41"/>
          <p:cNvSpPr txBox="1"/>
          <p:nvPr/>
        </p:nvSpPr>
        <p:spPr>
          <a:xfrm>
            <a:off x="4114800" y="3124080"/>
            <a:ext cx="1219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7" name="WordArt 43"/>
          <p:cNvSpPr txBox="1"/>
          <p:nvPr/>
        </p:nvSpPr>
        <p:spPr>
          <a:xfrm>
            <a:off x="7467480" y="3124080"/>
            <a:ext cx="1219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8" name="WordArt 46"/>
          <p:cNvSpPr txBox="1"/>
          <p:nvPr/>
        </p:nvSpPr>
        <p:spPr>
          <a:xfrm>
            <a:off x="2286000" y="502920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49" name="WordArt 49"/>
          <p:cNvSpPr txBox="1"/>
          <p:nvPr/>
        </p:nvSpPr>
        <p:spPr>
          <a:xfrm>
            <a:off x="4114800" y="50292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50" name="WordArt 52"/>
          <p:cNvSpPr txBox="1"/>
          <p:nvPr/>
        </p:nvSpPr>
        <p:spPr>
          <a:xfrm>
            <a:off x="5715000" y="50292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51" name="WordArt 53"/>
          <p:cNvSpPr txBox="1"/>
          <p:nvPr/>
        </p:nvSpPr>
        <p:spPr>
          <a:xfrm>
            <a:off x="7467480" y="4952880"/>
            <a:ext cx="1219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52" name="WordArt 54"/>
          <p:cNvSpPr txBox="1"/>
          <p:nvPr/>
        </p:nvSpPr>
        <p:spPr>
          <a:xfrm>
            <a:off x="5791320" y="3048120"/>
            <a:ext cx="1218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553" name="Прямоугольник 1">
            <a:hlinkClick r:id="" action="ppaction://hlinkshowjump?jump=endshow"/>
          </p:cNvPr>
          <p:cNvSpPr/>
          <p:nvPr/>
        </p:nvSpPr>
        <p:spPr>
          <a:xfrm>
            <a:off x="7770960" y="6521400"/>
            <a:ext cx="1373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haron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19" descr="http://easyengl.ucoz.ru/_ld/199/27000980.jpg"/>
          <p:cNvPicPr/>
          <p:nvPr/>
        </p:nvPicPr>
        <p:blipFill>
          <a:blip r:embed="rId2"/>
          <a:stretch/>
        </p:blipFill>
        <p:spPr>
          <a:xfrm>
            <a:off x="304920" y="4572000"/>
            <a:ext cx="16002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WordArt 6" descr=""/>
          <p:cNvPicPr/>
          <p:nvPr/>
        </p:nvPicPr>
        <p:blipFill>
          <a:blip r:embed="rId2"/>
          <a:stretch/>
        </p:blipFill>
        <p:spPr>
          <a:xfrm>
            <a:off x="682560" y="298440"/>
            <a:ext cx="6943680" cy="153684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2" descr=""/>
          <p:cNvPicPr/>
          <p:nvPr/>
        </p:nvPicPr>
        <p:blipFill>
          <a:blip r:embed="rId3"/>
          <a:stretch/>
        </p:blipFill>
        <p:spPr>
          <a:xfrm>
            <a:off x="5207040" y="3048120"/>
            <a:ext cx="3784680" cy="3255840"/>
          </a:xfrm>
          <a:prstGeom prst="rect">
            <a:avLst/>
          </a:prstGeom>
          <a:ln w="0">
            <a:noFill/>
          </a:ln>
        </p:spPr>
      </p:pic>
      <p:sp>
        <p:nvSpPr>
          <p:cNvPr id="557" name="WordArt 6"/>
          <p:cNvSpPr txBox="1"/>
          <p:nvPr/>
        </p:nvSpPr>
        <p:spPr>
          <a:xfrm>
            <a:off x="1066680" y="44956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8" name="Прямоугольник 11" descr=""/>
          <p:cNvPicPr/>
          <p:nvPr/>
        </p:nvPicPr>
        <p:blipFill>
          <a:blip r:embed="rId4"/>
          <a:stretch/>
        </p:blipFill>
        <p:spPr>
          <a:xfrm>
            <a:off x="1000080" y="1895400"/>
            <a:ext cx="2597040" cy="635040"/>
          </a:xfrm>
          <a:prstGeom prst="rect">
            <a:avLst/>
          </a:prstGeom>
          <a:ln w="0">
            <a:noFill/>
          </a:ln>
        </p:spPr>
      </p:pic>
      <p:pic>
        <p:nvPicPr>
          <p:cNvPr id="559" name="Прямоугольник 12" descr=""/>
          <p:cNvPicPr/>
          <p:nvPr/>
        </p:nvPicPr>
        <p:blipFill>
          <a:blip r:embed="rId5"/>
          <a:stretch/>
        </p:blipFill>
        <p:spPr>
          <a:xfrm>
            <a:off x="1000080" y="2657520"/>
            <a:ext cx="2060640" cy="555480"/>
          </a:xfrm>
          <a:prstGeom prst="rect">
            <a:avLst/>
          </a:prstGeom>
          <a:ln w="0">
            <a:noFill/>
          </a:ln>
        </p:spPr>
      </p:pic>
      <p:pic>
        <p:nvPicPr>
          <p:cNvPr id="560" name="Прямоугольник 13" descr=""/>
          <p:cNvPicPr/>
          <p:nvPr/>
        </p:nvPicPr>
        <p:blipFill>
          <a:blip r:embed="rId6"/>
          <a:stretch/>
        </p:blipFill>
        <p:spPr>
          <a:xfrm>
            <a:off x="1000080" y="3492360"/>
            <a:ext cx="2444760" cy="635040"/>
          </a:xfrm>
          <a:prstGeom prst="rect">
            <a:avLst/>
          </a:prstGeom>
          <a:ln w="0">
            <a:noFill/>
          </a:ln>
        </p:spPr>
      </p:pic>
      <p:sp>
        <p:nvSpPr>
          <p:cNvPr id="561" name="WordArt 7"/>
          <p:cNvSpPr txBox="1"/>
          <p:nvPr/>
        </p:nvSpPr>
        <p:spPr>
          <a:xfrm>
            <a:off x="3886200" y="1676520"/>
            <a:ext cx="4419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2" name="Picture 5" descr="i?id=106853756-01"/>
          <p:cNvPicPr/>
          <p:nvPr/>
        </p:nvPicPr>
        <p:blipFill>
          <a:blip r:embed="rId7"/>
          <a:stretch/>
        </p:blipFill>
        <p:spPr>
          <a:xfrm>
            <a:off x="3718080" y="2406600"/>
            <a:ext cx="1098360" cy="1098720"/>
          </a:xfrm>
          <a:prstGeom prst="rect">
            <a:avLst/>
          </a:prstGeom>
          <a:ln w="0">
            <a:noFill/>
          </a:ln>
        </p:spPr>
      </p:pic>
      <p:sp>
        <p:nvSpPr>
          <p:cNvPr id="563" name="Управляющая кнопка: возврат 17">
            <a:hlinkClick r:id="rId8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Прямоугольник 9" descr=""/>
          <p:cNvPicPr/>
          <p:nvPr/>
        </p:nvPicPr>
        <p:blipFill>
          <a:blip r:embed="rId2"/>
          <a:stretch/>
        </p:blipFill>
        <p:spPr>
          <a:xfrm>
            <a:off x="542880" y="1133640"/>
            <a:ext cx="2901960" cy="939600"/>
          </a:xfrm>
          <a:prstGeom prst="rect">
            <a:avLst/>
          </a:prstGeom>
          <a:ln w="0">
            <a:noFill/>
          </a:ln>
        </p:spPr>
      </p:pic>
      <p:pic>
        <p:nvPicPr>
          <p:cNvPr id="565" name="Прямоугольник 7" descr=""/>
          <p:cNvPicPr/>
          <p:nvPr/>
        </p:nvPicPr>
        <p:blipFill>
          <a:blip r:embed="rId3"/>
          <a:stretch/>
        </p:blipFill>
        <p:spPr>
          <a:xfrm>
            <a:off x="542880" y="2273400"/>
            <a:ext cx="2749680" cy="787320"/>
          </a:xfrm>
          <a:prstGeom prst="rect">
            <a:avLst/>
          </a:prstGeom>
          <a:ln w="0">
            <a:noFill/>
          </a:ln>
        </p:spPr>
      </p:pic>
      <p:pic>
        <p:nvPicPr>
          <p:cNvPr id="566" name="Прямоугольник 6" descr=""/>
          <p:cNvPicPr/>
          <p:nvPr/>
        </p:nvPicPr>
        <p:blipFill>
          <a:blip r:embed="rId4"/>
          <a:stretch/>
        </p:blipFill>
        <p:spPr>
          <a:xfrm>
            <a:off x="542880" y="3340080"/>
            <a:ext cx="2901960" cy="866880"/>
          </a:xfrm>
          <a:prstGeom prst="rect">
            <a:avLst/>
          </a:prstGeom>
          <a:ln w="0">
            <a:noFill/>
          </a:ln>
        </p:spPr>
      </p:pic>
      <p:pic>
        <p:nvPicPr>
          <p:cNvPr id="567" name="Rectangle 3" descr=""/>
          <p:cNvPicPr/>
          <p:nvPr/>
        </p:nvPicPr>
        <p:blipFill>
          <a:blip r:embed="rId5"/>
          <a:stretch/>
        </p:blipFill>
        <p:spPr>
          <a:xfrm>
            <a:off x="298440" y="146160"/>
            <a:ext cx="8852040" cy="115884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3" descr=""/>
          <p:cNvPicPr/>
          <p:nvPr/>
        </p:nvPicPr>
        <p:blipFill>
          <a:blip r:embed="rId6"/>
          <a:stretch/>
        </p:blipFill>
        <p:spPr>
          <a:xfrm>
            <a:off x="609480" y="4648320"/>
            <a:ext cx="2743200" cy="1888920"/>
          </a:xfrm>
          <a:prstGeom prst="rect">
            <a:avLst/>
          </a:prstGeom>
          <a:ln w="0">
            <a:noFill/>
          </a:ln>
        </p:spPr>
      </p:pic>
      <p:sp>
        <p:nvSpPr>
          <p:cNvPr id="569" name="WordArt 7"/>
          <p:cNvSpPr txBox="1"/>
          <p:nvPr/>
        </p:nvSpPr>
        <p:spPr>
          <a:xfrm>
            <a:off x="4092480" y="116352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0" name="Picture 5" descr="i?id=106853756-01"/>
          <p:cNvPicPr/>
          <p:nvPr/>
        </p:nvPicPr>
        <p:blipFill>
          <a:blip r:embed="rId7"/>
          <a:stretch/>
        </p:blipFill>
        <p:spPr>
          <a:xfrm>
            <a:off x="5394240" y="3103560"/>
            <a:ext cx="1206720" cy="1206360"/>
          </a:xfrm>
          <a:prstGeom prst="rect">
            <a:avLst/>
          </a:prstGeom>
          <a:ln w="0">
            <a:noFill/>
          </a:ln>
        </p:spPr>
      </p:pic>
      <p:sp>
        <p:nvSpPr>
          <p:cNvPr id="571" name="WordArt 6"/>
          <p:cNvSpPr txBox="1"/>
          <p:nvPr/>
        </p:nvSpPr>
        <p:spPr>
          <a:xfrm>
            <a:off x="4419720" y="2259000"/>
            <a:ext cx="36576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Управляющая кнопка: возврат 10">
            <a:hlinkClick r:id="rId8" action="ppaction://hlinksldjump"/>
          </p:cNvPr>
          <p:cNvSpPr/>
          <p:nvPr/>
        </p:nvSpPr>
        <p:spPr>
          <a:xfrm>
            <a:off x="6934320" y="61722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2"/>
          <a:stretch/>
        </p:blipFill>
        <p:spPr>
          <a:xfrm>
            <a:off x="328680" y="420840"/>
            <a:ext cx="8364600" cy="3852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http://4.bp.blogspot.com/-vC2KbcuGL3g/Twekm16-YkI/AAAAAAAAAoA/bXXuBAq1V9I/s1600/gran+guerra+patria+urss+antifascista.jpg"/>
          <p:cNvPicPr/>
          <p:nvPr/>
        </p:nvPicPr>
        <p:blipFill>
          <a:blip r:embed="rId3"/>
          <a:stretch/>
        </p:blipFill>
        <p:spPr>
          <a:xfrm>
            <a:off x="6553080" y="3071880"/>
            <a:ext cx="2362320" cy="3289320"/>
          </a:xfrm>
          <a:prstGeom prst="rect">
            <a:avLst/>
          </a:prstGeom>
          <a:ln w="0">
            <a:noFill/>
          </a:ln>
        </p:spPr>
      </p:pic>
      <p:pic>
        <p:nvPicPr>
          <p:cNvPr id="575" name="Прямоугольник 3" descr=""/>
          <p:cNvPicPr/>
          <p:nvPr/>
        </p:nvPicPr>
        <p:blipFill>
          <a:blip r:embed="rId4"/>
          <a:stretch/>
        </p:blipFill>
        <p:spPr>
          <a:xfrm>
            <a:off x="390600" y="1968480"/>
            <a:ext cx="3432240" cy="561960"/>
          </a:xfrm>
          <a:prstGeom prst="rect">
            <a:avLst/>
          </a:prstGeom>
          <a:ln w="0">
            <a:noFill/>
          </a:ln>
        </p:spPr>
      </p:pic>
      <p:pic>
        <p:nvPicPr>
          <p:cNvPr id="576" name="Прямоугольник 4" descr=""/>
          <p:cNvPicPr/>
          <p:nvPr/>
        </p:nvPicPr>
        <p:blipFill>
          <a:blip r:embed="rId5"/>
          <a:stretch/>
        </p:blipFill>
        <p:spPr>
          <a:xfrm>
            <a:off x="317520" y="2882880"/>
            <a:ext cx="3962520" cy="635040"/>
          </a:xfrm>
          <a:prstGeom prst="rect">
            <a:avLst/>
          </a:prstGeom>
          <a:ln w="0">
            <a:noFill/>
          </a:ln>
        </p:spPr>
      </p:pic>
      <p:pic>
        <p:nvPicPr>
          <p:cNvPr id="577" name="Прямоугольник 5" descr=""/>
          <p:cNvPicPr/>
          <p:nvPr/>
        </p:nvPicPr>
        <p:blipFill>
          <a:blip r:embed="rId6"/>
          <a:stretch/>
        </p:blipFill>
        <p:spPr>
          <a:xfrm>
            <a:off x="390600" y="3876840"/>
            <a:ext cx="3359160" cy="555480"/>
          </a:xfrm>
          <a:prstGeom prst="rect">
            <a:avLst/>
          </a:prstGeom>
          <a:ln w="0">
            <a:noFill/>
          </a:ln>
        </p:spPr>
      </p:pic>
      <p:sp>
        <p:nvSpPr>
          <p:cNvPr id="578" name="WordArt 7"/>
          <p:cNvSpPr txBox="1"/>
          <p:nvPr/>
        </p:nvSpPr>
        <p:spPr>
          <a:xfrm>
            <a:off x="4952880" y="182880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WordArt 6"/>
          <p:cNvSpPr txBox="1"/>
          <p:nvPr/>
        </p:nvSpPr>
        <p:spPr>
          <a:xfrm>
            <a:off x="1486080" y="45720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0" name="Picture 5" descr="i?id=106853756-01"/>
          <p:cNvPicPr/>
          <p:nvPr/>
        </p:nvPicPr>
        <p:blipFill>
          <a:blip r:embed="rId7"/>
          <a:stretch/>
        </p:blipFill>
        <p:spPr>
          <a:xfrm>
            <a:off x="4991040" y="278136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81" name="Управляющая кнопка: возврат 10">
            <a:hlinkClick r:id="rId8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176040" y="365040"/>
            <a:ext cx="8364600" cy="340200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1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706840" cy="2057400"/>
          </a:xfrm>
          <a:prstGeom prst="rect">
            <a:avLst/>
          </a:prstGeom>
          <a:ln w="0">
            <a:noFill/>
          </a:ln>
        </p:spPr>
      </p:pic>
      <p:pic>
        <p:nvPicPr>
          <p:cNvPr id="584" name="Прямоугольник 3" descr=""/>
          <p:cNvPicPr/>
          <p:nvPr/>
        </p:nvPicPr>
        <p:blipFill>
          <a:blip r:embed="rId3"/>
          <a:stretch/>
        </p:blipFill>
        <p:spPr>
          <a:xfrm>
            <a:off x="469800" y="2048040"/>
            <a:ext cx="2517840" cy="787320"/>
          </a:xfrm>
          <a:prstGeom prst="rect">
            <a:avLst/>
          </a:prstGeom>
          <a:ln w="0">
            <a:noFill/>
          </a:ln>
        </p:spPr>
      </p:pic>
      <p:pic>
        <p:nvPicPr>
          <p:cNvPr id="585" name="Прямоугольник 4" descr=""/>
          <p:cNvPicPr/>
          <p:nvPr/>
        </p:nvPicPr>
        <p:blipFill>
          <a:blip r:embed="rId4"/>
          <a:stretch/>
        </p:blipFill>
        <p:spPr>
          <a:xfrm>
            <a:off x="469800" y="3114720"/>
            <a:ext cx="2517840" cy="708120"/>
          </a:xfrm>
          <a:prstGeom prst="rect">
            <a:avLst/>
          </a:prstGeom>
          <a:ln w="0">
            <a:noFill/>
          </a:ln>
        </p:spPr>
      </p:pic>
      <p:pic>
        <p:nvPicPr>
          <p:cNvPr id="586" name="Прямоугольник 5" descr=""/>
          <p:cNvPicPr/>
          <p:nvPr/>
        </p:nvPicPr>
        <p:blipFill>
          <a:blip r:embed="rId5"/>
          <a:stretch/>
        </p:blipFill>
        <p:spPr>
          <a:xfrm>
            <a:off x="390600" y="4181400"/>
            <a:ext cx="3206520" cy="708120"/>
          </a:xfrm>
          <a:prstGeom prst="rect">
            <a:avLst/>
          </a:prstGeom>
          <a:ln w="0">
            <a:noFill/>
          </a:ln>
        </p:spPr>
      </p:pic>
      <p:sp>
        <p:nvSpPr>
          <p:cNvPr id="587" name="WordArt 7"/>
          <p:cNvSpPr txBox="1"/>
          <p:nvPr/>
        </p:nvSpPr>
        <p:spPr>
          <a:xfrm>
            <a:off x="1812960" y="48769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8" name="Picture 5" descr="i?id=106853756-01"/>
          <p:cNvPicPr/>
          <p:nvPr/>
        </p:nvPicPr>
        <p:blipFill>
          <a:blip r:embed="rId6"/>
          <a:stretch/>
        </p:blipFill>
        <p:spPr>
          <a:xfrm>
            <a:off x="3222720" y="290520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589" name="WordArt 6"/>
          <p:cNvSpPr txBox="1"/>
          <p:nvPr/>
        </p:nvSpPr>
        <p:spPr>
          <a:xfrm>
            <a:off x="3581280" y="20574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Управляющая кнопка: возврат 9">
            <a:hlinkClick r:id="rId7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у принадлежат строки известного всем стихотворения «Жди меня, и я вернусь. Только очень жди»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621036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Рисунок 1" descr=""/>
          <p:cNvPicPr/>
          <p:nvPr/>
        </p:nvPicPr>
        <p:blipFill>
          <a:blip r:embed="rId1"/>
          <a:stretch/>
        </p:blipFill>
        <p:spPr>
          <a:xfrm>
            <a:off x="5410080" y="4159080"/>
            <a:ext cx="3657600" cy="2241720"/>
          </a:xfrm>
          <a:prstGeom prst="rect">
            <a:avLst/>
          </a:prstGeom>
          <a:ln w="0">
            <a:noFill/>
          </a:ln>
        </p:spPr>
      </p:pic>
      <p:pic>
        <p:nvPicPr>
          <p:cNvPr id="594" name="Прямоугольник 4" descr=""/>
          <p:cNvPicPr/>
          <p:nvPr/>
        </p:nvPicPr>
        <p:blipFill>
          <a:blip r:embed="rId2"/>
          <a:stretch/>
        </p:blipFill>
        <p:spPr>
          <a:xfrm>
            <a:off x="165240" y="2425680"/>
            <a:ext cx="2438280" cy="635040"/>
          </a:xfrm>
          <a:prstGeom prst="rect">
            <a:avLst/>
          </a:prstGeom>
          <a:ln w="0">
            <a:noFill/>
          </a:ln>
        </p:spPr>
      </p:pic>
      <p:pic>
        <p:nvPicPr>
          <p:cNvPr id="595" name="Прямоугольник 5" descr=""/>
          <p:cNvPicPr/>
          <p:nvPr/>
        </p:nvPicPr>
        <p:blipFill>
          <a:blip r:embed="rId3"/>
          <a:stretch/>
        </p:blipFill>
        <p:spPr>
          <a:xfrm>
            <a:off x="165240" y="3187800"/>
            <a:ext cx="243828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Прямоугольник 6" descr=""/>
          <p:cNvPicPr/>
          <p:nvPr/>
        </p:nvPicPr>
        <p:blipFill>
          <a:blip r:embed="rId4"/>
          <a:stretch/>
        </p:blipFill>
        <p:spPr>
          <a:xfrm>
            <a:off x="165240" y="402912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597" name="WordArt 7"/>
          <p:cNvSpPr txBox="1"/>
          <p:nvPr/>
        </p:nvSpPr>
        <p:spPr>
          <a:xfrm>
            <a:off x="2971800" y="2158920"/>
            <a:ext cx="38098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WordArt 6"/>
          <p:cNvSpPr txBox="1"/>
          <p:nvPr/>
        </p:nvSpPr>
        <p:spPr>
          <a:xfrm>
            <a:off x="3295800" y="3125880"/>
            <a:ext cx="365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9" name="Picture 5" descr="i?id=106853756-01"/>
          <p:cNvPicPr/>
          <p:nvPr/>
        </p:nvPicPr>
        <p:blipFill>
          <a:blip r:embed="rId5"/>
          <a:stretch/>
        </p:blipFill>
        <p:spPr>
          <a:xfrm>
            <a:off x="3295800" y="3809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00" name="Управляющая кнопка: возврат 10">
            <a:hlinkClick r:id="rId6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b"/>
            </a:gs>
            <a:gs pos="100000">
              <a:srgbClr val="baba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Rectangle 2" descr=""/>
          <p:cNvPicPr/>
          <p:nvPr/>
        </p:nvPicPr>
        <p:blipFill>
          <a:blip r:embed="rId1"/>
          <a:stretch/>
        </p:blipFill>
        <p:spPr>
          <a:xfrm>
            <a:off x="360360" y="371520"/>
            <a:ext cx="8332920" cy="347508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1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603" name="Прямоугольник 3" descr=""/>
          <p:cNvPicPr/>
          <p:nvPr/>
        </p:nvPicPr>
        <p:blipFill>
          <a:blip r:embed="rId3"/>
          <a:stretch/>
        </p:blipFill>
        <p:spPr>
          <a:xfrm>
            <a:off x="542880" y="2657520"/>
            <a:ext cx="2597040" cy="635040"/>
          </a:xfrm>
          <a:prstGeom prst="rect">
            <a:avLst/>
          </a:prstGeom>
          <a:ln w="0">
            <a:noFill/>
          </a:ln>
        </p:spPr>
      </p:pic>
      <p:pic>
        <p:nvPicPr>
          <p:cNvPr id="604" name="Прямоугольник 4" descr=""/>
          <p:cNvPicPr/>
          <p:nvPr/>
        </p:nvPicPr>
        <p:blipFill>
          <a:blip r:embed="rId4"/>
          <a:stretch/>
        </p:blipFill>
        <p:spPr>
          <a:xfrm>
            <a:off x="542880" y="3571920"/>
            <a:ext cx="2444760" cy="635040"/>
          </a:xfrm>
          <a:prstGeom prst="rect">
            <a:avLst/>
          </a:prstGeom>
          <a:ln w="0">
            <a:noFill/>
          </a:ln>
        </p:spPr>
      </p:pic>
      <p:pic>
        <p:nvPicPr>
          <p:cNvPr id="605" name="Прямоугольник 5" descr=""/>
          <p:cNvPicPr/>
          <p:nvPr/>
        </p:nvPicPr>
        <p:blipFill>
          <a:blip r:embed="rId5"/>
          <a:stretch/>
        </p:blipFill>
        <p:spPr>
          <a:xfrm>
            <a:off x="542880" y="4486320"/>
            <a:ext cx="2822760" cy="635040"/>
          </a:xfrm>
          <a:prstGeom prst="rect">
            <a:avLst/>
          </a:prstGeom>
          <a:ln w="0">
            <a:noFill/>
          </a:ln>
        </p:spPr>
      </p:pic>
      <p:sp>
        <p:nvSpPr>
          <p:cNvPr id="606" name="WordArt 7"/>
          <p:cNvSpPr txBox="1"/>
          <p:nvPr/>
        </p:nvSpPr>
        <p:spPr>
          <a:xfrm>
            <a:off x="3598920" y="4356000"/>
            <a:ext cx="38098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7" name="WordArt 6"/>
          <p:cNvSpPr txBox="1"/>
          <p:nvPr/>
        </p:nvSpPr>
        <p:spPr>
          <a:xfrm>
            <a:off x="3505320" y="346716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8" name="Picture 5" descr="i?id=106853756-01"/>
          <p:cNvPicPr/>
          <p:nvPr/>
        </p:nvPicPr>
        <p:blipFill>
          <a:blip r:embed="rId6"/>
          <a:stretch/>
        </p:blipFill>
        <p:spPr>
          <a:xfrm>
            <a:off x="3543480" y="243036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609" name="Управляющая кнопка: возврат 9">
            <a:hlinkClick r:id="rId7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7980480" cy="320040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 1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2342880" cy="1874880"/>
          </a:xfrm>
          <a:prstGeom prst="rect">
            <a:avLst/>
          </a:prstGeom>
          <a:ln w="0">
            <a:noFill/>
          </a:ln>
        </p:spPr>
      </p:pic>
      <p:pic>
        <p:nvPicPr>
          <p:cNvPr id="612" name="Прямоугольник 3" descr=""/>
          <p:cNvPicPr/>
          <p:nvPr/>
        </p:nvPicPr>
        <p:blipFill>
          <a:blip r:embed="rId3"/>
          <a:stretch/>
        </p:blipFill>
        <p:spPr>
          <a:xfrm>
            <a:off x="695160" y="2809800"/>
            <a:ext cx="3737160" cy="635040"/>
          </a:xfrm>
          <a:prstGeom prst="rect">
            <a:avLst/>
          </a:prstGeom>
          <a:ln w="0">
            <a:noFill/>
          </a:ln>
        </p:spPr>
      </p:pic>
      <p:pic>
        <p:nvPicPr>
          <p:cNvPr id="613" name="Прямоугольник 4" descr=""/>
          <p:cNvPicPr/>
          <p:nvPr/>
        </p:nvPicPr>
        <p:blipFill>
          <a:blip r:embed="rId4"/>
          <a:stretch/>
        </p:blipFill>
        <p:spPr>
          <a:xfrm>
            <a:off x="695160" y="3571920"/>
            <a:ext cx="2749680" cy="635040"/>
          </a:xfrm>
          <a:prstGeom prst="rect">
            <a:avLst/>
          </a:prstGeom>
          <a:ln w="0">
            <a:noFill/>
          </a:ln>
        </p:spPr>
      </p:pic>
      <p:sp>
        <p:nvSpPr>
          <p:cNvPr id="614" name="WordArt 7"/>
          <p:cNvSpPr txBox="1"/>
          <p:nvPr/>
        </p:nvSpPr>
        <p:spPr>
          <a:xfrm>
            <a:off x="5029200" y="27432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РАВИ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5" name="WordArt 6"/>
          <p:cNvSpPr txBox="1"/>
          <p:nvPr/>
        </p:nvSpPr>
        <p:spPr>
          <a:xfrm>
            <a:off x="3753000" y="3675240"/>
            <a:ext cx="30477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6" name="Управляющая кнопка: возврат 7">
            <a:hlinkClick r:id="rId5" action="ppaction://hlinksldjump"/>
          </p:cNvPr>
          <p:cNvSpPr/>
          <p:nvPr/>
        </p:nvSpPr>
        <p:spPr>
          <a:xfrm>
            <a:off x="7162920" y="64008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538" h="21600">
                <a:moveTo>
                  <a:pt x="39762" y="7493"/>
                </a:moveTo>
                <a:lnTo>
                  <a:pt x="43270" y="7493"/>
                </a:lnTo>
                <a:lnTo>
                  <a:pt x="43270" y="12828"/>
                </a:lnTo>
                <a:cubicBezTo>
                  <a:pt x="43270" y="13751"/>
                  <a:pt x="44071" y="14482"/>
                  <a:pt x="45106" y="14482"/>
                </a:cubicBezTo>
                <a:lnTo>
                  <a:pt x="46769" y="14482"/>
                </a:lnTo>
                <a:cubicBezTo>
                  <a:pt x="47805" y="14482"/>
                  <a:pt x="48605" y="13751"/>
                  <a:pt x="48605" y="12828"/>
                </a:cubicBezTo>
                <a:lnTo>
                  <a:pt x="48605" y="7493"/>
                </a:lnTo>
                <a:lnTo>
                  <a:pt x="46769" y="7493"/>
                </a:lnTo>
                <a:lnTo>
                  <a:pt x="50276" y="3985"/>
                </a:lnTo>
                <a:lnTo>
                  <a:pt x="53949" y="7493"/>
                </a:lnTo>
                <a:lnTo>
                  <a:pt x="52113" y="7493"/>
                </a:lnTo>
                <a:lnTo>
                  <a:pt x="52113" y="12828"/>
                </a:lnTo>
                <a:cubicBezTo>
                  <a:pt x="52113" y="15596"/>
                  <a:pt x="49537" y="18155"/>
                  <a:pt x="46769" y="18155"/>
                </a:cubicBezTo>
                <a:lnTo>
                  <a:pt x="45106" y="18155"/>
                </a:lnTo>
                <a:cubicBezTo>
                  <a:pt x="42339" y="18155"/>
                  <a:pt x="39762" y="15596"/>
                  <a:pt x="39762" y="12828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7:16:36Z</dcterms:created>
  <dc:creator>Admin</dc:creator>
  <dc:description/>
  <dc:language>en-US</dc:language>
  <cp:lastModifiedBy>user</cp:lastModifiedBy>
  <dcterms:modified xsi:type="dcterms:W3CDTF">2019-10-07T02:55:48Z</dcterms:modified>
  <cp:revision>72</cp:revision>
  <dc:subject/>
  <dc:title>Слайд 1</dc:title>
</cp:coreProperties>
</file>