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0D3-691D-4AA3-8559-5FE4EE7F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19B-2D1F-47F1-B508-51C6B344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19B-2BDF-40EA-980A-DB3A8743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279-86FA-4301-BCBD-290AD20D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FBA-2CF6-40DB-BABA-E32BFD58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D7B-5E28-46B5-BD6D-21314D76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24A-CADE-4AEA-8487-4D88642B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E64-246E-4A03-84B6-CB030C99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9B6-1A0A-443A-ADAD-DF3374FE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12F-8FCB-46C6-B7BB-CDCFC55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281-6A36-488B-9F42-6CDBBB7A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FD7-8109-441A-A1D5-DB4F746E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0EE3-DEB0-4926-8FE0-52513FFA2F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Герои российской космонавт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468360" y="1479600"/>
            <a:ext cx="83073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сле полёта Гагарин совершил мировое турне, собирая немереные, восторженные, визжавшие толпы не хуже звёзд рок-н-ролла. Юрий Гагарин ездил в Великобританию в Лондоне его встречали как героя. Английская королева, забыв про традиции, сфотографировалась с ним на память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239818640"/>
          <p:cNvPicPr/>
          <p:nvPr/>
        </p:nvPicPr>
        <p:blipFill>
          <a:blip r:embed="rId1"/>
          <a:stretch/>
        </p:blipFill>
        <p:spPr>
          <a:xfrm>
            <a:off x="1187280" y="2546280"/>
            <a:ext cx="70390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C:\Users\Юлия\Desktop\LIU_Yang_CUHK_2012.JPG"/>
          <p:cNvPicPr/>
          <p:nvPr/>
        </p:nvPicPr>
        <p:blipFill>
          <a:blip r:embed="rId1"/>
          <a:stretch/>
        </p:blipFill>
        <p:spPr>
          <a:xfrm>
            <a:off x="6372360" y="3141720"/>
            <a:ext cx="2376360" cy="316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Юлия\Desktop\Samantha_Cristoforetti_official_portrait1.jpg"/>
          <p:cNvPicPr/>
          <p:nvPr/>
        </p:nvPicPr>
        <p:blipFill>
          <a:blip r:embed="rId2"/>
          <a:stretch/>
        </p:blipFill>
        <p:spPr>
          <a:xfrm>
            <a:off x="4500720" y="3978360"/>
            <a:ext cx="230328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Первой женщиной-космонавтом ста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Салли Райд – астронавт С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2) Валентина Терешкова – космонавт ССС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3) Саманта Кристфоретти – астронавт Итал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4) Лю Ян – космонавт Кит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Юлия\Desktop\sallyride.jpg"/>
          <p:cNvPicPr/>
          <p:nvPr/>
        </p:nvPicPr>
        <p:blipFill>
          <a:blip r:embed="rId3"/>
          <a:stretch/>
        </p:blipFill>
        <p:spPr>
          <a:xfrm>
            <a:off x="324000" y="3757680"/>
            <a:ext cx="2477880" cy="31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Юлия\Desktop\терешкова 3.jpg"/>
          <p:cNvPicPr/>
          <p:nvPr/>
        </p:nvPicPr>
        <p:blipFill>
          <a:blip r:embed="rId4"/>
          <a:stretch/>
        </p:blipFill>
        <p:spPr>
          <a:xfrm>
            <a:off x="2627280" y="3141720"/>
            <a:ext cx="21607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ая женщина-космонавт Валентина Терешков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ершила полет в космос 16 июня 1963 года на корабле «Восток-6». Кроме того, Терешкова — единственная женщина, совершившая одиночный полет, все остальные летали только в составе экипаже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Tereshkova-Valentina-Vladimirovna"/>
          <p:cNvPicPr/>
          <p:nvPr/>
        </p:nvPicPr>
        <p:blipFill>
          <a:blip r:embed="rId1"/>
          <a:stretch/>
        </p:blipFill>
        <p:spPr>
          <a:xfrm>
            <a:off x="2306520" y="22986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Алексей Леонов — первый человек, который вышел в открытый космос 18 марта 1965 года. Продолжительность первого выхода составила 23 минуты, из которых вне корабля космонавт пробыл 12 мину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13"/>
          <p:cNvPicPr/>
          <p:nvPr/>
        </p:nvPicPr>
        <p:blipFill>
          <a:blip r:embed="rId1"/>
          <a:stretch/>
        </p:blipFill>
        <p:spPr>
          <a:xfrm>
            <a:off x="971640" y="2079720"/>
            <a:ext cx="71676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ексей Леонов рассказывал: «Картина космической бездны, которую я увидел, своей необъятностью и ослепительным сиянием звезд просто поразила и очаровала меня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thumb_544_event_big"/>
          <p:cNvPicPr/>
          <p:nvPr/>
        </p:nvPicPr>
        <p:blipFill>
          <a:blip r:embed="rId1"/>
          <a:stretch/>
        </p:blipFill>
        <p:spPr>
          <a:xfrm>
            <a:off x="1332000" y="2408400"/>
            <a:ext cx="64688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-360" y="259920"/>
            <a:ext cx="4716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мым молодым космонавтом является Герман Титов, на момент полета ему было 25 лет. Кроме того, Титов также является первым человеком, совершившим длительный (более суток) космический полет. Полет длительностью 1 день 1 час космонавт совершил с 6 на 7 августа 1961 год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titovgerman_1m"/>
          <p:cNvPicPr/>
          <p:nvPr/>
        </p:nvPicPr>
        <p:blipFill>
          <a:blip r:embed="rId1"/>
          <a:stretch/>
        </p:blipFill>
        <p:spPr>
          <a:xfrm>
            <a:off x="4826160" y="765000"/>
            <a:ext cx="43178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гей Крикалев - абсолютный лидер планеты по суммарному времени пребывания в космосе. Сергей провел за пределами планеты 803 дня. За первые две вылазки с Земли космонавт пробыл на орбитальной станции «Мир» больше года, произведя за этот период 7 выходов в открытый космос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uzn_14961526942"/>
          <p:cNvPicPr/>
          <p:nvPr/>
        </p:nvPicPr>
        <p:blipFill>
          <a:blip r:embed="rId1"/>
          <a:stretch/>
        </p:blipFill>
        <p:spPr>
          <a:xfrm>
            <a:off x="1538280" y="3081240"/>
            <a:ext cx="62946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 1994–1995 Валерий Поляков совершил самый длительный однократный полет в космос, время которого составило 437 суток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На счету Полякова всего две космических одиссеи, но его суммарное время пребывания в безвоздушном пространстве составляет 678 суток 16 часов и 34 минуты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uzn_14961527483"/>
          <p:cNvPicPr/>
          <p:nvPr/>
        </p:nvPicPr>
        <p:blipFill>
          <a:blip r:embed="rId1"/>
          <a:stretch/>
        </p:blipFill>
        <p:spPr>
          <a:xfrm>
            <a:off x="1187280" y="2735280"/>
            <a:ext cx="69962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0160" y="259920"/>
            <a:ext cx="4475160" cy="66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3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евраля 1997 года космонавты Валерий Корзун, Александр Калери, Василий Циблиев и Александр Лазуткин, работавшие на космической станции «Мир» оказались в экстремальной ситуации – на станции возник пожар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uzn_14961526942"/>
          <p:cNvPicPr/>
          <p:nvPr/>
        </p:nvPicPr>
        <p:blipFill>
          <a:blip r:embed="rId1"/>
          <a:stretch/>
        </p:blipFill>
        <p:spPr>
          <a:xfrm>
            <a:off x="4584600" y="11160"/>
            <a:ext cx="45594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оссийская орбитальная станция "Мир" была выведена на орбиту 20 февраля 1986 году и 15 лет была единственной в мире пилотируемой космической лабораторией для долговременных научно-технических экспериментов и исследования человеческого организма в космосе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247045"/>
          <p:cNvPicPr/>
          <p:nvPr/>
        </p:nvPicPr>
        <p:blipFill>
          <a:blip r:embed="rId1"/>
          <a:stretch/>
        </p:blipFill>
        <p:spPr>
          <a:xfrm>
            <a:off x="1042920" y="1484280"/>
            <a:ext cx="7162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навтика – это наука и технология космических полетов. В конце XIX и начале XX века появились первые научные работы, в которых было теоретически обосновано использование многоступенчатых ракет для космических полетов, применение жидкостных ракетных  двигателей, изучались вопросы перегрузок и невесомости на человека. Это были научные труды русского ученого Константина Циолковского, немецкого ученого Германа Оберта, американского ученого Роберта Годдарда. Циолковский в своей книге под названием «Вне Земли» предложил проект ракеты, предназначенной для полета человека в космо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Юлия\Desktop\ciolkovsky_5.jpg"/>
          <p:cNvPicPr/>
          <p:nvPr/>
        </p:nvPicPr>
        <p:blipFill>
          <a:blip r:embed="rId1"/>
          <a:stretch/>
        </p:blipFill>
        <p:spPr>
          <a:xfrm>
            <a:off x="1403280" y="2979720"/>
            <a:ext cx="3240000" cy="387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Юлия\Desktop\циолковский.jpg"/>
          <p:cNvPicPr/>
          <p:nvPr/>
        </p:nvPicPr>
        <p:blipFill>
          <a:blip r:embed="rId2"/>
          <a:stretch/>
        </p:blipFill>
        <p:spPr>
          <a:xfrm>
            <a:off x="5508720" y="3429000"/>
            <a:ext cx="27399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первые 6 июня 1971 г. на борт научной орбитальной станции  космическим кораблем «Союз-11» был доставлен экипаж. Экипаж состоял из трех космонавтов Георгия Добровольского, Владислава Волкова  и Виктора Пацае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Добровольский"/>
          <p:cNvPicPr/>
          <p:nvPr/>
        </p:nvPicPr>
        <p:blipFill>
          <a:blip r:embed="rId1"/>
          <a:stretch/>
        </p:blipFill>
        <p:spPr>
          <a:xfrm>
            <a:off x="684360" y="3284640"/>
            <a:ext cx="2011320" cy="287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Volkov_vn"/>
          <p:cNvPicPr/>
          <p:nvPr/>
        </p:nvPicPr>
        <p:blipFill>
          <a:blip r:embed="rId2"/>
          <a:stretch/>
        </p:blipFill>
        <p:spPr>
          <a:xfrm>
            <a:off x="3492360" y="3824280"/>
            <a:ext cx="2276640" cy="3033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patsayev_viktor"/>
          <p:cNvPicPr/>
          <p:nvPr/>
        </p:nvPicPr>
        <p:blipFill>
          <a:blip r:embed="rId3"/>
          <a:stretch/>
        </p:blipFill>
        <p:spPr>
          <a:xfrm>
            <a:off x="6300720" y="3141720"/>
            <a:ext cx="20620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Юлия\Desktop\9_9de65f72.jpg"/>
          <p:cNvPicPr/>
          <p:nvPr/>
        </p:nvPicPr>
        <p:blipFill>
          <a:blip r:embed="rId1"/>
          <a:stretch/>
        </p:blipFill>
        <p:spPr>
          <a:xfrm>
            <a:off x="1951200" y="3141720"/>
            <a:ext cx="5572080" cy="3716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250920" y="536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идент России Владимир Путин, выступая на церемонии вручения государственных наград в Кремле, заявил: «Мы гордимся нашим отрядом космонавтов, его профессионализмом, огромным вкладом в освоение околоземного пространств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икторин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назывался космический корабль, на котором летал Юрий Гагари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Имена собак, благополучно вернувшихся на Землю после космического поле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Первый космонавт, совершивший выход в открытый космо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Самый молодой космонав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) Имя космонавта, который провел в космосе 803 д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) Как называлась первая орбитальная станция, ставшая космической лаборатори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2" descr="926442266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4"/>
          <p:cNvSpPr/>
          <p:nvPr/>
        </p:nvSpPr>
        <p:spPr>
          <a:xfrm>
            <a:off x="395280" y="582840"/>
            <a:ext cx="87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последний закруглен виток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хорошо сойти на Землю сно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окунуться после всех тревог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живую красоту всего земного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лактика в свеченье звездных трасс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м на нее глядеть, не наглядетьс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, поднимаясь в небо, всякий раз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ей Земле мы оставляем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Запуск первого искусственного спутника Земли был осуществлен под руководством выдающегося советского конструктора Сергея Королева 4 октября 1957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Юлия\Desktop\foto.koroleva..mal..jpg"/>
          <p:cNvPicPr/>
          <p:nvPr/>
        </p:nvPicPr>
        <p:blipFill>
          <a:blip r:embed="rId1"/>
          <a:stretch/>
        </p:blipFill>
        <p:spPr>
          <a:xfrm>
            <a:off x="684360" y="2421000"/>
            <a:ext cx="3035160" cy="404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Юлия\Desktop\спутник.jpg"/>
          <p:cNvPicPr/>
          <p:nvPr/>
        </p:nvPicPr>
        <p:blipFill>
          <a:blip r:embed="rId2"/>
          <a:stretch/>
        </p:blipFill>
        <p:spPr>
          <a:xfrm>
            <a:off x="3924360" y="2997360"/>
            <a:ext cx="46814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Международный день космонавтики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отмечают 12 апреля, потому что в этот ден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1) родился Константин Циолковски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2) родился первый космонавт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3) совершен первый полет человека в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космос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4) построена первая раке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5) был запущен первый искусственный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254061"/>
                </a:solidFill>
                <a:latin typeface="Calibri"/>
              </a:rPr>
              <a:t>спутник Зем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Юлия\Desktop\космос.jpg"/>
          <p:cNvPicPr/>
          <p:nvPr/>
        </p:nvPicPr>
        <p:blipFill>
          <a:blip r:embed="rId1"/>
          <a:stretch/>
        </p:blipFill>
        <p:spPr>
          <a:xfrm>
            <a:off x="2268360" y="4211640"/>
            <a:ext cx="3970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Первыми живыми существами,                   совершившими космический полет бы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73360"/>
            <a:ext cx="40384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9640" indent="-514440">
              <a:buClr>
                <a:srgbClr val="10253f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мух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2) соба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773360"/>
            <a:ext cx="40384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3) пт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4) ко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Юлия\Desktop\мухи.jpg"/>
          <p:cNvPicPr/>
          <p:nvPr/>
        </p:nvPicPr>
        <p:blipFill>
          <a:blip r:embed="rId1"/>
          <a:stretch/>
        </p:blipFill>
        <p:spPr>
          <a:xfrm>
            <a:off x="900000" y="242100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Юлия\Desktop\собаки.jpg"/>
          <p:cNvPicPr/>
          <p:nvPr/>
        </p:nvPicPr>
        <p:blipFill>
          <a:blip r:embed="rId2"/>
          <a:stretch/>
        </p:blipFill>
        <p:spPr>
          <a:xfrm>
            <a:off x="900000" y="4748040"/>
            <a:ext cx="2592360" cy="1938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Юлия\Desktop\птицы.jpg"/>
          <p:cNvPicPr/>
          <p:nvPr/>
        </p:nvPicPr>
        <p:blipFill>
          <a:blip r:embed="rId3"/>
          <a:stretch/>
        </p:blipFill>
        <p:spPr>
          <a:xfrm>
            <a:off x="5219640" y="2373480"/>
            <a:ext cx="2622600" cy="1747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Юлия\Desktop\кошки.jpg"/>
          <p:cNvPicPr/>
          <p:nvPr/>
        </p:nvPicPr>
        <p:blipFill>
          <a:blip r:embed="rId4"/>
          <a:stretch/>
        </p:blipFill>
        <p:spPr>
          <a:xfrm>
            <a:off x="5076720" y="4869000"/>
            <a:ext cx="2943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сле запуска первого искусственного спутника перед учеными встала задача – вывести на орбиту живых существ. Сергей Павлович Королев получил задание натренировать собак для 24-часового эксперимента с последующим возвращением. Белка и Стрелка совершили полет в космос 19 августа 1960 года. Он оказался успешным и сыграл большую роль в научных исследованиях того време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Users\Юлия\Desktop\белка и стрелка 2.jpg"/>
          <p:cNvPicPr/>
          <p:nvPr/>
        </p:nvPicPr>
        <p:blipFill>
          <a:blip r:embed="rId1"/>
          <a:stretch/>
        </p:blipFill>
        <p:spPr>
          <a:xfrm>
            <a:off x="2124000" y="2997360"/>
            <a:ext cx="48164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Users\Юлия\Desktop\Ливэй.jpg"/>
          <p:cNvPicPr/>
          <p:nvPr/>
        </p:nvPicPr>
        <p:blipFill>
          <a:blip r:embed="rId1"/>
          <a:stretch/>
        </p:blipFill>
        <p:spPr>
          <a:xfrm>
            <a:off x="6372360" y="3905280"/>
            <a:ext cx="2447640" cy="295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первые в мире совершил орбитальный облёт планеты Зем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1) Алан Шепард – контр-адмирал американских военно-морских сил, американский астронав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2) Георгий Иванов -подполковник-инженер; первый космонавт Народной Республики Болгар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3) Юрий Гагарин – летчик-космонавт ССС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4) Ян Ливэй – первый космонавт КН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Юлия\Desktop\алан шепард.jpg"/>
          <p:cNvPicPr/>
          <p:nvPr/>
        </p:nvPicPr>
        <p:blipFill>
          <a:blip r:embed="rId2"/>
          <a:stretch/>
        </p:blipFill>
        <p:spPr>
          <a:xfrm>
            <a:off x="324000" y="3357720"/>
            <a:ext cx="247464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Юлия\Desktop\Georgi_ivanov.jpg"/>
          <p:cNvPicPr/>
          <p:nvPr/>
        </p:nvPicPr>
        <p:blipFill>
          <a:blip r:embed="rId3"/>
          <a:stretch/>
        </p:blipFill>
        <p:spPr>
          <a:xfrm>
            <a:off x="2411280" y="3913200"/>
            <a:ext cx="1944720" cy="29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Юлия\Desktop\гагарин 2.jpg"/>
          <p:cNvPicPr/>
          <p:nvPr/>
        </p:nvPicPr>
        <p:blipFill>
          <a:blip r:embed="rId4"/>
          <a:stretch/>
        </p:blipFill>
        <p:spPr>
          <a:xfrm>
            <a:off x="4356000" y="3357720"/>
            <a:ext cx="21718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12 апреля 1961 года на борту космического корабля «Восток-1» в космос отправился первый человек - советский космонавт Юрий Алексеевич Гагарин. 27-летний летчик-испытатель стал первым человеком, который облетел вокруг планеты за 89 минут на максимальной высоте 300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гагарин"/>
          <p:cNvPicPr/>
          <p:nvPr/>
        </p:nvPicPr>
        <p:blipFill>
          <a:blip r:embed="rId1"/>
          <a:stretch/>
        </p:blipFill>
        <p:spPr>
          <a:xfrm>
            <a:off x="1619280" y="2060640"/>
            <a:ext cx="6364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35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полёта — проверить возможность пребывания человека в космосе на специально оборудованном корабле, проверить оборудование корабля в полёте, проверить связь корабля с Землёй, убедиться в надёжности средств приземления корабля и космонав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ывной Ю.Гагарина был «Кедр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gag1"/>
          <p:cNvPicPr/>
          <p:nvPr/>
        </p:nvPicPr>
        <p:blipFill>
          <a:blip r:embed="rId1"/>
          <a:stretch/>
        </p:blipFill>
        <p:spPr>
          <a:xfrm>
            <a:off x="3708360" y="0"/>
            <a:ext cx="48308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9T04:36:31Z</dcterms:created>
  <dc:creator>Admin</dc:creator>
  <dc:description/>
  <dc:language>en-US</dc:language>
  <cp:lastModifiedBy>Бухонина</cp:lastModifiedBy>
  <dcterms:modified xsi:type="dcterms:W3CDTF">2018-12-16T18:47:46Z</dcterms:modified>
  <cp:revision>98</cp:revision>
  <dc:subject/>
  <dc:title>12 апреля – Международный день космонавтики</dc:title>
</cp:coreProperties>
</file>