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5E6-2E72-4988-AD51-8F5D3593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7C2-91A2-402A-90DA-2A88875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01C-6A9B-4C84-BA99-874EE928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278-3557-4996-AA8E-2B314032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E749-6F18-4A12-B6F9-51601A07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795-8522-4A9E-84B4-0BB66546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3A1-6E89-40BE-B813-67986CE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A834-239B-488A-86C1-BC6AC8B5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FA82-8503-4328-A6DD-1F2F0560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E3D9-5DE5-464A-9D2C-1480BE0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70D-519C-4D17-86D4-CC41A18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0BC-161D-4B50-9B1D-AE1F9D49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31AF-9FA6-4D64-932A-7239250C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1283-6A44-428B-B3C4-C39A2B22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4CA9-A915-4952-A2FE-DE35C3F3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028C-C7BF-43C2-B3F9-E833F375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737-E117-4195-BB24-610F9EC7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15C-2559-4324-9804-251AB5D1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9DE-339B-43F4-BDCB-5E72B27E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5A3-7FF1-4245-A6AA-1F9F8B1F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BD2-7A91-4125-BB2B-15B27EE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230-9EF1-40F0-A6D1-B5EEFCA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FF5-E7BA-4A06-97B0-83721940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E1C-AD55-47C0-9D7C-3AFA9990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6480 w 9142560"/>
                <a:gd name="textAreaRight" fmla="*/ 8146080 w 9142560"/>
                <a:gd name="textAreaTop" fmla="*/ 41400 h 380880"/>
                <a:gd name="textAreaBottom" fmla="*/ 339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1014480 w 9142560"/>
                <a:gd name="textAreaRight" fmla="*/ 8128080 w 9142560"/>
                <a:gd name="textAreaTop" fmla="*/ 59040 h 532080"/>
                <a:gd name="textAreaBottom" fmla="*/ 4730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35" y="21600"/>
                  </a:lnTo>
                  <a:lnTo>
                    <a:pt x="116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8698-780C-40BD-B16A-EBDC5CFC9094}" type="slidenum"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6480 w 9142560"/>
                <a:gd name="textAreaRight" fmla="*/ 8146080 w 9142560"/>
                <a:gd name="textAreaTop" fmla="*/ 41400 h 380880"/>
                <a:gd name="textAreaBottom" fmla="*/ 3394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999360 w 9142560"/>
                <a:gd name="textAreaRight" fmla="*/ 8143200 w 9142560"/>
                <a:gd name="textAreaTop" fmla="*/ 57960 h 532080"/>
                <a:gd name="textAreaBottom" fmla="*/ 47412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2559-9DCE-40F0-8E6E-24ED6394EE5B}" type="slidenum">
              <a:rPr b="0" i="1" lang="en-US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ВОЗНИКНОВЕНИЕ ИСКУССТВА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И РЕЛИГИИ 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47960" y="914040"/>
            <a:ext cx="4343400" cy="579132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е времена у людей за-родилась вера в оборо тней, в чудесные свой-ства отдельных пред-мет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и стали обожеств-лять явления приро-д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умея объяснить при-роду появления снов, древний человек стал верить в существова-ние душ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4.ВОЗНИКНОВЕНИЕ РЕЛИГИИ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09480" y="1523880"/>
            <a:ext cx="3810240" cy="41148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4648320" y="2209680"/>
            <a:ext cx="4343400" cy="320040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ах перед природны -ми стихиями,невозмож ность объяснить явле-ния окружающего ми-ра привели к возник-новению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елигиозных представлени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305920" cy="327672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 первобытных времен до нас дошли огромные сооружения называемые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егалитам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много камней).Самым знаменитым из них является комплекс Стоунхендж в Англ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евние строители построили сооружение из со-рока каменных плит весом в десятки тонн каж да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05120" y="839880"/>
          <a:ext cx="5410080" cy="25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39880"/>
                    <a:ext cx="5410080" cy="251280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5.ДРЕВНИЕ КАМЕННЫЕ СООРУЖЕНИЯ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5.ДРЕВНИЕ КАМЕННЫЕ СООРУЖЕНИЯ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305920" cy="327672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 загадкой Стоунхенджа ученые бьются нес-колько десятилети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одной из версий комплекс является астроно-мическим календарем, поскольку многие пли-ты ориентированы на наиболее важные звез-ды,а через проходы в ключевые дни года вид-ны Солнце, Луна и звезд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05120" y="838080"/>
          <a:ext cx="5029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38080"/>
                    <a:ext cx="5029200" cy="251460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4572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ыберите правильный ответ-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520" y="1130400"/>
            <a:ext cx="3179880" cy="7038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 Cyr"/>
              </a:rPr>
              <a:t>Древних людей живших 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 Cyr"/>
              </a:rPr>
              <a:t>Южной Африке назвали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280" y="2523960"/>
            <a:ext cx="3817800" cy="7038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 Cyr"/>
              </a:rPr>
              <a:t>Сначала древние люди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 Cyr"/>
              </a:rPr>
              <a:t>жили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360" y="4014720"/>
            <a:ext cx="3140280" cy="7038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 Cyr"/>
              </a:rPr>
              <a:t>Основным занятием дре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 Cyr"/>
              </a:rPr>
              <a:t>них людей было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2280" y="5457960"/>
            <a:ext cx="31402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 Cyr"/>
              </a:rPr>
              <a:t>Первый огонь древние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 Cyr"/>
              </a:rPr>
              <a:t>люди получили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609480"/>
            <a:ext cx="350496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питекантроп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1109520"/>
            <a:ext cx="350496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Homo habil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1608120"/>
            <a:ext cx="350496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австралопитек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2106720"/>
            <a:ext cx="350496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на деревья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604960"/>
            <a:ext cx="350496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в пещера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3103560"/>
            <a:ext cx="350496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в шалаша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3603600"/>
            <a:ext cx="350496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 Cyr"/>
              </a:rPr>
              <a:t>собиратель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4102200"/>
            <a:ext cx="350496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 Cyr"/>
              </a:rPr>
              <a:t>охо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600440"/>
            <a:ext cx="350496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 Cyr"/>
              </a:rPr>
              <a:t>изготовление оруд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099040"/>
            <a:ext cx="350496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ударяя камн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5597640"/>
            <a:ext cx="350496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трением палоче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095880"/>
            <a:ext cx="350496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от лесных пожар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4572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Выберите правильный ответ-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82520"/>
            <a:ext cx="3817800" cy="7038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 Cyr"/>
              </a:rPr>
              <a:t>Появление новых оруди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 Cyr"/>
              </a:rPr>
              <a:t>труда было связано с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23960"/>
            <a:ext cx="3817800" cy="7038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 Cyr"/>
              </a:rPr>
              <a:t>Древние люди охотились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 Cyr"/>
              </a:rPr>
              <a:t>на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6040" y="4014720"/>
            <a:ext cx="3026160" cy="7038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 Cyr"/>
              </a:rPr>
              <a:t>Появление лука и стрел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 Cyr"/>
              </a:rPr>
              <a:t>было связано с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120" y="5457960"/>
            <a:ext cx="3096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 Cyr"/>
              </a:rPr>
              <a:t>В родовой общине люди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 Cyr"/>
              </a:rPr>
              <a:t>были связаны..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609480"/>
            <a:ext cx="373392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Похолодание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1109520"/>
            <a:ext cx="373392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С развитием охот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608120"/>
            <a:ext cx="3733920" cy="45972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 Cyr"/>
              </a:rPr>
              <a:t>С освоением Сев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2106720"/>
            <a:ext cx="37339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Зайцев и белок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604960"/>
            <a:ext cx="37339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Стада коз и олене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103560"/>
            <a:ext cx="3733920" cy="45972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Крупного звер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3603600"/>
            <a:ext cx="373392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 Cyr"/>
              </a:rPr>
              <a:t>Развитием челове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102200"/>
            <a:ext cx="373392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 Cyr"/>
              </a:rPr>
              <a:t>Вымиранием мамонт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4600440"/>
            <a:ext cx="373392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 Cyr"/>
              </a:rPr>
              <a:t>Переселением в лес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5099040"/>
            <a:ext cx="37339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Местом прожив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5597640"/>
            <a:ext cx="37339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Общим дел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6095880"/>
            <a:ext cx="3733920" cy="459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 Cyr"/>
              </a:rPr>
              <a:t>Родственными узам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ВОЗНИКНОВЕНИЕ ИСКУССТВА </a:t>
            </a:r>
            <a:br>
              <a:rPr sz="4400"/>
            </a:br>
            <a:r>
              <a:rPr b="1" i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И РЕЛИГИИ 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1.ОТКРЫТИЕ ПЕЩЕРНОЙ ЖИВО-ПИС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.ЗАГАДКИ ДРЕВНИХ РИСУНКО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3.РИСУНОК И МАГИЧЕСКИЙ РИ-ТУАЛ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4.ВОЗНИКНОВЕНИЕ РЕЛИГ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5.ДРЕВНИЕ КАМЕННЫЕ СООРУ-Ж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2133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Чем было вызвано появление искусства и религии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371600" y="762120"/>
          <a:ext cx="64771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6477120" cy="297180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396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1.ОТКРЫТИЕ ПЕЩЕРНОЙ ЖИВОПИСИ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305920" cy="304812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878 г. в Испании археолог Саутола и его дочь отправились в пещеру Альтамира.Когда Сауто ла зажег факел, они увидели картины нарисо-ванные на стенах и своде пещер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днее были открыты и др.пещеры с рисунка-ми древних художник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" dur="1" fill="hold"/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981080" y="838080"/>
          <a:ext cx="525780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38080"/>
                    <a:ext cx="5257800" cy="266868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3505320"/>
            <a:ext cx="8458200" cy="312408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изображений легко узнаются бизоны и оле-ни,медведи и носорог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рисунки были сделаны с удивительным мас-терством-хотя не обошлось и без курьезов-встре чались изображения животных с большим коли чеством ног-так художники пытались передать движ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2396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1.ОТКРЫТИЕ ПЕЩЕРНОЙ ЖИВОПИСИ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.ЗАГАДКИ ДРЕВНИХ РИСУНКОВ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67080" y="990360"/>
            <a:ext cx="4648320" cy="563868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ногие рисунки содержат загадки- непонятные знаки и предметы,люди с птичьи-ми головами, или в одеянии похожем на  скафандр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самое главное-мы не можем понять почему сцены изображающие охоту были нарисованы в труднодоступных, тем-ных пещера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028880"/>
          <a:ext cx="3871800" cy="55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28880"/>
                    <a:ext cx="3871800" cy="556236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7960" y="990360"/>
            <a:ext cx="4343400" cy="5715000"/>
          </a:xfrm>
          <a:prstGeom prst="rect">
            <a:avLst/>
          </a:prstGeom>
          <a:solidFill>
            <a:srgbClr val="ffcc66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ть версия, что рисун-ки носили магический характер-если изобра-зить зверя в пещере-он обязательно попадет в ловушк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о, что перед ри-сунками разыгрыва-лись ритуальные обря ды-охотники как бы отрабатывали ход бу-дущей охоты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280" y="1028880"/>
          <a:ext cx="441972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28880"/>
                    <a:ext cx="4419720" cy="5638680"/>
                  </a:xfrm>
                  <a:prstGeom prst="rect">
                    <a:avLst/>
                  </a:prstGeom>
                  <a:ln w="7632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solidFill>
            <a:srgbClr val="ccffcc"/>
          </a:solidFill>
          <a:ln w="76320">
            <a:solidFill>
              <a:srgbClr val="ff99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3.РИСУНОК И МАГИЧЕСКИЙ РИТУАЛ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08:56:42Z</dcterms:created>
  <dc:creator>ЧЕРНОВ АЛЕКСЕЙ</dc:creator>
  <dc:description/>
  <dc:language>en-US</dc:language>
  <cp:lastModifiedBy>Чернов Алексей</cp:lastModifiedBy>
  <dcterms:modified xsi:type="dcterms:W3CDTF">2002-03-18T07:44:39Z</dcterms:modified>
  <cp:revision>28</cp:revision>
  <dc:subject/>
  <dc:title>ДРЕВНЕЙШИЕ ЛЮДИ</dc:title>
</cp:coreProperties>
</file>