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3E2-E9B1-45B4-8025-7FD156D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E5F-0DE7-4E97-99AF-C0F491C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666-76EB-40FF-9030-09174E34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A7E-5F22-4277-9AA2-A5F7FDB0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920-A831-4ECC-87E0-D554278B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485-59C3-4882-ADC3-04C6879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EE3-37ED-4DBB-A9AE-3DD41117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328-D8FB-41B5-BDF5-C230E5B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641-1955-4D3E-B09E-91E59EEF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86B-DCC7-416F-BB8A-3AA500C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E7B-03CA-4C9D-AB1D-464952B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428-FB62-41C0-8949-E2D4276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0C7E-2733-482B-9FA5-D341DA3B7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547640" y="1143000"/>
            <a:ext cx="787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Monotype Corsiva"/>
                <a:ea typeface="Gautami"/>
              </a:rPr>
              <a:t>Внедрение ФГОС Д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143080" y="2286000"/>
            <a:ext cx="535788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 МОУ Детском саду № 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Тракторозаводского района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Подготовил: Фисковец О.В., старший воспитатель МОУ Д/с № 2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нформационное обеспечение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1. Организация доступа педагогов к электронным образовательным ресурсам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Результаты анкет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Информационное пространство МР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Размещение на сайте ДОО информации о введении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2. Информирование педагогов по вопросам введения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лан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Отчет работы рабоч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Результаты мониторин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Оформление информационного сте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одбор методической литературы и рекоменд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нформационное обеспечение</a:t>
            </a:r>
            <a:br>
              <a:rPr sz="3200"/>
            </a:b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3. Информирование родителей (законных представителей) воспитанников и всех заинтересованных лиц, вовлеченных в образовательную деятельность, а так же широкой общественности о переходе на ФГОС ДО  (сайт ДОО, буклеты, информационные стенды, родительские собрания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( январь 2014-декабрь 20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Информационное пространство ДО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ечатная -продук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ротоколы родительских собр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убличный отчет руковод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Размещение информации на сайте Д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7933c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Monotype Corsiva"/>
                <a:ea typeface="Gautami"/>
              </a:rPr>
              <a:t>Внедрение ФГОС Д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1.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Kartika"/>
              </a:rPr>
              <a:t> Нормативно-правовое</a:t>
            </a: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 и организационное обеспечение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2.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Kartika"/>
              </a:rPr>
              <a:t> Кадровое и методическое обеспечение</a:t>
            </a: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3.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Kartika"/>
              </a:rPr>
              <a:t> Финансово-экономическое и материально-техническое обеспечение </a:t>
            </a: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Kartika"/>
              </a:rPr>
              <a:t>4. Информационное обеспечение</a:t>
            </a:r>
            <a:br>
              <a:rPr sz="3200"/>
            </a:br>
            <a:r>
              <a:rPr b="1" i="1" lang="ru-RU" sz="3200" spc="-1" strike="noStrike">
                <a:solidFill>
                  <a:srgbClr val="00b0f0"/>
                </a:solidFill>
                <a:latin typeface="Monotype Corsiva"/>
                <a:ea typeface="Kartika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ормативно-правовое</a:t>
            </a: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и организационное обеспечение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3640" y="1413000"/>
            <a:ext cx="833436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1.Подготовка и создание приказов, регламентирующих переход на ФГОС ДО, доведение нормативных документов до сведения всех заинтересованных лиц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(январь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Протокол заседания педагогического совета, на котором                   принято решение о внедрении ФГОС Д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Приказ об ознакомлении с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Протоколы методических совещ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2. Внесение изменений в документы, регламентирующие деятельность ДОО ( январь-май 201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Внесение изменений в программу развития, локальные акты, устав Д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ормативно-правовое</a:t>
            </a: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и организационное обеспечение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3.Приведение должностных инструкций работников ДОО в соответствие с ФГОС ДО (май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4. Создание рабочей группы педагогов по внедрению ФГОС ДО ( февраль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риказ о создании рабоч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оложение о рабочей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риказ об утверждении по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лан работы рабоч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5.Разработка и утверждение плана-графика («Дорожной карты») действий по обеспечению внедрения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(февра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лан-график, приказ об утверждении плана-граф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ормативно-правовое</a:t>
            </a: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и организационное обеспечение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6.Мониторинг реализации ФГОС ДО, образовательных потребностей и затруднений педагогов ДОО в связи с введением ФГОС ДО (сентябрь2014, январь 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мониторинг, внесение изменений в план курсовой подгот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7. Анализ соответствия материально-технической базы подготовки педагогов ( март 2014, январь 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дровое и методическое обеспечение</a:t>
            </a: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1. Поэтапная подготовка педагогических кадров к переходу на ФГОС ДО (до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План курсовой подгот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Удостоверения курсов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2.Разработка и утверждение ООП ДО в соответствии с требованиями ФГОС ДО и с учетом примерных образовательных программ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(Февраль-август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ротоколы заседаний рабочей групп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рограмма ООП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риказ об утверждении ООП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дровое и методическое обеспечение</a:t>
            </a: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3. Моделирование организации образовательного процесса, обеспечивающее организацию предметно-пространственной развивающей образовательной среды, характер взаимодействия воспитанников со взрослыми и другими детьми, систему отношений ребенка к миру, другим людям, к самому себе (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Модель образовательного процесса ДОО соответствии с         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4. Планирование оснащения образовательного пространства содержательно-насыщенными средствами (в том числе техническими) и материалами обучения и воспитания в соответствии с ФГОС ДО(  февраль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лан ресурсного обеспечения на уровне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дровое и методическое обеспечение</a:t>
            </a:r>
            <a:r>
              <a:rPr b="0" lang="ru-RU" sz="3200" spc="-1" strike="noStrike">
                <a:solidFill>
                  <a:srgbClr val="00b0f0"/>
                </a:solidFill>
                <a:latin typeface="Monotype Corsiva"/>
                <a:ea typeface="Gautami"/>
              </a:rPr>
              <a:t> реализации ФГОС 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5. Повышение профессиональной компетентности педагогов по вопросам внедрения ФГОС ДО (цикл семинаров, консультаций и др. форм методической работы) ( январь2014 – декабрь 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План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Протоколы мероприятий Методические материа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Результаты анализа анкетирования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6. Методическое сопровождение ДОО введения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( январь2014 – декабрь 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лан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Протоколы мероприя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libri"/>
              </a:rPr>
              <a:t>- 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5272200" y="5545080"/>
            <a:ext cx="2397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нансово-экономическое и материально-техническое обеспечение </a:t>
            </a:r>
            <a:r>
              <a:rPr b="0" lang="ru-RU" sz="2800" spc="-1" strike="noStrike">
                <a:solidFill>
                  <a:srgbClr val="00b0f0"/>
                </a:solidFill>
                <a:latin typeface="Monotype Corsiva"/>
                <a:ea typeface="Gautami"/>
              </a:rPr>
              <a:t>реализации ФГОС 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7. Определение необходимых средств обучения и воспитания (в том числе технических), материалов (в том числе расходных) в соответствии с основными видами детской деятельности и требованиями ФГОС 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( январь-февраль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8. Оснащение образовательного пространства средствами обучения и воспитания (в том числе технических), материалов (в том числе расходных) в соответствии с основными видами детской деятельности и требованиями ФГОС ДО ( март- декабрь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7:13:14Z</dcterms:created>
  <dc:creator>Марина</dc:creator>
  <dc:description/>
  <dc:language>en-US</dc:language>
  <cp:lastModifiedBy>Детский сад 257</cp:lastModifiedBy>
  <dcterms:modified xsi:type="dcterms:W3CDTF">2019-08-27T13:28:52Z</dcterms:modified>
  <cp:revision>24</cp:revision>
  <dc:subject/>
  <dc:title>Слайд 1</dc:title>
</cp:coreProperties>
</file>