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7C9D-62A1-4F1C-A8DB-712AF8E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776B-2E01-4371-A486-BC3376B4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CA5-8612-4BA1-8219-7922013F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1DA-A331-4A3F-9E67-78709305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05D5E-819E-4226-B298-E12867F0F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F697B-57BE-4F3E-8F10-69870E9F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77909-42F3-4EC3-9A64-1B807E98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18EE7-0496-4F96-B0BF-9473E7CC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43D7DA-872D-4E1F-A5B1-2E68BC6D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FAB27-B288-46AB-B14C-1CED3DDD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7AFD7-2511-4A4B-B2F7-37DE3026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2B5F-D79E-40B1-89AC-F000DDD5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0CD97-8A76-40E9-8C4C-5CF54394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B872C-22D8-4D24-88FA-08222127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A5FD3-ED17-4A25-B905-FACF153D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24199-2A02-44CF-B208-7A65951F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D3EEE-E318-40D5-A0BB-DC30D0BB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49EF-C217-40C9-B602-D0CEEF76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3469-91D9-47A2-BA92-FB19581B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B09-1AF8-495D-84F0-EA52666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A2B-A8AF-4914-9280-05E4C6EB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729-2EC3-4B0C-9DEE-D844405B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F21-C540-48EB-971A-597C15F0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0CB1-4538-4477-914E-40633083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1A03-7C70-4262-8A6D-433CD7B61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E5E0-6287-4EAC-B31F-9C8644507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3887640" cy="6048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93236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нятие  о неоромантизме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овое в образе героя, конфликте, сти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5084640"/>
            <a:ext cx="6440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(по рассказу М.Горького «Макар Чудра»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15920"/>
          <a:ext cx="8785440" cy="6481440"/>
        </p:xfrm>
        <a:graphic>
          <a:graphicData uri="http://schemas.openxmlformats.org/drawingml/2006/table">
            <a:tbl>
              <a:tblPr/>
              <a:tblGrid>
                <a:gridCol w="3456000"/>
                <a:gridCol w="2400480"/>
                <a:gridCol w="2928960"/>
              </a:tblGrid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)Романтизм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о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Основной конфликт –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) Романтический герой  –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) Авторы и герои изученных романтических произведений -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) Романтическая среда 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686800" cy="460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Эссе-ответ на вопро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озможен  ли  друг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ариант  развязк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в легенде?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( Да. - Какой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Нет.- Почему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392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40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15920"/>
          <a:ext cx="8785440" cy="6654600"/>
        </p:xfrm>
        <a:graphic>
          <a:graphicData uri="http://schemas.openxmlformats.org/drawingml/2006/table">
            <a:tbl>
              <a:tblPr/>
              <a:tblGrid>
                <a:gridCol w="3529080"/>
                <a:gridCol w="2327400"/>
                <a:gridCol w="292896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ХОЧУ    УЗН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ЗНА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мантизм –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о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 Основной конфликт –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омантический герой  –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Авторы и герои изученных романтических произведений - 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)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Романтическая среда 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291600"/>
            <a:ext cx="878544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Владислав Ходасевич о Горьком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«Ему нравилось только всё то, что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украшает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действительность или просто к ней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прибавляет то, чего в ней нет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Он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любил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всех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людей творческого склада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, всех,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кто вносит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в мир нечто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новое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…Сюда же примыкала его живая любовь к людям,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нарушающим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или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стремящимся нарушить заведённый в мире скучный порядок…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Ему нравились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новые  люди –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те, кто вносит в мир элемент бунта или хоть озорства…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9280" y="291960"/>
            <a:ext cx="4284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Макар Чуд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32000" y="1905120"/>
            <a:ext cx="3887640" cy="454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ahoma"/>
              </a:rPr>
              <a:t>Реч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как средство характеристики романтического геро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ализируем монолог Макара Чуд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438156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6720" y="115560"/>
            <a:ext cx="36100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Радд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52920" cy="6335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03640" y="1196640"/>
            <a:ext cx="3889440" cy="53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Художественные средств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как способ  характеристики романтического геро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 помощью каких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художественных средств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автор подчёркивает романтический характер цыган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Ассоциативность -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56944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риём связывания элементов художественного текс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сюжетных эпизодов, предметных деталей, образов персонажей, их мыслей, переживаний)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на основе их сходства, смежности или контраста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ём требует от читателя развитой интуиции, чтоб без подсказки догадаться о глав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</a:rPr>
              <a:t>ОксЮморон -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четание противоположных по смыслу понятий в одном художественном образе, явл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27280" y="291960"/>
            <a:ext cx="4259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Лойко Зобар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1334" t="4991" r="49717" b="17467"/>
          <a:stretch/>
        </p:blipFill>
        <p:spPr>
          <a:xfrm>
            <a:off x="395280" y="404640"/>
            <a:ext cx="3816360" cy="604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72000" y="2060640"/>
            <a:ext cx="3959280" cy="25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кие качества характера героя подчёркивают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етали его портрета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291600"/>
            <a:ext cx="37083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Определите конфли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5183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9T08:50:19Z</dcterms:created>
  <dc:creator>User</dc:creator>
  <dc:description/>
  <dc:language>en-US</dc:language>
  <cp:lastModifiedBy>Пользователь</cp:lastModifiedBy>
  <dcterms:modified xsi:type="dcterms:W3CDTF">2019-07-22T19:54:53Z</dcterms:modified>
  <cp:revision>28</cp:revision>
  <dc:subject/>
  <dc:title>«Неоромантизм 20 века. Герои - неоромантики в первом рассказе М.Горького «Макар Чудра».</dc:title>
</cp:coreProperties>
</file>