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C24-328D-442B-871E-8A0F0D47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484-C1E3-491E-B88C-D6F73372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F88-6B06-4EAB-A1AB-8504060A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933-30D2-47AB-971C-C02B4858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AFE2-32EE-4EBA-A17E-B33379B4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6FBF-CDDB-49C0-B11E-ADD494B5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9BD3-131B-4800-8A4C-9DD590B1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A3D0-B4F4-4F18-88CE-286BAFC4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0D30-9EB1-4D2D-890E-86E53663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345D-3C1B-42F1-AFDC-A93B8480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7E41-D91E-450B-BD10-3C780FC8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DDA-327F-4839-81BC-00F9D259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F767-7ED3-4E35-9226-7968A7AA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15F3-8D4E-4A78-9C73-479CA170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E7E9-8D0E-4D0D-8EF4-18F35AE5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E1BD-9971-4626-8A19-EF99EDC7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6A90-639F-4513-B7D7-7DFA0B16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AB3-2AAE-48BB-BC25-5318956B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472-9510-4FD3-B82F-9AA1C2F4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6A2-114D-4CAC-80A8-CEBB6206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37F-9870-4415-B75C-9617CCA4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E6F-6F83-4D7A-81E3-C0BC1112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9DA-A628-44B3-B15E-CAF2429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6A4-2D6B-4AD3-8322-411A46CD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7EA0-03E1-46EF-AF9F-091B1825D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62C6-41FC-4664-8816-3F8B852095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«</a:t>
            </a:r>
            <a:r>
              <a:rPr b="1" lang="ru-RU" sz="4000" spc="-1" strike="noStrike">
                <a:solidFill>
                  <a:srgbClr val="990000"/>
                </a:solidFill>
                <a:latin typeface="Arial Black"/>
              </a:rPr>
              <a:t>Название картины и имя  художника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»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(Разработка 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       теста для 10 класса по теме: «Художественная культура </a:t>
            </a: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XVII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века: многоголосие стилей»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Составитель: учитель музыки и МХК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       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Фадеева М. Г. МБОУ «Школа № 105»        г. Нижний Новгород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Задание №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Фландр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71280"/>
            <a:ext cx="9753840" cy="7000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9753840" cy="700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-324000" y="0"/>
            <a:ext cx="975384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4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лючи к слайдам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Фландр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Питер Пауль Рубенс. Персей и Андроме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Антонис ван Дейк. Автопортр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Якоб Йорданс. Боовый коро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Франс Снейдерс. Натюрморт с дич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13:27:00Z</dcterms:created>
  <dc:creator>Фадеева</dc:creator>
  <dc:description/>
  <dc:language>en-US</dc:language>
  <cp:lastModifiedBy>Фадеева</cp:lastModifiedBy>
  <dcterms:modified xsi:type="dcterms:W3CDTF">2018-11-23T18:56:09Z</dcterms:modified>
  <cp:revision>6</cp:revision>
  <dc:subject/>
  <dc:title>Слайд 1</dc:title>
</cp:coreProperties>
</file>