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476-4A65-4EEA-8276-75D65A80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128-00DF-4369-B9FC-6368084F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D41-A2C5-46C0-A6BC-908B3CF2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BBB-44EE-4D91-A696-599169E2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D03F-272D-4B8B-9F40-D7B73589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1F92-A176-4663-A473-F48C2CDA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178A-980C-4572-932D-A1C119D8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0199-6B8C-4B17-8533-EE2140EA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03FB-DD4A-4CF7-A34E-5CBDD460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D030-2B40-431F-ABE4-E5B7B3A6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2886-8C13-4261-A0FD-96AD7591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D92-3DDA-4BFE-ABDD-4F668576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142F-7976-45C8-A93D-64BA7E04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7C13-7AE1-4A14-936C-C13BE55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580D-B1CE-4E2E-BA04-DD190F7C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5C11-CEF7-481D-8F02-366AEAAF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DE54-DBFF-4321-A7FD-2898E8A0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8F3-5A2D-48B6-A09E-38F6B371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934-3DD8-4C4A-9CDD-23B6E51B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600-B7CE-4620-93FF-92C5C08E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D32-16A6-4C7A-B09D-5A2D507E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8A5-AC2A-4952-A6BD-0A36C79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CBB-B6DD-4C28-9577-28F15F2D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29A-0806-45D0-9EAA-F338E622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F9DB-B51D-46B1-A7F6-CCFA0884F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F2C7-8388-4EB5-99C0-239F25959F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«</a:t>
            </a:r>
            <a:r>
              <a:rPr b="1" lang="ru-RU" sz="4000" spc="-1" strike="noStrike">
                <a:solidFill>
                  <a:srgbClr val="990000"/>
                </a:solidFill>
                <a:latin typeface="Arial Black"/>
              </a:rPr>
              <a:t>Название картины и имя  художника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»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(Разработка 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       теста для 10 класса по теме: «Художественная культура </a:t>
            </a: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XVII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века: многоголосие стилей»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Составитель: учитель музыки и МХК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       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Фадеева М. Г. МБОУ «Школа № 105»        г. Нижний Новгород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Задание №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Голланд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104760"/>
            <a:ext cx="975384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892800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374240" cy="77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лючи к слайдам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Голла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Франс Хальс .Регентши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Франс Хальс. Цыга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 Ян Вермер Дельфский. Девушка читающая письм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.Рембрандт. Ночной доз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. Рембрандт. Возвращение блудного сы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13:27:00Z</dcterms:created>
  <dc:creator>Фадеева</dc:creator>
  <dc:description/>
  <dc:language>en-US</dc:language>
  <cp:lastModifiedBy>Фадеева</cp:lastModifiedBy>
  <dcterms:modified xsi:type="dcterms:W3CDTF">2018-11-23T19:00:08Z</dcterms:modified>
  <cp:revision>8</cp:revision>
  <dc:subject/>
  <dc:title>Слайд 1</dc:title>
</cp:coreProperties>
</file>