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C94-5A22-405F-A7C7-117958B3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1A3-4851-4212-87F5-49634DAB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AED-9F4D-4353-963B-D36F9072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BEF-75B3-4E51-B6E1-F8DF5DFF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6761-540B-46BA-8441-61B33D88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CDE-D4EE-429E-AED9-0814FFD8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CD17-9523-435D-99EA-7CED8505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6633-23FA-4A8E-8B32-A8911E6A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2548-DB39-4BB6-B656-88D21F25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8956-165D-40A7-9537-4826C8DD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252C-1842-48A9-80C0-9D4F4C11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9C9-1B53-4401-8E17-F0A8F5F8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3A35-3E3D-411C-AA9D-84424E8B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083C-0900-47DE-AE33-DD6B6FA6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3131-FEE0-4483-A5D1-2AD2070F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B8F7-B193-4915-B0F7-171CCBDC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F634-84B1-4CE4-AE01-0E278641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A52-BB4C-4DE6-BE90-5B66C7CA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474-3727-43D1-A745-F9D8D6D6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D1B-CB1E-4088-BCDC-3B7E8EF3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95B-3AD2-49D3-AE36-97C8C223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325-4E36-49DF-AF2E-11EBB57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505-74A8-4D62-B118-0E41263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BBC-D3C3-4435-B65A-7E247A0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FD43-B8C1-4580-96E3-F8A40916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2A62-F148-4782-A79A-ECE3F9D19F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«</a:t>
            </a:r>
            <a:r>
              <a:rPr b="1" lang="ru-RU" sz="4000" spc="-1" strike="noStrike">
                <a:solidFill>
                  <a:srgbClr val="990000"/>
                </a:solidFill>
                <a:latin typeface="Arial Black"/>
              </a:rPr>
              <a:t>Название картины и имя  художника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»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(Разработка 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       теста для 10 класса по теме: «Художественная культура 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XVII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века: многоголосие стилей»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Составитель: учитель музыки и МХК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       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Фадеева М. Г. МБОУ «Школа № 105»        г. Нижний Новгород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Задание №1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ИСПАНИЯ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Эль Греко Апостолы Петр и Павел"/>
          <p:cNvPicPr/>
          <p:nvPr/>
        </p:nvPicPr>
        <p:blipFill>
          <a:blip r:embed="rId1"/>
          <a:stretch/>
        </p:blipFill>
        <p:spPr>
          <a:xfrm>
            <a:off x="1763640" y="0"/>
            <a:ext cx="590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рансиско Сурборан Отрочество Марии"/>
          <p:cNvPicPr/>
          <p:nvPr/>
        </p:nvPicPr>
        <p:blipFill>
          <a:blip r:embed="rId1"/>
          <a:stretch/>
        </p:blipFill>
        <p:spPr>
          <a:xfrm>
            <a:off x="324000" y="0"/>
            <a:ext cx="7705440" cy="107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Рибера Хромоножка"/>
          <p:cNvPicPr/>
          <p:nvPr/>
        </p:nvPicPr>
        <p:blipFill>
          <a:blip r:embed="rId1"/>
          <a:stretch/>
        </p:blipFill>
        <p:spPr>
          <a:xfrm>
            <a:off x="219564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Рибера Хромоножка"/>
          <p:cNvPicPr/>
          <p:nvPr/>
        </p:nvPicPr>
        <p:blipFill>
          <a:blip r:embed="rId2"/>
          <a:stretch/>
        </p:blipFill>
        <p:spPr>
          <a:xfrm>
            <a:off x="2195640" y="0"/>
            <a:ext cx="38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Рибера св Инесса"/>
          <p:cNvPicPr/>
          <p:nvPr/>
        </p:nvPicPr>
        <p:blipFill>
          <a:blip r:embed="rId1"/>
          <a:stretch/>
        </p:blipFill>
        <p:spPr>
          <a:xfrm>
            <a:off x="161928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Веласкес Менины"/>
          <p:cNvPicPr/>
          <p:nvPr/>
        </p:nvPicPr>
        <p:blipFill>
          <a:blip r:embed="rId1"/>
          <a:stretch/>
        </p:blipFill>
        <p:spPr>
          <a:xfrm>
            <a:off x="53964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лючи к слайда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сп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Эль Греко. Апостол Петр и Пав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Франсиско Сурбаран. Отрочество Ма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Хусепе Рибера. Хромонож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Хусепе Рибера. Святая Ин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Диего Веласкес. Мен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13:27:00Z</dcterms:created>
  <dc:creator>Фадеева</dc:creator>
  <dc:description/>
  <dc:language>en-US</dc:language>
  <cp:lastModifiedBy>Фадеева</cp:lastModifiedBy>
  <dcterms:modified xsi:type="dcterms:W3CDTF">2019-07-10T16:52:23Z</dcterms:modified>
  <cp:revision>5</cp:revision>
  <dc:subject/>
  <dc:title>Слайд 1</dc:title>
</cp:coreProperties>
</file>