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063-815C-48A7-A54C-CE82A417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9D5-303A-4A20-9AA5-3E4DCFDD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0A7-FA54-4EBE-BD8D-2EE76E5C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1E9-E114-47F9-B6E0-D3B9C933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AFC-7156-4E84-86EA-3198C5B8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767B-77DD-4B8A-9455-8C2D502A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18A2-9407-40FC-909A-A5EF931D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6EB9-A000-425D-9BA9-610FBB67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0C5D-21F0-4AF5-A64A-68BE327E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1373-BBEA-4A4E-A965-7F0B82C8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6E59-3880-4049-8941-94F4D1EB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5AA-F904-411B-8246-A87BE53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48E4-530E-420E-AE8E-B30CC7A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E97F-0B95-494F-A9DA-9863B39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B68E-5F58-4B03-9F25-A8921017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C9A6-1ADA-4D71-9E1F-D35E9264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C745-B65F-4F7F-B873-4153B4BD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2B5-052C-45DB-949D-D3AAD183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BD0-89FF-48C0-A9CE-21DEF60B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C3B-FFE8-4615-832B-87FBB099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FB4-42E1-4C54-9473-39F07178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737-E220-4C00-A571-F81D6A2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798-D723-4A1B-BBB5-BD5A853B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3C2-EA16-464A-A589-3A23F36F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D895-210D-4F44-9966-0DF3AA84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CA6F-4109-4F1D-BF9A-6A6ECDA1D0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«</a:t>
            </a:r>
            <a:r>
              <a:rPr b="1" lang="ru-RU" sz="4000" spc="-1" strike="noStrike">
                <a:solidFill>
                  <a:srgbClr val="990000"/>
                </a:solidFill>
                <a:latin typeface="Arial Black"/>
              </a:rPr>
              <a:t>Название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произведения искусства</a:t>
            </a:r>
            <a:r>
              <a:rPr b="1" lang="ru-RU" sz="4000" spc="-1" strike="noStrike">
                <a:solidFill>
                  <a:srgbClr val="990000"/>
                </a:solidFill>
                <a:latin typeface="Arial Black"/>
              </a:rPr>
              <a:t> и имя  художника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»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(Разработка 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       теста для 10 класса по теме: «Художественная культура 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XVII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века: многоголосие стилей»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Составитель: учитель музыки и МХК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       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Фадеева М. Г. МБОУ «Школа № 105»        г. Нижний Новгород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Задание №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ИТАЛ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9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79640" y="17640"/>
            <a:ext cx="51274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17560" y="0"/>
            <a:ext cx="750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748720" cy="688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74872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лючи к слайда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Ита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Бернини. Похищение Прозерп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.Бернини. Аполлон и Даф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. Бернини. Площадь Святого Пе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. Караваджо. Лютн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. Караваджо. Призвание апостола Матфе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13:27:00Z</dcterms:created>
  <dc:creator>Фадеева</dc:creator>
  <dc:description/>
  <dc:language>en-US</dc:language>
  <cp:lastModifiedBy>Фадеева</cp:lastModifiedBy>
  <dcterms:modified xsi:type="dcterms:W3CDTF">2019-07-10T16:54:37Z</dcterms:modified>
  <cp:revision>9</cp:revision>
  <dc:subject/>
  <dc:title>Слайд 1</dc:title>
</cp:coreProperties>
</file>