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2785-F1C9-44BB-8037-89716BF525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109D-D50F-463E-B3ED-5D499E5CBF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E24B-B52B-4C57-B3C8-426DA00B0E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662C-DE3E-46A4-BB42-77F744D311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9CA9-7C3B-4A77-9D2D-27F2D9437B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6BAA-12C3-4F85-86D5-35D66E05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903-3FDF-4BFA-BE6A-C2B8EFD7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0D1-63D0-40A1-AEA4-9C443D42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71B-BAEE-4F73-9A74-367C3A3A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08F-50B4-490C-9319-E50B19C2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E82-4C70-4847-99C3-8BB59A82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9096-1996-4B5B-9302-2BBD3C7D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1D60-0D16-4E1F-9F0F-A17334B0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CF0-A477-4AC3-BF7A-4813AE92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0BEE-93CE-47CB-94CF-82497CF4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3244-C735-42BF-ADC9-88043AD3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D6F-714C-42E9-8FCE-D1DA2214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0E96-9134-447A-A818-D4421995C5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Arial"/>
              </a:rPr>
              <a:t>ПРОДУКТЫ ПИТ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cod52.ru/wp-content/uploads/2016/11/proizvodstvo-produktov-pitaniya-v-nizhegorodskoj-oblasti-vyroslo-na-91.jpg"/>
          <p:cNvPicPr/>
          <p:nvPr/>
        </p:nvPicPr>
        <p:blipFill>
          <a:blip r:embed="rId1"/>
          <a:stretch/>
        </p:blipFill>
        <p:spPr>
          <a:xfrm>
            <a:off x="1523880" y="2362320"/>
            <a:ext cx="6324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4127760" cy="2882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4241880" cy="3073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5181480" y="3124080"/>
            <a:ext cx="3479760" cy="3264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4"/>
          <a:stretch/>
        </p:blipFill>
        <p:spPr>
          <a:xfrm>
            <a:off x="5486400" y="3124080"/>
            <a:ext cx="3301920" cy="3264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3810240" cy="2743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4952880" y="2971800"/>
            <a:ext cx="3657600" cy="3048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tretch/>
        </p:blipFill>
        <p:spPr>
          <a:xfrm>
            <a:off x="4952880" y="2971800"/>
            <a:ext cx="3733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228600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2895480" cy="2819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3"/>
          <a:stretch/>
        </p:blipFill>
        <p:spPr>
          <a:xfrm>
            <a:off x="5029200" y="3048120"/>
            <a:ext cx="2971800" cy="2552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4"/>
          <a:stretch/>
        </p:blipFill>
        <p:spPr>
          <a:xfrm>
            <a:off x="4876920" y="3048120"/>
            <a:ext cx="3200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1143000" y="685800"/>
            <a:ext cx="6740640" cy="5028840"/>
            <a:chOff x="1143000" y="685800"/>
            <a:chExt cx="6740640" cy="5028840"/>
          </a:xfrm>
        </p:grpSpPr>
        <p:pic>
          <p:nvPicPr>
            <p:cNvPr id="92" name="Picture 3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1447920" y="761400"/>
              <a:ext cx="629460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1143000" y="685800"/>
              <a:ext cx="6740640" cy="8229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Жила-была Царевна - Про еду - Серия 6 - Веселые развивающие и обучающие мультики (online-video-cutter.com) (2).mp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74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Жила-была Царевна - Про еду - Серия 6 - Веселые развивающие и обучающие мультики (online-video-cutter.com) (1).mp4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78447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0" y="23904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те, кто так вку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ит щи капустн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хучие котле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ты, винегре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автраки, обе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https://prikolnye-kartinki.ru/img/picture/Jul/24/1f10a2b25649c8b815de41ff116e99bb/3.jpg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nakyhne.ru/uploads/posts/2009-03/1236593716_rirrrirrs.jpg"/>
          <p:cNvPicPr/>
          <p:nvPr/>
        </p:nvPicPr>
        <p:blipFill>
          <a:blip r:embed="rId1"/>
          <a:stretch/>
        </p:blipFill>
        <p:spPr>
          <a:xfrm>
            <a:off x="6012000" y="0"/>
            <a:ext cx="3344760" cy="266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shniaga.ru/wp-content/uploads/2011/04/meat.jpg"/>
          <p:cNvPicPr/>
          <p:nvPr/>
        </p:nvPicPr>
        <p:blipFill>
          <a:blip r:embed="rId2"/>
          <a:stretch/>
        </p:blipFill>
        <p:spPr>
          <a:xfrm>
            <a:off x="0" y="4121280"/>
            <a:ext cx="4199040" cy="273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myjane.ru/pics/08062010/%D0%BC%D1%8F%D1%81%D0%BE.jpg"/>
          <p:cNvPicPr/>
          <p:nvPr/>
        </p:nvPicPr>
        <p:blipFill>
          <a:blip r:embed="rId3"/>
          <a:stretch/>
        </p:blipFill>
        <p:spPr>
          <a:xfrm>
            <a:off x="0" y="0"/>
            <a:ext cx="2857680" cy="2676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www.livejournal.ru/static/files/themes/12287_03.jpg"/>
          <p:cNvPicPr/>
          <p:nvPr/>
        </p:nvPicPr>
        <p:blipFill>
          <a:blip r:embed="rId4"/>
          <a:stretch/>
        </p:blipFill>
        <p:spPr>
          <a:xfrm>
            <a:off x="5324400" y="2997360"/>
            <a:ext cx="381960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://www.rate1.com.ua/files/5_1218.jpg"/>
          <p:cNvPicPr/>
          <p:nvPr/>
        </p:nvPicPr>
        <p:blipFill>
          <a:blip r:embed="rId5"/>
          <a:stretch/>
        </p:blipFill>
        <p:spPr>
          <a:xfrm>
            <a:off x="2124000" y="2349360"/>
            <a:ext cx="3333960" cy="2190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images01.olx.ru/ui/4/55/82/65805382_1----.jpg"/>
          <p:cNvPicPr/>
          <p:nvPr/>
        </p:nvPicPr>
        <p:blipFill>
          <a:blip r:embed="rId6"/>
          <a:stretch/>
        </p:blipFill>
        <p:spPr>
          <a:xfrm>
            <a:off x="3203640" y="0"/>
            <a:ext cx="222876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islambio.com/wp-content/uploads/2010/09/ryba.jpg"/>
          <p:cNvPicPr/>
          <p:nvPr/>
        </p:nvPicPr>
        <p:blipFill>
          <a:blip r:embed="rId1"/>
          <a:stretch/>
        </p:blipFill>
        <p:spPr>
          <a:xfrm>
            <a:off x="4881600" y="0"/>
            <a:ext cx="4262400" cy="302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www.online-menu.ru/wp-content/uploads/2009/07/16.jpg"/>
          <p:cNvPicPr/>
          <p:nvPr/>
        </p:nvPicPr>
        <p:blipFill>
          <a:blip r:embed="rId2"/>
          <a:stretch/>
        </p:blipFill>
        <p:spPr>
          <a:xfrm>
            <a:off x="0" y="3419640"/>
            <a:ext cx="4762440" cy="3438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www.interatlantic.ru/images/catalog/types/original/3808dd88a30b21b2ed7e86a97a06a756.jpg"/>
          <p:cNvPicPr/>
          <p:nvPr/>
        </p:nvPicPr>
        <p:blipFill>
          <a:blip r:embed="rId3"/>
          <a:stretch/>
        </p:blipFill>
        <p:spPr>
          <a:xfrm>
            <a:off x="4664160" y="3068640"/>
            <a:ext cx="4479840" cy="378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www.rybachu.ru/wp-content/uploads/2011/01/sajadijaz2ls4.gif"/>
          <p:cNvPicPr/>
          <p:nvPr/>
        </p:nvPicPr>
        <p:blipFill>
          <a:blip r:embed="rId4"/>
          <a:stretch/>
        </p:blipFill>
        <p:spPr>
          <a:xfrm>
            <a:off x="0" y="0"/>
            <a:ext cx="4676760" cy="3495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http://sertifikat.ru/netcat_files/Image/ikra-01.gif"/>
          <p:cNvPicPr/>
          <p:nvPr/>
        </p:nvPicPr>
        <p:blipFill>
          <a:blip r:embed="rId5"/>
          <a:stretch/>
        </p:blipFill>
        <p:spPr>
          <a:xfrm>
            <a:off x="3348000" y="2492280"/>
            <a:ext cx="290196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www.tiptip.ru/base_prod/img/moloko_korove_obezzhirennoe_05.jpg"/>
          <p:cNvPicPr/>
          <p:nvPr/>
        </p:nvPicPr>
        <p:blipFill>
          <a:blip r:embed="rId1"/>
          <a:stretch/>
        </p:blipFill>
        <p:spPr>
          <a:xfrm>
            <a:off x="0" y="0"/>
            <a:ext cx="3095640" cy="4238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diksdi.ru/wp-content/uploads/2010/08/%D1%82%D0%B2%D0%BE%D1%80%D0%BE%D0%B3.jpg"/>
          <p:cNvPicPr/>
          <p:nvPr/>
        </p:nvPicPr>
        <p:blipFill>
          <a:blip r:embed="rId2"/>
          <a:stretch/>
        </p:blipFill>
        <p:spPr>
          <a:xfrm>
            <a:off x="3780000" y="-243000"/>
            <a:ext cx="4968720" cy="2924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www.tiptip.ru/base_prod/img/jogurt_15_zhirnosti.jpg"/>
          <p:cNvPicPr/>
          <p:nvPr/>
        </p:nvPicPr>
        <p:blipFill>
          <a:blip r:embed="rId3"/>
          <a:stretch/>
        </p:blipFill>
        <p:spPr>
          <a:xfrm>
            <a:off x="3348000" y="2538360"/>
            <a:ext cx="2917800" cy="4319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dvzdrav.ru/wp-content/uploads/2011/01/syir.jpg"/>
          <p:cNvPicPr/>
          <p:nvPr/>
        </p:nvPicPr>
        <p:blipFill>
          <a:blip r:embed="rId4"/>
          <a:stretch/>
        </p:blipFill>
        <p:spPr>
          <a:xfrm>
            <a:off x="0" y="4221000"/>
            <a:ext cx="3700440" cy="263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www.gur-mania.ru/userfiles/Image/smetana11.jpg"/>
          <p:cNvPicPr/>
          <p:nvPr/>
        </p:nvPicPr>
        <p:blipFill>
          <a:blip r:embed="rId5"/>
          <a:stretch/>
        </p:blipFill>
        <p:spPr>
          <a:xfrm>
            <a:off x="6276960" y="4705200"/>
            <a:ext cx="2867040" cy="2152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ttp://www.ichalki.ru/cheese/smetana1.jpg"/>
          <p:cNvPicPr/>
          <p:nvPr/>
        </p:nvPicPr>
        <p:blipFill>
          <a:blip r:embed="rId6"/>
          <a:stretch/>
        </p:blipFill>
        <p:spPr>
          <a:xfrm rot="232800">
            <a:off x="6784560" y="2857680"/>
            <a:ext cx="230364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kachestvo.ru/netcat_files/Image/%D1%85%D0%BB%D0%B5%D0%B1.(1).jpg"/>
          <p:cNvPicPr/>
          <p:nvPr/>
        </p:nvPicPr>
        <p:blipFill>
          <a:blip r:embed="rId1"/>
          <a:stretch/>
        </p:blipFill>
        <p:spPr>
          <a:xfrm>
            <a:off x="4440240" y="3328920"/>
            <a:ext cx="4703760" cy="3529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top-desktop.ru/files/eda/1152/79.jpg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italyspaghetti.info/wp-content/uploads/2010/12/img4d06a32ab9a55.jpg"/>
          <p:cNvPicPr/>
          <p:nvPr/>
        </p:nvPicPr>
        <p:blipFill>
          <a:blip r:embed="rId3"/>
          <a:stretch/>
        </p:blipFill>
        <p:spPr>
          <a:xfrm rot="1654200">
            <a:off x="323640" y="3573000"/>
            <a:ext cx="3887640" cy="352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www.good-cook.ru/foto/visitor/tort/008-1.jpg"/>
          <p:cNvPicPr/>
          <p:nvPr/>
        </p:nvPicPr>
        <p:blipFill>
          <a:blip r:embed="rId4"/>
          <a:stretch/>
        </p:blipFill>
        <p:spPr>
          <a:xfrm rot="1153200">
            <a:off x="4970160" y="1598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ds04.infourok.ru/uploads/ex/109e/0000d3ed-cd31ed78/hello_html_m746bf0d8.jpg"/>
          <p:cNvPicPr/>
          <p:nvPr/>
        </p:nvPicPr>
        <p:blipFill>
          <a:blip r:embed="rId1"/>
          <a:stretch/>
        </p:blipFill>
        <p:spPr>
          <a:xfrm>
            <a:off x="1676520" y="380880"/>
            <a:ext cx="574344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7-12-04T13:58:0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