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1F9-7139-4B3D-91C1-5F8E37D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E3F-15AB-4422-8803-36BB7A7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192-29CE-4F24-8D21-7213FF0D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40C-B541-45D2-A5BC-862A0B8F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A61-A4F8-4D5E-89A2-388C7EC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DDF-ACF8-49FD-BBF9-230F078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B79-D79D-4127-8F1C-26BC7109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D0B-F2D9-4FDD-8956-6E3522E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5A9-7C01-4D0E-AD55-0FD3761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FE0-2005-4E51-93CA-219A921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ED2-F7F9-4117-80C1-8E4F998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883-BB29-4FD5-A1AC-8E93A6F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858-67AD-4A47-BCC5-3B4E1BA5B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http://festival.1september.ru/articles/559454/img1.jpg"/>
          <p:cNvPicPr/>
          <p:nvPr/>
        </p:nvPicPr>
        <p:blipFill>
          <a:blip r:embed="rId1"/>
          <a:stretch/>
        </p:blipFill>
        <p:spPr>
          <a:xfrm>
            <a:off x="324000" y="2060640"/>
            <a:ext cx="849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prosv.ru/Attachment.aspx?Id=37240"/>
          <p:cNvPicPr/>
          <p:nvPr/>
        </p:nvPicPr>
        <p:blipFill>
          <a:blip r:embed="rId1"/>
          <a:stretch/>
        </p:blipFill>
        <p:spPr>
          <a:xfrm>
            <a:off x="684360" y="549360"/>
            <a:ext cx="3733560" cy="5616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358600" y="1773360"/>
            <a:ext cx="250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стр. 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№ </a:t>
            </a: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№ </a:t>
            </a: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№ </a:t>
            </a: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prosv.ru/Attachment.aspx?Id=36495"/>
          <p:cNvPicPr/>
          <p:nvPr/>
        </p:nvPicPr>
        <p:blipFill>
          <a:blip r:embed="rId1"/>
          <a:stretch/>
        </p:blipFill>
        <p:spPr>
          <a:xfrm>
            <a:off x="395280" y="692280"/>
            <a:ext cx="3852720" cy="5400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356000" y="2421000"/>
            <a:ext cx="41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Стр.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038600" y="1200600"/>
            <a:ext cx="71712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Сегодня на уроке я узнал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Мне было интересно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Мне захотелос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2279520" y="469800"/>
            <a:ext cx="4584960" cy="544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pic.xenomorph.ru/2012-09/1348032092_0c0a7e9d8cba312729503d148f7d6f23.jpg"/>
          <p:cNvPicPr/>
          <p:nvPr/>
        </p:nvPicPr>
        <p:blipFill>
          <a:blip r:embed="rId2"/>
          <a:stretch/>
        </p:blipFill>
        <p:spPr>
          <a:xfrm>
            <a:off x="2195640" y="1341360"/>
            <a:ext cx="47527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468360" y="2205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Как аукнется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так и откликнется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2"/>
          <p:cNvSpPr/>
          <p:nvPr/>
        </p:nvSpPr>
        <p:spPr>
          <a:xfrm>
            <a:off x="930960" y="2133720"/>
            <a:ext cx="6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13"/>
          <p:cNvSpPr/>
          <p:nvPr/>
        </p:nvSpPr>
        <p:spPr>
          <a:xfrm>
            <a:off x="1730520" y="2133720"/>
            <a:ext cx="6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4"/>
          <p:cNvSpPr/>
          <p:nvPr/>
        </p:nvSpPr>
        <p:spPr>
          <a:xfrm>
            <a:off x="2484360" y="213372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5"/>
          <p:cNvSpPr/>
          <p:nvPr/>
        </p:nvSpPr>
        <p:spPr>
          <a:xfrm>
            <a:off x="3419640" y="21337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6"/>
          <p:cNvSpPr/>
          <p:nvPr/>
        </p:nvSpPr>
        <p:spPr>
          <a:xfrm>
            <a:off x="4307040" y="213372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7"/>
          <p:cNvSpPr/>
          <p:nvPr/>
        </p:nvSpPr>
        <p:spPr>
          <a:xfrm>
            <a:off x="5178600" y="21337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8"/>
          <p:cNvSpPr/>
          <p:nvPr/>
        </p:nvSpPr>
        <p:spPr>
          <a:xfrm>
            <a:off x="5879880" y="2133720"/>
            <a:ext cx="7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Verdana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732720" y="2136240"/>
            <a:ext cx="43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00"/>
                </a:solidFill>
                <a:latin typeface="Verdana"/>
                <a:ea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042920" y="1428480"/>
            <a:ext cx="7416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00"/>
                </a:solidFill>
                <a:latin typeface="Verdana"/>
                <a:ea typeface="Verdana"/>
              </a:rPr>
              <a:t>- </a:t>
            </a: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Что такое окружающая сре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- Что такое "невидимые нити"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- Что такое эколог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- Что изучает эколог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jcnm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421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386440" y="260280"/>
            <a:ext cx="439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00"/>
                </a:solidFill>
                <a:latin typeface="Verdana"/>
                <a:ea typeface="Verdana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prosv.ru/Attachment.aspx?Id=36495"/>
          <p:cNvPicPr/>
          <p:nvPr/>
        </p:nvPicPr>
        <p:blipFill>
          <a:blip r:embed="rId1"/>
          <a:stretch/>
        </p:blipFill>
        <p:spPr>
          <a:xfrm>
            <a:off x="395280" y="692280"/>
            <a:ext cx="385272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643280" y="17002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00"/>
                </a:solidFill>
                <a:latin typeface="Verdana"/>
                <a:ea typeface="Verdana"/>
              </a:rPr>
              <a:t>Прочитайте текст на стр. 24 -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7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00"/>
                </a:solidFill>
                <a:latin typeface="Verdana"/>
                <a:ea typeface="Verdana"/>
              </a:rPr>
              <a:t>Проследите по схеме события этой истори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357920" y="2708280"/>
            <a:ext cx="68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00"/>
                </a:solidFill>
                <a:latin typeface="Verdana"/>
                <a:ea typeface="Verdana"/>
              </a:rPr>
              <a:t>ИГРА "Цепочка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prosv.ru/Attachment.aspx?Id=36495"/>
          <p:cNvPicPr/>
          <p:nvPr/>
        </p:nvPicPr>
        <p:blipFill>
          <a:blip r:embed="rId1"/>
          <a:stretch/>
        </p:blipFill>
        <p:spPr>
          <a:xfrm>
            <a:off x="395280" y="692280"/>
            <a:ext cx="385272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4427640" y="2421000"/>
            <a:ext cx="40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Прочитай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текст 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00"/>
                </a:solidFill>
                <a:latin typeface="Verdana"/>
                <a:ea typeface="Verdana"/>
              </a:rPr>
              <a:t>стр. 26 –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Наталья\Downloads\img11.jpg"/>
          <p:cNvPicPr/>
          <p:nvPr/>
        </p:nvPicPr>
        <p:blipFill>
          <a:blip r:embed="rId1"/>
          <a:stretch/>
        </p:blipFill>
        <p:spPr>
          <a:xfrm>
            <a:off x="324000" y="260280"/>
            <a:ext cx="85359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Наталья</cp:lastModifiedBy>
  <dcterms:modified xsi:type="dcterms:W3CDTF">2016-09-18T09:03:25Z</dcterms:modified>
  <cp:revision>39</cp:revision>
  <dc:subject/>
  <dc:title>Слайд 1</dc:title>
</cp:coreProperties>
</file>