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3.wmf" ContentType="image/x-wmf"/>
  <Override PartName="/ppt/media/image24.gif" ContentType="image/gif"/>
  <Override PartName="/ppt/media/image23.gif" ContentType="image/gif"/>
  <Override PartName="/ppt/media/image22.gif" ContentType="image/gif"/>
  <Override PartName="/ppt/media/image14.png" ContentType="image/png"/>
  <Override PartName="/ppt/media/image21.gif" ContentType="image/gif"/>
  <Override PartName="/ppt/media/image20.gif" ContentType="image/gif"/>
  <Override PartName="/ppt/media/image17.gif" ContentType="image/gif"/>
  <Override PartName="/ppt/media/image2.wmf" ContentType="image/x-wmf"/>
  <Override PartName="/ppt/media/image19.png" ContentType="image/png"/>
  <Override PartName="/ppt/media/image16.gif" ContentType="image/gif"/>
  <Override PartName="/ppt/media/image1.wmf" ContentType="image/x-wmf"/>
  <Override PartName="/ppt/media/image15.gif" ContentType="image/gif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dt" idx="11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 type="ftr" idx="116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 type="sldNum" idx="11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BAE52-8284-4BA8-AB73-D4EB80CE516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12AB9-8813-4572-8FF7-CF60484FAA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88300-78F9-4AC0-A143-02B7E896A3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33D0A-836F-472C-B33D-5668BB4C79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0B292-6680-4349-8710-6ADE0498CE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E45E5-39FF-425A-A02E-E68A70A936E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3F175-2A9A-42AA-B292-20F232285E4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15D38-F680-497E-89DC-E9A74FCB91D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0DF0F-DD50-45CF-B1FC-436FF6B373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3C532-A306-4DE2-A6F3-AE2D763DB7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63EF5-B4D1-4382-8ED4-4C3D46A99D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08574-402C-4BD9-A670-997593D916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7F468-7150-46A0-A309-D6FC8AA735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  <p:sp>
        <p:nvSpPr>
          <p:cNvPr id="16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55238-07DA-4D1C-ADD5-35B279D04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D268-B0D9-45BC-99DD-2F419A18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E384-9CC0-4834-8FF1-DE1C6713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A2498B-8732-4C7C-92E7-3145FE5F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CF087-0A54-4EFB-B25D-E24E415C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FDCE78-3757-42CA-B98D-32B3ED19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C159C2-746E-4BC8-9499-E0720314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9524A-E48B-4FE2-91F8-E20C49C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8896F5-B611-46A3-96DA-0DDAC3A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F4EC56-B2D6-40CB-8713-17E97873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E87329-F881-40F7-8581-56A0F76D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F2D9EC-F970-4FD9-A535-4A29B2C0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C37998-B0DC-4C5B-83C3-B5BA761D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A81A-EB15-4F17-A229-56B73C23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7C4484-6DF5-4234-B8F4-749D8AB3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F4D1E9-BC60-4BDA-869E-6F257A29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CD2F94-5CB2-43FD-BF37-88DF588B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A32724-2DB7-4280-A510-7D18F459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1F241D-B00F-4899-9CC6-851AA4E1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B32A83-BA20-460E-B4AD-A206D45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87E358-792E-43FD-8A0D-0C2D2F0B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7B7A3C-BD99-4F12-B382-81949BA9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F27824-21F9-4E12-B71E-5851A0FD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5C1FE9-08C8-4D24-88D1-72C08652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69B3-4623-4FE2-B6A3-550D426F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DF066A-AB42-4C9F-B7CD-4D1D0C0D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E34800-8DEA-450F-BAB2-0C926B08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725348-3860-409A-89B7-2E545289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990DAE-80CE-4695-A88F-6B9D1BA1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8C3B6D-67A0-43E7-B0CF-E34431F5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05FBE4-0345-4DE3-8898-38AD706B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D2F8F9-64E4-4656-ABB9-0F5D1562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7EBE51-22D3-4452-A6F9-229CEAF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3B16FB-FC67-4CE5-B07A-72AE235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702115-09F1-417D-9B87-3045264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CA75-8BCF-45DF-85E8-932E737A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FA0850-0CA5-4EF2-B5A0-13F151BC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58A637-533F-4DB9-BB9F-2494B0FE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3C3058-81B1-4C02-AD5D-E495CACF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19225D-7B2E-4BF4-8A28-7215C34C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86509E-B92D-47D3-A51A-BE2B91DA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020228-0C6D-4182-9612-B0603E7C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D1CC2C-C8BA-4C8C-AF09-8E20B9F4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F2F81E-91E7-4943-B94D-9E7D24D1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CE5440-197B-4CC1-9B5A-CD93E07B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70979D-F878-4063-B819-273B6140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2258-53E4-4F1E-AAC8-B2E9A9B9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8548BF-3F90-4862-8FE1-65FDCBD2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24D82E-52E6-4F7A-A035-5304BD59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84FD2C-B790-4F48-AE85-FE128CE9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5CAFEC-98C7-4D52-BF69-804D36EE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A47D33-DDAA-449F-969E-2FEA62FE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072F40-25F8-4065-A6C8-4FF09B60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2AD2C6-298B-4742-8F4E-553A018D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712FE5-60D6-4844-9FDA-E20EA9C8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855056-A9E9-4FA8-9380-6954FF9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E3BBE3-A9C7-4D8D-8F49-042B6398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CB27-3E34-40AD-B167-C6FE13F8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0FC431-32C2-4C3F-AA4D-8CADAFEC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253DE1-4F6C-4C9A-964B-C9DD9B77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798268-D41E-4AF6-9EFA-03575A81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0BD9C8-17E3-4CAD-A10C-C0F50543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4E84B8-01A0-406B-B3C1-6F4448F7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39152F-51E8-44E4-8945-94C5F5C0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1DE603-7C87-4991-9980-ACA77811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6DDEDA-CAE3-4075-BD0F-1500A265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21C57D-B981-40F2-8C73-E109A6F0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38893C-2E35-4ED3-91B5-3E448B69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B1DA-C1AE-4A09-9F72-967F04E4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CBB7BB-5247-4880-915E-D5C8A964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66129D-F80B-4101-8543-8AE3F885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1D2AD7-1EFE-45E9-929E-83AC66B0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3B5EDE-54F5-43CF-A19A-1C5320B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802D66-80A3-4797-9987-B1A66167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E476F8-43F6-4F72-A352-19B119F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D96DEF-3A62-4F78-9D81-0013EBF7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B3AA69-D595-47AA-B6AB-1AB4609A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56F8B5-C6A4-482F-9146-FA4B163D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A05F56-0A5D-497E-A2D9-BB97C209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3278-047F-4AFE-89B1-BD64FBE7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3A3F03-7094-42F1-A9CC-8748A51E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414519-611A-4A45-AD6F-DEBDA40F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9FE5CF-E37B-453F-A3F1-64E4F060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F1C465-4331-497D-987E-BF72E120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EAD742-7F26-4165-919A-47C88F92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D124BC-0C20-4F34-8BD8-372E05F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7D06F8-08B1-49A3-B859-6E53EC8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4BE834-D440-48A9-A415-EAAB4C81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4AF216-657B-465D-A542-65CFB443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9A644F-1DFC-4A9A-AAF0-5DA0B38C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7874-2C6F-42DF-80A1-E97C31A7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72ED01-DB00-495C-9C5B-976B78D0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6D68AD-8C7F-4876-A4D0-5965FDAB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D6F82B-1507-4D16-8091-CA050834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FB75FE-9A01-46BC-9D50-33E5A774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220140-6348-413A-B080-EF760838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E67676-6351-4A77-AC06-B86A2526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6011D6-67C6-415D-95BC-AF88DFBB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EE4047-DEFC-4CB3-9C8B-D90C4435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6CF5BE-BB09-4BC7-A0E9-380BF9B2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4C8991-1C0E-48DA-98A8-8F5BC3F0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91DA-61FF-44E7-92EA-BAD35753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781F9F-2F2C-4D55-ABB0-57FDC33B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7D7476-7E36-48C4-9F32-24F41E9D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79E3E1-3FC8-48E6-99F1-6560D751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A83E0-99A4-4E9B-8AB7-28A50AA6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04E9E-A72B-4D5B-B182-628261D9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C9EC7-768B-45C9-B32C-BA9FA3AC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05F82-E29D-4530-B4C7-9ECA6FAF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33809-BB69-48C1-A878-12AAE4A5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D29E6-97CD-4B0F-8058-43036C4A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85CB2-9E66-4704-AC90-F4AD8458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C3C0-3B57-4C1C-B8AE-E7705416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450C-8674-4B07-A2B3-65EEAC19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01462-00CC-45B5-98F3-8246175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BEB01-C523-40EE-B53A-FD8BE683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C3EE0-3D5C-40B9-9725-3A5A0C46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11D83E-64DF-4661-AEBB-3AEC0058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E7D12-2FF1-4BBA-8050-C0BF75CC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5C116-B482-450F-B081-4342196A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0B528-8C52-4705-AC71-14AD9953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F1A8C-8A98-4F53-B89E-68499F8B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35C26-A42D-4908-8C07-9BD90C5D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1957F-E9B9-4787-A7EA-081E6EBD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5424-2D22-4150-B16B-F5F67B5D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CDA0C-FB5D-447D-AC42-4564D7AC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6CF69-1222-4DB2-9417-FAF8C427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47425-FF1C-4B96-9E1F-5852F269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C3834-1A58-40A4-9494-3970B94A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79AB3-BAA3-4923-879C-EAAE42DD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63416-70D3-487B-84E3-6C60E745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3EC2E-F0E3-4523-9AD9-4E61A7ED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AEB64A-C734-4607-A9DE-A55D1255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E5FAB6-C0F9-4594-A642-D2357E84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58344-0BD1-4715-BE32-E68E00B3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F29B-D192-4FFE-B059-EE82A913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F826E-EB76-4AA7-AA04-2A80FD2F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6FCDFD-6A84-4D49-A939-879CD5BC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2BD64-0DD4-47D9-ACD4-515F3B2E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1F820-BF1A-441E-9A5B-FE5753B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058BF5-F151-40FE-8888-89B90038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15A85D-85FF-453F-A57A-DA7ED72E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73794-41A6-45D6-8073-03A42E62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D2DDF-CB48-46CC-95E2-FDAD49BA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3569D-F004-49F2-AB64-B39766A7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68B5E-89AF-4AAB-9889-50738DCF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C65C-1AAF-4D92-A170-3485E277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0A18A-EDEC-476B-B6E2-83F7858F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D08FF5-881D-4B9B-A28F-3172B8F3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50796-32CC-4DEA-A188-EA5405D2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AE290-29E6-4AB8-BA65-E859823E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30067-CC5D-486E-988D-5B9007A3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3DA0C7-18D9-466D-9A76-54322DA4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DB485-3FF9-4D7C-90B1-8728FD24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23A392-4D79-4D59-AA90-F0D3EB19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1309A-237E-4712-99AB-B202089E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A503B-B7AE-400E-8B6E-16E034D1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C384-4373-47A8-8EA8-2A5FD8A1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CD66D9-4068-49EA-9FC3-9102C1DA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524AC-F86E-4179-9F30-C039C0A2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CC0C6F-2587-4E79-B2E6-176CBB99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22034B-F21F-4C89-A0C1-F2F3BBAF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0E4B66-3A73-464B-953F-22600AB1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9D15A4-500D-4A96-9D1E-2325AF17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572F1-B959-40FB-9A51-308702A4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5B3D5-3013-4969-A5DF-97321054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F05E1-C414-4336-A491-FFE2336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F20C21-8B48-4684-B384-FAAE9A5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3658-95BE-4FD9-A99C-C41A5A8C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40DA8B-4594-49EE-9C71-13C84F00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05D0F7-B5AD-45E8-BB72-A60199E9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D9939-C86F-464B-9439-AC20D4DF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6C0843-C193-401D-A04E-148FFEB5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CD1AC2-5DE0-407F-B3D5-AF8AF603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2399A3-3A26-41F4-A926-22F61C11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6F6EB3-A50D-4408-9FE6-CBF996ED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F9F225-F480-4337-A686-C9964494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D09C3B-C2D5-4CE6-B63F-9941F163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33FF7F-2950-4DEC-A893-9BFDE8B1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6427-8EE4-4887-8A80-4F4A1B54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65966C-8FE8-463E-9D51-41B0807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AB4B9C-5BA2-4F0E-B354-B353A547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F1503E-741C-439B-B808-B57E632A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49972-33BE-42C7-81FA-D1C94338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F32B48-04CD-4F36-9017-00929FCB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0EF7E7-ECBB-4A18-AA22-AFF57219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9C1C37-44EE-481C-A750-69A60251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E2D5AE-2AF9-471A-B793-04F8C723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58E4F-85AC-4AD3-86EA-AEA254D9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F46DD5-2055-4820-BBBC-96EC31E5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6A46-94FF-454A-8408-D6CBE3AD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275146-883B-48AA-AD02-BBEA571E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056E17-5F47-428E-B96C-211EE202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1E8D6C-2BA5-4E81-9BA5-F4A30425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065F11-D847-4FBB-8B36-5565CDA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FF97D6-C3BA-4EDB-B96B-CC3416F5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258736-C79A-4F8E-BF1B-2C8A22AF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96025C-4C5A-4BB5-A632-E5A2274B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A29C9B-A321-4BAC-A88F-C210C894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C2DAB9-9666-431D-B7CE-62F9D8E7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C3AAE1-96B5-4825-9A68-C6E19157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4CB7-BFDF-4255-997A-46B1729E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3134CE-D04D-4B7B-8F79-6E071544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B7D653-5F05-4FDE-96E4-3353D9DB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9CC4DC-F3EB-4A69-ACB4-E91CB941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51031C-1722-431F-871B-3F33511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5A75F9-0EC7-4D12-8539-7E3AA83E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9F0DF9-A7D7-4D60-B013-00E46DAD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AEFC07-DBB8-447E-817F-42453897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7ACAC1-A7A8-40FE-87AC-83D0F90B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E6B99B-5D16-4CE2-BD20-29803250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57CA2C-1749-4474-8BED-EC027CDD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0BA7-E85F-4A2E-A70E-558811A1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3095F5-492D-4D1B-8ADC-35CB2339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6A939C-17FB-42E5-92B3-B1CFEC53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41A354-025C-46E5-9094-607AA765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43FF48-C5BD-4935-BBB3-2E028FC0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60F38B-7770-42C4-9083-C64F0ED1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3DC306-2FEC-48B7-B6DF-8441A05D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0C7858-5AD3-434D-8E75-75A73AA5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13EE01-9913-4A36-A690-61E26509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75FE8A-474B-4D5D-937E-ABBE8849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70692D-8339-4BA9-AFA0-B0A6E901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5CE3-3578-41B3-9284-9683DCBA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4CC2-A99A-4F02-98EB-3193ADFC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FA9159-A676-448C-A6A5-1A291F05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400401-C378-4774-B603-991787A0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3CF195-BF59-4F1F-AF24-A9D972F3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7740EF-9438-4696-8FE7-87C85340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8B7A12-EA71-4B38-8FFA-F3ECAEFD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685F73-647B-47FD-BC9E-DA870208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B5BD1E-AF59-4F06-B463-0EEE75A0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310093-EE9A-41F3-BB55-01E26E5C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68FA58-DD90-49EF-A3E6-139A01A3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942942-89A8-4A31-90B6-3E4559C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89ADA-5899-4F07-8062-CEAF4FE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EB0AB2-7380-4038-AB83-1440494D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D890C2-E0FF-4C16-B14C-5111CE7F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EE6267-14D2-431D-AE12-648ADD5B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C6D7E1-2FE3-44C3-9887-7DDE3532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035224-3D74-4B65-8A49-47453E54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BA3A17-C2B1-4C0E-8981-058969B1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EEA5DA-81B9-4EC4-A1AC-C8A8510E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677468-E136-4DB4-AE86-6785C7EB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2940AF-32C5-4312-BB83-69E91186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88BC34-F10D-47D2-A08A-31C8E7FB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D908-E09C-4462-9833-284F4656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CF22E0-FE6E-44FB-95DB-F18FD6B2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261CF7-3B13-4DA9-87DD-CB8B5CC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70CD27-5426-408D-88F1-61AA0F0A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3C60D3-BDEE-4D40-8E93-6957E8C1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408D11-2F59-4F65-B4F1-385528A9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08BADF-8ACE-44CF-85D2-5ED3784E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FBDD90-708B-4251-8758-D1B672D0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883469-904E-4AFD-AF7F-31C98BCF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AC1DF5-86DC-47E2-B074-2068F7A9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465F3E-0FCB-4C9D-9CDA-13AEC706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B177-FD2A-4F2D-9C74-529E491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821104-40AA-4BBC-B30A-A833BB1F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9BE450-9A0B-432F-AB4C-13C5086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510808-570D-4591-BF97-642079E2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CAC21F-C5EC-43C2-9F3F-CD57435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250454-3E43-4E16-AB14-225B629B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C06095-9EC0-4C75-8AE2-AA3E5403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D24EDD-0B96-44E3-84C8-F4EA4778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5406FF-F97A-424F-ADD7-6069FD09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3F3E64-6408-4B70-A85D-E1608FF6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61D401-C83C-4841-9BD7-C12F0080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47C9-F33F-4E6E-8D78-A66A5C78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32FA3D-9DA5-47AF-BE75-E01F7BA2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44ECA2-179E-4A62-B98B-AEEC4878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AEBD13-8792-468D-858C-0FCA4B73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A2D333-4969-47D2-9DE8-54C08C85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705671-07B2-4326-95BF-CF19B201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264F6E-55B0-4EA4-A921-4AB8B760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BFEF53-AFF2-4618-A1BC-05B3D535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7EFB66-7A86-4899-A479-D2F023F4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BE43DC-392B-4A65-9D0F-69ED872F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30EAC8-72BA-45D9-97FE-E7202518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86AF-0E8D-4C5B-B209-66AA0129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8FC03C-E9F8-4906-A71E-9848067A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83ED37-04BC-4D34-A06E-E8AC9252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E2458D-5C0B-4338-9662-4EF646A4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540F97-C9F0-408A-8FB5-9943215B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32FDF9-0200-42EE-9DFC-8313D317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4B34CE-BCD9-4F2C-B0AB-C2BA2BD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167D1D-3F48-4D2C-A66E-35C8F2F6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F58E26-3B1F-4F65-B945-9F10124A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A5C557-2E9A-4463-AABC-D635EC03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9A2175-E4BC-42D1-95C4-B31E564E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9D57E-1A65-4E99-8449-38BE92DA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E701CF-2B74-454C-80B6-57CE3C94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A70551-B349-4E1A-82AB-A3A1658A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4DAE93-EAD7-463D-9BEC-7BC6B1AE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18035A-77BD-4418-AB03-1DD9266E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F1BB6B-CA04-4BBC-957D-4D473CB7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BF7348-F374-40C7-8F9F-5107448E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C5A772-DD2A-4092-AF2D-1BDCDC26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68F410-F422-440F-BB69-788272BF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79C15E-E158-4B61-BFF2-313E30D4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D11B5C-12EE-4D25-AC58-A7B4878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AFDA3-D3E0-4460-8C16-4D0A86B3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DFBC74-CEC3-44FF-B165-FB681AAB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BFD96C-1DFD-4404-9AD5-3056D8F0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10CD7E-35CE-4C2E-919A-7BC99656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4AFEFE-C560-4BBE-B20B-A0FE25CF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4BDF4B-E145-4ABA-85C3-38883696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78C9F4-BA92-4309-A521-BDB1A8C1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200FD4-4B8F-4178-9AB9-D4E2C258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1F6D9B-6BD4-4A35-A1BB-44064EF2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02C5EF-1704-4D1A-A227-301DFB9F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5BDBA9-3F1C-4E01-A483-D1601022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4A891-0563-40F4-87AA-FCC0BDC5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88F714-9359-4DFA-9A92-27EF7F8C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4A93A6-8D78-4CF2-8305-02FFC1AE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509C5D-6DB1-42A7-A9CF-60FE0F90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412099-C279-49AF-802D-BF23912E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CD843B-D9F6-4E91-A216-13DB1F41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B91295-05A7-4FF9-AEC0-1D18CC0B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2EF312-DB31-48A3-8EAD-5B2A23A9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0A7E0B-5036-41BB-B9D1-6F5321D2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074DD3-724B-4828-9D4C-92FAA743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782C57-F8A4-4983-BEE4-9176CCEE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55A22-181B-4A25-996D-878BC09F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FD5911-3F5B-44E6-9EC9-82634CDD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ACD4C3-0DBD-4CF1-89F2-DCF65C7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0EEB7E-9C39-4D57-8FAB-2223256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49BF72-9499-4690-923E-6D6E0C03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157E80-C4C7-44B1-B90F-848C1B8B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83CC48-E601-46A2-A0A9-FB471777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1C0F40-305B-47F6-B25A-4CB0E7A9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3839E1-3138-4217-A63D-25658963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55A5AD-8C40-422E-AF1C-B51F3BE7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6D7420-2E05-4E9F-AB1D-ABEAE5EF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94BC-8575-434C-942D-A0C37D09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CC56A-9699-44FF-BEEA-A467C440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264769-34A4-4E09-9B62-96AB7555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9D41FF-4CCD-438A-8984-FD9C6268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78603E-80C1-4773-A534-CD636C80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AB84FC-F490-4C32-BFAA-A25223A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D6CF55-BEB8-4FC2-843F-1427AB17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044DFF-3E66-4F0A-B1A8-BFF21E1D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50D81F-F0C0-4FCB-9BD1-1979A10B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250839-4CBE-40DA-8CDB-C2AAB586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7F8ECB-3BAB-465E-AFB9-3F81894D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1A8F5D-9A0C-41E4-8B03-1E2F2789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4E892-A997-4223-AC5A-B8D3AE90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0D52E9-A66B-41FC-A9F5-B3FE8E19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D041F1-8209-4BAF-92A6-FE1222AF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54454B-2A67-4FE8-AD73-23FDB6E5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2F66B6-2076-4617-A347-4BEDA5A5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BFD094-A735-4128-9F2C-D1B5E4EA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4C34E8-C580-40CD-9E32-46DB1097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DF57A3-7DBC-401C-9614-39FA39ED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65838E-4442-4C2C-85FA-AC35E2F0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90EBA8-4E97-4458-8FA8-90173439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4A863B-E6FE-4B07-BF0F-1A848142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B61C8-8C5A-4864-BA12-B8AEA75F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229C27-0BE6-4D56-B514-05B07A85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04A10E-E17B-48C9-A695-2C4C5969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46AC79-AD97-45D9-850C-2638DAE0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752E7A-A82D-4FE2-8EBA-7C8E6EF4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3A7FD7-460D-473A-9199-D2F4E452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596108-84AD-4EBB-880C-36D5B508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B8A2AA-4718-4450-82B7-BB831FF9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A1EA46-076A-49B9-A7A5-631D4FBE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F36754-AC22-4878-8F05-DDDD513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0726EF-1348-4AA7-B0FE-2EC1DE3E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B3933-A4F7-4E3B-9B4F-8F5FDFB6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0BA795-6DAC-4688-8DA1-322D7F52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9986B2-8B87-4859-945D-A41BA3E5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9B99EC-AA15-44C6-8AE6-7F4C1C4B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F7E618-C961-43BC-98DA-0414D2EC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9CDD6A-BF63-4E12-BDED-7942ABCF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C126D4D-23DB-4A5E-A01A-316D746B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F8B038-E5E6-4433-B464-06F6C38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B53FCC-066F-45EC-A15D-CAB48461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AB9531-1E90-4AE9-9DF9-A78621AF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65C695-5ECB-43B5-BE81-38D5D40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56159-8674-4839-A9AD-E636639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C7345B-B1E4-438C-AF41-E9B872D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FEE527-2E4A-4690-8975-235BE653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A2E428-5ED9-4F3F-A360-277D4349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830620-9BD9-4716-B569-664ED0C4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C4FAE4-BADE-454E-9F1F-977F07B9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CE8300-09E5-43D0-801D-210CC50F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BD216B-B1EF-4F3B-9FA4-AC2E0FEF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E90886-B950-4227-A736-1C9D3913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6E58314-DB3A-439F-9BAC-CBC252F9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A505CD-9E3E-4EA8-BC4E-07D05203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66A5C-744C-4EDC-A6C5-F38F8EE8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393070-EFB6-448D-88F9-68C89FF2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13DAA3-6354-4DBA-AC3D-98D4F266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9A0F99-D0C3-4014-BBE9-BE9FB5E1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A3A0D4-AFAF-4280-9E45-FF34CFC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DE3F477-3116-4B12-8572-A8279B8C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94EE85-3EEF-4E92-A01F-BA2C6291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2B2C03-F3E3-4734-9671-52878FAF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29171-37CF-44F2-AD78-E12E652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AD810-7873-4CA2-BF8B-239E33DB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77FE4-6EE5-4404-A576-3FBC6D20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E89E3-25B3-4481-90C1-084C46DD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09EA-EB06-4D05-9732-610CDE5B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4CD1D-F7AB-4C46-92F8-2DB0CBF1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B8B48-B748-4224-A59A-8573FE23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81643-CB3D-4CB8-A3BE-B06844B1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F5E9F-01C7-4D6F-AEC5-49B32955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FF555-D50F-4637-A052-49184796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AE2C1-8A46-4814-A899-44D89203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CA1FB-53B9-44B5-AF6F-17DC839E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3EFCB-9FC0-486E-B5DD-C7822F6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C0669-0BCA-43C3-AA91-152784EC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2B39D-40FD-4342-93F8-8C4D1103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827F-A2A5-4B2A-A65D-886FE140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9CFAC-4D1F-4C77-9014-A957F330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B39CA-462F-4047-A259-CC6C46F3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C93A4-C370-4F79-BFB0-50A6623B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BEB1A9-4524-4C16-B7B4-DEFBDA47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11662-2ED8-471A-8EF1-BC117CC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D2D95-A953-4795-8763-585A2BA2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3712D-6927-4139-90FA-DF9B6A74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28386-37BA-4223-BD1B-F036C275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A15A5-4EEC-4061-8B52-CC7EBD8B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F0FC6-539B-4891-A987-30F87A3F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3AA5-FDDB-45AC-8884-AB394713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C3E02-904B-48B6-87A9-AB050764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396FB-522B-4CCD-8F9C-737E8401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E026C-BC43-4EAD-9EAF-C2B44838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31E2A-4E1A-4B32-89E7-BA37F1BA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D7567-6D89-450B-91AC-18037BFE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81E45-3101-4083-BBEF-6BAA161F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3A142C-62E1-4961-AA37-4D8EC229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245DE-8B39-4F8C-B90A-A82A7E91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F0F74-7CE1-4E3B-A3AB-E312F74C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753BB-A66F-4D3B-BF86-EF50E78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D50C-CADD-413A-B1C2-4E0343E0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0E01D-27EA-43F7-BCF7-B60B4A24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84D2E-6231-4E0B-B829-E9764C5A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E08E5B-462F-4B94-B70A-351E92ED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9F914-1C17-495E-8E20-3EDCC911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35F40-B801-40E1-8283-193ADE83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D37E8B-5053-4335-81D8-0C3C8216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891EB-2839-450E-8A1C-3278A868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588842-DE67-4ED0-ABD1-A18A7145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107ED8-F9F0-4B80-8A0E-1F5CADAF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5F2945-1A5C-49D7-8430-7E8D8CA1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80BA-EACE-44EF-BC56-EED5B79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86B1FE-4B40-4290-83FF-DB9FE1E8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54ACE6-226D-4A04-ABCA-22886E3C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ABB4CD-FB09-4BD3-A53F-6C0F45D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502F64-AECB-48DB-B150-660BD64A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C826D-C4B5-4EA6-9655-67910DA0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84C66-9C4A-4888-86C0-56152C9C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D91FDA-C01F-4E0D-B5F5-AFCC04C7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D9701-018A-4983-8CA8-B082C687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98C66-4446-4B6A-822B-8406CDD2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E6454-4055-404D-AFF1-A19F42A2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3EC4FC-33D1-46FF-B07E-59EF95F3542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2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9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AD9EE7-7130-4141-8345-1D6BDC5C152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31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3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C06CE7-AF3F-4BFC-9C4C-7F2E16EF7E6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dt" idx="3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34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35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D5BCEB-DA3B-4EBC-A2D7-B7C04E69DBD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ftr" idx="37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sldNum" idx="38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757B90-79B0-49D9-BD52-EA21733437F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dt" idx="39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40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4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B0E397-6BC1-4C0E-8CC1-CF78CFEE984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43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44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D0A035-6FD4-4082-BF0E-267AC0B2A12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dt" idx="45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4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4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A50714-DBBE-4490-B84F-64FFEA808CD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dt" idx="4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dt" idx="49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730509-3A17-45FE-9529-20CFED67E3F8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dt" idx="52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53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0AAF86-84D7-4B9B-87B7-8AF53970994F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dt" idx="55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ftr" idx="5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sldNum" idx="5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B7C32B-C122-4462-9846-D1B8FACFCA2C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B43941-F867-4922-A672-989EAFFC990A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58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59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256016-3241-4E6E-9583-EB3E711BB9B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6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ftr" idx="6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29BB1B-BD8B-47B1-AC9D-ACC499E0EEE6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dt" idx="6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ftr" idx="6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834C14-D1B7-4470-A941-F057162693DD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dt" idx="67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ftr" idx="6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sldNum" idx="69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50CFD1-4623-420E-AE6E-7A8EDD34924C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70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ftr" idx="71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0ADBFE-BCFD-4F16-8EBA-CE0DDC9A448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dt" idx="73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ftr" idx="74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sldNum" idx="75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13E2A3-AF5E-4AF5-9EF4-AF0271117698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dt" idx="76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ftr" idx="77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9D2B6B-0350-4B06-973B-A7F101A7CBDE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dt" idx="79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ftr" idx="80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sldNum" idx="8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756BBD-8C83-4411-AB71-08C2F3119649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F8981B-D26F-4C1D-A917-9F6C579D70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dt" idx="85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ftr" idx="86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EB88F4-11C7-48B8-9062-CE3C39FA47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6F6B96-88A3-4C5D-BFE8-1B2EC9B5B1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dt" idx="8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89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BA60FA-97A3-4387-B3FE-533B5CC381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9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9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FE1654-B142-428B-945C-D8E38DCD0C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9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9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A3821E-83EE-4238-84A9-0458B31FDF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 type="dt" idx="97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 type="ftr" idx="98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C2CD23-9844-4F8E-82CE-B5D43880A0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10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101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D9A3E5-21C8-40EB-9294-F51B31E047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10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104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9E32E6-A17D-43D1-858D-244166025E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10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107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5983D8-443F-4DF3-9E9D-8E8EB13C04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109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110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605B28-E55D-492B-8710-D2203D4649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11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113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7E5328-9F89-434F-8C6D-5BBA475C30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0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6014C4-D6F9-4147-B753-61CEFC4DEFB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3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4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F51776-CE62-4A7E-84CF-547FCECFADF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dt" idx="15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3D6024-7971-4BAD-AB94-D41635D110C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9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20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C7EE72-71D9-4DD7-9B5D-B08BB181649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dt" idx="2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2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332886-B16A-45F6-94AA-7857A8EFE1A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9AF1BB-F44C-4B34-882A-9A7F7042929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dt" idx="27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1"/>
          <p:cNvSpPr/>
          <p:nvPr/>
        </p:nvSpPr>
        <p:spPr>
          <a:xfrm>
            <a:off x="228600" y="609480"/>
            <a:ext cx="929628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Comic Sans MS"/>
              </a:rPr>
              <a:t>Look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Comic Sans MS"/>
              </a:rPr>
              <a:t>at teenagers'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Comic Sans MS"/>
              </a:rPr>
              <a:t>problems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378000"/>
            <a:ext cx="8229600" cy="16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Excercise 16, page 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Picture 2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30603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3"/>
          <p:cNvSpPr/>
          <p:nvPr/>
        </p:nvSpPr>
        <p:spPr>
          <a:xfrm>
            <a:off x="395280" y="2324160"/>
            <a:ext cx="8397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the way to the rail-s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the way to the biggest supermar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the way to the post off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the way to the park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TextBox 3"/>
          <p:cNvSpPr/>
          <p:nvPr/>
        </p:nvSpPr>
        <p:spPr>
          <a:xfrm>
            <a:off x="1915200" y="692280"/>
            <a:ext cx="53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"/>
              </a:rPr>
              <a:t>How can I find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814572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n't run across the road, stop and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n't write on the wall, write in you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n't  run in school, always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sten to the teacher, please, don't  tal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Picture 2" descr=""/>
          <p:cNvPicPr/>
          <p:nvPr/>
        </p:nvPicPr>
        <p:blipFill>
          <a:blip r:embed="rId1"/>
          <a:stretch/>
        </p:blipFill>
        <p:spPr>
          <a:xfrm>
            <a:off x="6156360" y="4581360"/>
            <a:ext cx="2376360" cy="1594080"/>
          </a:xfrm>
          <a:prstGeom prst="rect">
            <a:avLst/>
          </a:prstGeom>
          <a:ln w="0">
            <a:noFill/>
          </a:ln>
        </p:spPr>
      </p:pic>
      <p:sp>
        <p:nvSpPr>
          <p:cNvPr id="1651" name="TextBox 3"/>
          <p:cNvSpPr/>
          <p:nvPr/>
        </p:nvSpPr>
        <p:spPr>
          <a:xfrm>
            <a:off x="2178720" y="54936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"/>
              </a:rPr>
              <a:t>Remember !!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79581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Give yourself a sco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74613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xcellent job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lesson was very informative. I’ve got a lot of useful information. I was active. I answered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Good job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lesson was quite interesting. I’ve got some information. I understood almost everything. But I was a little tensed. I've made a few mist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ry again. Good lu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lesson was dull. It was difficult for me to take part in it. I’ve made a lot of mistakes. I wasn’t ready fo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4" name="Picture 3" descr=""/>
          <p:cNvPicPr/>
          <p:nvPr/>
        </p:nvPicPr>
        <p:blipFill>
          <a:blip r:embed="rId1"/>
          <a:stretch/>
        </p:blipFill>
        <p:spPr>
          <a:xfrm>
            <a:off x="7920000" y="4319640"/>
            <a:ext cx="973080" cy="129060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4" descr=""/>
          <p:cNvPicPr/>
          <p:nvPr/>
        </p:nvPicPr>
        <p:blipFill>
          <a:blip r:embed="rId2"/>
          <a:stretch/>
        </p:blipFill>
        <p:spPr>
          <a:xfrm>
            <a:off x="7559640" y="1260360"/>
            <a:ext cx="1260360" cy="130356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5" descr=""/>
          <p:cNvPicPr/>
          <p:nvPr/>
        </p:nvPicPr>
        <p:blipFill>
          <a:blip r:embed="rId3"/>
          <a:stretch/>
        </p:blipFill>
        <p:spPr>
          <a:xfrm>
            <a:off x="7740720" y="2879640"/>
            <a:ext cx="1079280" cy="1123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1"/>
          <p:cNvSpPr/>
          <p:nvPr/>
        </p:nvSpPr>
        <p:spPr>
          <a:xfrm>
            <a:off x="90360" y="1714680"/>
            <a:ext cx="908532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68a1c"/>
                </a:solidFill>
                <a:latin typeface="Corbel"/>
              </a:rPr>
              <a:t>THANK YOU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68a1c"/>
                </a:solidFill>
                <a:latin typeface="Corbel"/>
              </a:rPr>
              <a:t>BEST WISHES TO ALL OF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AutoShape 2"/>
          <p:cNvSpPr/>
          <p:nvPr/>
        </p:nvSpPr>
        <p:spPr>
          <a:xfrm>
            <a:off x="7572240" y="6373800"/>
            <a:ext cx="978120" cy="484200"/>
          </a:xfrm>
          <a:prstGeom prst="rightArrow">
            <a:avLst>
              <a:gd name="adj1" fmla="val 100000"/>
              <a:gd name="adj2" fmla="val 202007"/>
            </a:avLst>
          </a:prstGeom>
          <a:solidFill>
            <a:srgbClr val="892d4e"/>
          </a:solidFill>
          <a:ln w="19080">
            <a:solidFill>
              <a:srgbClr val="6521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WordArt 1"/>
          <p:cNvSpPr txBox="1"/>
          <p:nvPr/>
        </p:nvSpPr>
        <p:spPr>
          <a:xfrm>
            <a:off x="380880" y="2209680"/>
            <a:ext cx="8153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ood bye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1" descr=""/>
          <p:cNvPicPr/>
          <p:nvPr/>
        </p:nvPicPr>
        <p:blipFill>
          <a:blip r:embed="rId1"/>
          <a:stretch/>
        </p:blipFill>
        <p:spPr>
          <a:xfrm>
            <a:off x="3419640" y="836640"/>
            <a:ext cx="2160360" cy="197964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2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23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3" descr=""/>
          <p:cNvPicPr/>
          <p:nvPr/>
        </p:nvPicPr>
        <p:blipFill>
          <a:blip r:embed="rId3"/>
          <a:stretch/>
        </p:blipFill>
        <p:spPr>
          <a:xfrm>
            <a:off x="6300720" y="1079640"/>
            <a:ext cx="2832120" cy="244944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4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27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5" descr=""/>
          <p:cNvPicPr/>
          <p:nvPr/>
        </p:nvPicPr>
        <p:blipFill>
          <a:blip r:embed="rId5"/>
          <a:stretch/>
        </p:blipFill>
        <p:spPr>
          <a:xfrm>
            <a:off x="250920" y="3500280"/>
            <a:ext cx="2340000" cy="291816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6" descr=""/>
          <p:cNvPicPr/>
          <p:nvPr/>
        </p:nvPicPr>
        <p:blipFill>
          <a:blip r:embed="rId6"/>
          <a:stretch/>
        </p:blipFill>
        <p:spPr>
          <a:xfrm>
            <a:off x="2843280" y="3573360"/>
            <a:ext cx="2482920" cy="26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6" name="Picture 1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280360" cy="5940360"/>
          </a:xfrm>
          <a:prstGeom prst="rect">
            <a:avLst/>
          </a:prstGeom>
          <a:ln w="0">
            <a:noFill/>
          </a:ln>
        </p:spPr>
      </p:pic>
      <p:sp>
        <p:nvSpPr>
          <p:cNvPr id="1587" name="Rectangle 2"/>
          <p:cNvSpPr/>
          <p:nvPr/>
        </p:nvSpPr>
        <p:spPr>
          <a:xfrm>
            <a:off x="1908000" y="260280"/>
            <a:ext cx="60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PHONETIC DRIL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you like to be more indepen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s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blems do teens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need pocket mone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tired of doing your home-t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good at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have a lot of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Box 2"/>
          <p:cNvSpPr/>
          <p:nvPr/>
        </p:nvSpPr>
        <p:spPr>
          <a:xfrm>
            <a:off x="1384200" y="333360"/>
            <a:ext cx="668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"/>
              </a:rPr>
              <a:t>Let’s speak toge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23720"/>
            <a:ext cx="82281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3" descr=""/>
          <p:cNvPicPr/>
          <p:nvPr/>
        </p:nvPicPr>
        <p:blipFill>
          <a:blip r:embed="rId1"/>
          <a:stretch/>
        </p:blipFill>
        <p:spPr>
          <a:xfrm>
            <a:off x="6480000" y="539640"/>
            <a:ext cx="2435400" cy="380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93" name="Picture 4" descr=""/>
          <p:cNvPicPr/>
          <p:nvPr/>
        </p:nvPicPr>
        <p:blipFill>
          <a:blip r:embed="rId2"/>
          <a:stretch/>
        </p:blipFill>
        <p:spPr>
          <a:xfrm>
            <a:off x="5580000" y="3600360"/>
            <a:ext cx="3014640" cy="3257640"/>
          </a:xfrm>
          <a:prstGeom prst="rect">
            <a:avLst/>
          </a:prstGeom>
          <a:ln w="9360">
            <a:solidFill>
              <a:srgbClr val="005c00"/>
            </a:solidFill>
            <a:miter/>
          </a:ln>
        </p:spPr>
      </p:pic>
      <p:pic>
        <p:nvPicPr>
          <p:cNvPr id="1594" name="Picture 5" descr=""/>
          <p:cNvPicPr/>
          <p:nvPr/>
        </p:nvPicPr>
        <p:blipFill>
          <a:blip r:embed="rId3"/>
          <a:stretch/>
        </p:blipFill>
        <p:spPr>
          <a:xfrm>
            <a:off x="2340000" y="3780000"/>
            <a:ext cx="3240000" cy="2879640"/>
          </a:xfrm>
          <a:prstGeom prst="rect">
            <a:avLst/>
          </a:prstGeom>
          <a:ln w="9360">
            <a:solidFill>
              <a:srgbClr val="005c00"/>
            </a:solidFill>
            <a:miter/>
          </a:ln>
        </p:spPr>
      </p:pic>
      <p:pic>
        <p:nvPicPr>
          <p:cNvPr id="1595" name="Picture 6" descr=""/>
          <p:cNvPicPr/>
          <p:nvPr/>
        </p:nvPicPr>
        <p:blipFill>
          <a:blip r:embed="rId4"/>
          <a:stretch/>
        </p:blipFill>
        <p:spPr>
          <a:xfrm>
            <a:off x="0" y="360360"/>
            <a:ext cx="2340000" cy="3240000"/>
          </a:xfrm>
          <a:prstGeom prst="rect">
            <a:avLst/>
          </a:prstGeom>
          <a:ln w="9360">
            <a:solidFill>
              <a:srgbClr val="005c00"/>
            </a:solidFill>
            <a:miter/>
          </a:ln>
        </p:spPr>
      </p:pic>
      <p:pic>
        <p:nvPicPr>
          <p:cNvPr id="1596" name="Picture 7" descr=""/>
          <p:cNvPicPr/>
          <p:nvPr/>
        </p:nvPicPr>
        <p:blipFill>
          <a:blip r:embed="rId5"/>
          <a:stretch/>
        </p:blipFill>
        <p:spPr>
          <a:xfrm>
            <a:off x="4319640" y="539640"/>
            <a:ext cx="2160360" cy="3419640"/>
          </a:xfrm>
          <a:prstGeom prst="rect">
            <a:avLst/>
          </a:prstGeom>
          <a:ln w="9360">
            <a:solidFill>
              <a:srgbClr val="005c00"/>
            </a:solidFill>
            <a:miter/>
          </a:ln>
        </p:spPr>
      </p:pic>
      <p:pic>
        <p:nvPicPr>
          <p:cNvPr id="1597" name="Picture 8" descr=""/>
          <p:cNvPicPr/>
          <p:nvPr/>
        </p:nvPicPr>
        <p:blipFill>
          <a:blip r:embed="rId6"/>
          <a:stretch/>
        </p:blipFill>
        <p:spPr>
          <a:xfrm>
            <a:off x="0" y="3600360"/>
            <a:ext cx="2879640" cy="319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8" name="Picture 9" descr=""/>
          <p:cNvPicPr/>
          <p:nvPr/>
        </p:nvPicPr>
        <p:blipFill>
          <a:blip r:embed="rId7"/>
          <a:stretch/>
        </p:blipFill>
        <p:spPr>
          <a:xfrm>
            <a:off x="2160720" y="179280"/>
            <a:ext cx="251928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9" name="Text Box 10"/>
          <p:cNvSpPr/>
          <p:nvPr/>
        </p:nvSpPr>
        <p:spPr>
          <a:xfrm>
            <a:off x="360360" y="2279520"/>
            <a:ext cx="8229600" cy="14353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 problems worry young people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0" name="Picture 11" descr=""/>
          <p:cNvPicPr/>
          <p:nvPr/>
        </p:nvPicPr>
        <p:blipFill>
          <a:blip r:embed="rId8"/>
          <a:stretch/>
        </p:blipFill>
        <p:spPr>
          <a:xfrm>
            <a:off x="7380360" y="251928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601" name="Text Box 12"/>
          <p:cNvSpPr/>
          <p:nvPr/>
        </p:nvSpPr>
        <p:spPr>
          <a:xfrm>
            <a:off x="166680" y="5580000"/>
            <a:ext cx="3973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Too much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Text Box 13"/>
          <p:cNvSpPr/>
          <p:nvPr/>
        </p:nvSpPr>
        <p:spPr>
          <a:xfrm>
            <a:off x="2519280" y="3681360"/>
            <a:ext cx="3398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With rel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Text Box 14"/>
          <p:cNvSpPr/>
          <p:nvPr/>
        </p:nvSpPr>
        <p:spPr>
          <a:xfrm>
            <a:off x="539640" y="900000"/>
            <a:ext cx="494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No girlfriend \ no boyfr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Text Box 15"/>
          <p:cNvSpPr/>
          <p:nvPr/>
        </p:nvSpPr>
        <p:spPr>
          <a:xfrm>
            <a:off x="4686480" y="5940360"/>
            <a:ext cx="413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Lack of pocket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Text Box 16"/>
          <p:cNvSpPr/>
          <p:nvPr/>
        </p:nvSpPr>
        <p:spPr>
          <a:xfrm>
            <a:off x="6659640" y="720720"/>
            <a:ext cx="2031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No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6" name="Group 1"/>
          <p:cNvGrpSpPr/>
          <p:nvPr/>
        </p:nvGrpSpPr>
        <p:grpSpPr>
          <a:xfrm>
            <a:off x="1260360" y="900000"/>
            <a:ext cx="7737120" cy="5759280"/>
            <a:chOff x="1260360" y="900000"/>
            <a:chExt cx="7737120" cy="5759280"/>
          </a:xfrm>
        </p:grpSpPr>
        <p:sp>
          <p:nvSpPr>
            <p:cNvPr id="1607" name="Line 2"/>
            <p:cNvSpPr/>
            <p:nvPr/>
          </p:nvSpPr>
          <p:spPr>
            <a:xfrm flipH="1" flipV="1">
              <a:off x="3756960" y="2753280"/>
              <a:ext cx="693360" cy="5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3"/>
            <p:cNvSpPr/>
            <p:nvPr/>
          </p:nvSpPr>
          <p:spPr>
            <a:xfrm>
              <a:off x="2109600" y="1534680"/>
              <a:ext cx="1935720" cy="1439640"/>
            </a:xfrm>
            <a:prstGeom prst="ellipse">
              <a:avLst/>
            </a:prstGeom>
            <a:solidFill>
              <a:srgbClr val="b4cd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Line 4"/>
            <p:cNvSpPr/>
            <p:nvPr/>
          </p:nvSpPr>
          <p:spPr>
            <a:xfrm flipH="1">
              <a:off x="3188520" y="3779280"/>
              <a:ext cx="977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5"/>
            <p:cNvSpPr/>
            <p:nvPr/>
          </p:nvSpPr>
          <p:spPr>
            <a:xfrm>
              <a:off x="1260360" y="3060000"/>
              <a:ext cx="1934640" cy="1437840"/>
            </a:xfrm>
            <a:prstGeom prst="ellipse">
              <a:avLst/>
            </a:prstGeom>
            <a:solidFill>
              <a:srgbClr val="b4cd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6"/>
            <p:cNvSpPr/>
            <p:nvPr/>
          </p:nvSpPr>
          <p:spPr>
            <a:xfrm flipH="1">
              <a:off x="3756960" y="4286880"/>
              <a:ext cx="693360" cy="50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Oval 7"/>
            <p:cNvSpPr/>
            <p:nvPr/>
          </p:nvSpPr>
          <p:spPr>
            <a:xfrm>
              <a:off x="2112480" y="4586760"/>
              <a:ext cx="1934640" cy="1440720"/>
            </a:xfrm>
            <a:prstGeom prst="ellipse">
              <a:avLst/>
            </a:prstGeom>
            <a:solidFill>
              <a:srgbClr val="b4cd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8"/>
            <p:cNvSpPr/>
            <p:nvPr/>
          </p:nvSpPr>
          <p:spPr>
            <a:xfrm>
              <a:off x="5129640" y="4497840"/>
              <a:ext cx="1440" cy="72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Oval 9"/>
            <p:cNvSpPr/>
            <p:nvPr/>
          </p:nvSpPr>
          <p:spPr>
            <a:xfrm>
              <a:off x="4164840" y="5218560"/>
              <a:ext cx="1936080" cy="1440720"/>
            </a:xfrm>
            <a:prstGeom prst="ellipse">
              <a:avLst/>
            </a:prstGeom>
            <a:solidFill>
              <a:srgbClr val="b4cd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10"/>
            <p:cNvSpPr/>
            <p:nvPr/>
          </p:nvSpPr>
          <p:spPr>
            <a:xfrm>
              <a:off x="5814000" y="4286880"/>
              <a:ext cx="683640" cy="50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Oval 11"/>
            <p:cNvSpPr/>
            <p:nvPr/>
          </p:nvSpPr>
          <p:spPr>
            <a:xfrm>
              <a:off x="6216840" y="4583520"/>
              <a:ext cx="1934280" cy="1437840"/>
            </a:xfrm>
            <a:prstGeom prst="ellipse">
              <a:avLst/>
            </a:prstGeom>
            <a:solidFill>
              <a:srgbClr val="b4cd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12"/>
            <p:cNvSpPr/>
            <p:nvPr/>
          </p:nvSpPr>
          <p:spPr>
            <a:xfrm>
              <a:off x="6094440" y="3779280"/>
              <a:ext cx="968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Oval 13"/>
            <p:cNvSpPr/>
            <p:nvPr/>
          </p:nvSpPr>
          <p:spPr>
            <a:xfrm>
              <a:off x="7062840" y="3058560"/>
              <a:ext cx="1934640" cy="1440720"/>
            </a:xfrm>
            <a:prstGeom prst="ellipse">
              <a:avLst/>
            </a:prstGeom>
            <a:solidFill>
              <a:srgbClr val="b4cd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14"/>
            <p:cNvSpPr/>
            <p:nvPr/>
          </p:nvSpPr>
          <p:spPr>
            <a:xfrm flipV="1">
              <a:off x="5814000" y="2753280"/>
              <a:ext cx="683640" cy="5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Oval 15"/>
            <p:cNvSpPr/>
            <p:nvPr/>
          </p:nvSpPr>
          <p:spPr>
            <a:xfrm>
              <a:off x="6213600" y="1531440"/>
              <a:ext cx="1936080" cy="1439640"/>
            </a:xfrm>
            <a:prstGeom prst="ellipse">
              <a:avLst/>
            </a:prstGeom>
            <a:solidFill>
              <a:srgbClr val="b4cd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16"/>
            <p:cNvSpPr/>
            <p:nvPr/>
          </p:nvSpPr>
          <p:spPr>
            <a:xfrm flipV="1">
              <a:off x="5129640" y="2334600"/>
              <a:ext cx="1440" cy="72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Oval 17"/>
            <p:cNvSpPr/>
            <p:nvPr/>
          </p:nvSpPr>
          <p:spPr>
            <a:xfrm>
              <a:off x="4160160" y="900000"/>
              <a:ext cx="1934280" cy="1440720"/>
            </a:xfrm>
            <a:prstGeom prst="ellipse">
              <a:avLst/>
            </a:prstGeom>
            <a:solidFill>
              <a:srgbClr val="b4cd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Oval 18"/>
            <p:cNvSpPr/>
            <p:nvPr/>
          </p:nvSpPr>
          <p:spPr>
            <a:xfrm>
              <a:off x="4160160" y="3060000"/>
              <a:ext cx="1934280" cy="1437840"/>
            </a:xfrm>
            <a:prstGeom prst="ellipse">
              <a:avLst/>
            </a:prstGeom>
            <a:solidFill>
              <a:srgbClr val="b4cd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s f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24" name="Picture 19" descr=""/>
          <p:cNvPicPr/>
          <p:nvPr/>
        </p:nvPicPr>
        <p:blipFill>
          <a:blip r:embed="rId1"/>
          <a:stretch/>
        </p:blipFill>
        <p:spPr>
          <a:xfrm>
            <a:off x="128520" y="179280"/>
            <a:ext cx="2390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5" name="Рисунок 5" descr="1-249.gif"/>
          <p:cNvPicPr/>
          <p:nvPr/>
        </p:nvPicPr>
        <p:blipFill>
          <a:blip r:embed="rId1"/>
          <a:stretch/>
        </p:blipFill>
        <p:spPr>
          <a:xfrm>
            <a:off x="5508720" y="620640"/>
            <a:ext cx="2949480" cy="248940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"/>
          <p:cNvPicPr/>
          <p:nvPr/>
        </p:nvPicPr>
        <p:blipFill>
          <a:blip r:embed="rId2"/>
          <a:stretch/>
        </p:blipFill>
        <p:spPr>
          <a:xfrm>
            <a:off x="0" y="3860640"/>
            <a:ext cx="2422440" cy="2997360"/>
          </a:xfrm>
          <a:prstGeom prst="rect">
            <a:avLst/>
          </a:prstGeom>
          <a:ln w="0">
            <a:noFill/>
          </a:ln>
        </p:spPr>
      </p:pic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comic"/>
              </a:rPr>
              <a:t>If you are tired …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Прямоугольник 4"/>
          <p:cNvSpPr/>
          <p:nvPr/>
        </p:nvSpPr>
        <p:spPr>
          <a:xfrm>
            <a:off x="1187280" y="1197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ick up, put down, stand up, turn r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Clap left, clap right, clap up, clap dow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Look left, look right, look up, look dow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Turn round, sit down, touch something...brow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int to your teacher, point to the do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Look at the window, look at the flo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Stand on your left leg, stand on your righ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Now sit down, touch something... whit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ut up your hands and touch your to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Cross your fingers, hold your nos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Bend your knees and shake your hea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Stamp your feet, touch something...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9" name="Picture 5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26193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AutoShape 1"/>
          <p:cNvSpPr/>
          <p:nvPr/>
        </p:nvSpPr>
        <p:spPr>
          <a:xfrm>
            <a:off x="3348000" y="3141720"/>
            <a:ext cx="1785960" cy="928800"/>
          </a:xfrm>
          <a:custGeom>
            <a:avLst/>
            <a:gdLst>
              <a:gd name="textAreaLeft" fmla="*/ 0 w 1785960"/>
              <a:gd name="textAreaRight" fmla="*/ 1786320 w 178596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2f2f2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AutoShape 3"/>
          <p:cNvSpPr/>
          <p:nvPr/>
        </p:nvSpPr>
        <p:spPr>
          <a:xfrm>
            <a:off x="1116000" y="1484280"/>
            <a:ext cx="2494080" cy="1195560"/>
          </a:xfrm>
          <a:custGeom>
            <a:avLst/>
            <a:gdLst>
              <a:gd name="textAreaLeft" fmla="*/ 0 w 2494080"/>
              <a:gd name="textAreaRight" fmla="*/ 2494440 w 2494080"/>
              <a:gd name="textAreaTop" fmla="*/ 298800 h 1195560"/>
              <a:gd name="textAreaBottom" fmla="*/ 89676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AutoShape 4"/>
          <p:cNvSpPr/>
          <p:nvPr/>
        </p:nvSpPr>
        <p:spPr>
          <a:xfrm>
            <a:off x="5214960" y="2857680"/>
            <a:ext cx="3000240" cy="857160"/>
          </a:xfrm>
          <a:custGeom>
            <a:avLst/>
            <a:gdLst>
              <a:gd name="textAreaLeft" fmla="*/ 0 w 3000240"/>
              <a:gd name="textAreaRight" fmla="*/ 3000600 w 30002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AutoShape 5"/>
          <p:cNvSpPr/>
          <p:nvPr/>
        </p:nvSpPr>
        <p:spPr>
          <a:xfrm>
            <a:off x="1116000" y="2997360"/>
            <a:ext cx="1928880" cy="1143000"/>
          </a:xfrm>
          <a:custGeom>
            <a:avLst/>
            <a:gdLst>
              <a:gd name="textAreaLeft" fmla="*/ 0 w 1928880"/>
              <a:gd name="textAreaRight" fmla="*/ 1929240 w 1928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the end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AutoShape 6"/>
          <p:cNvSpPr/>
          <p:nvPr/>
        </p:nvSpPr>
        <p:spPr>
          <a:xfrm>
            <a:off x="6286680" y="4071960"/>
            <a:ext cx="2143080" cy="1214280"/>
          </a:xfrm>
          <a:custGeom>
            <a:avLst/>
            <a:gdLst>
              <a:gd name="textAreaLeft" fmla="*/ 0 w 2143080"/>
              <a:gd name="textAreaRight" fmla="*/ 2143440 w 21430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AutoShape 7"/>
          <p:cNvSpPr/>
          <p:nvPr/>
        </p:nvSpPr>
        <p:spPr>
          <a:xfrm>
            <a:off x="395280" y="4365720"/>
            <a:ext cx="2786040" cy="1071360"/>
          </a:xfrm>
          <a:custGeom>
            <a:avLst/>
            <a:gdLst>
              <a:gd name="textAreaLeft" fmla="*/ 0 w 2786040"/>
              <a:gd name="textAreaRight" fmla="*/ 2786400 w 2786040"/>
              <a:gd name="textAreaTop" fmla="*/ 267840 h 1071360"/>
              <a:gd name="textAreaBottom" fmla="*/ 8035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AutoShape 8"/>
          <p:cNvSpPr/>
          <p:nvPr/>
        </p:nvSpPr>
        <p:spPr>
          <a:xfrm>
            <a:off x="5857920" y="5500800"/>
            <a:ext cx="2428920" cy="1214280"/>
          </a:xfrm>
          <a:custGeom>
            <a:avLst/>
            <a:gdLst>
              <a:gd name="textAreaLeft" fmla="*/ 0 w 2428920"/>
              <a:gd name="textAreaRight" fmla="*/ 2429280 w 242892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Text Box 9"/>
          <p:cNvSpPr/>
          <p:nvPr/>
        </p:nvSpPr>
        <p:spPr>
          <a:xfrm>
            <a:off x="395280" y="4437000"/>
            <a:ext cx="285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right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Text Box 10"/>
          <p:cNvSpPr/>
          <p:nvPr/>
        </p:nvSpPr>
        <p:spPr>
          <a:xfrm>
            <a:off x="5786280" y="57150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left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AutoShape 11"/>
          <p:cNvSpPr/>
          <p:nvPr/>
        </p:nvSpPr>
        <p:spPr>
          <a:xfrm>
            <a:off x="5143680" y="1500120"/>
            <a:ext cx="3000240" cy="1214640"/>
          </a:xfrm>
          <a:custGeom>
            <a:avLst/>
            <a:gdLst>
              <a:gd name="textAreaLeft" fmla="*/ 0 w 3000240"/>
              <a:gd name="textAreaRight" fmla="*/ 3000600 w 300024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Text Box 12"/>
          <p:cNvSpPr/>
          <p:nvPr/>
        </p:nvSpPr>
        <p:spPr>
          <a:xfrm>
            <a:off x="5148360" y="155736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corner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AutoShape 13"/>
          <p:cNvSpPr/>
          <p:nvPr/>
        </p:nvSpPr>
        <p:spPr>
          <a:xfrm>
            <a:off x="3635280" y="4869000"/>
            <a:ext cx="1428840" cy="928440"/>
          </a:xfrm>
          <a:custGeom>
            <a:avLst/>
            <a:gdLst>
              <a:gd name="textAreaLeft" fmla="*/ 0 w 1428840"/>
              <a:gd name="textAreaRight" fmla="*/ 1429200 w 142884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Text Box 14"/>
          <p:cNvSpPr/>
          <p:nvPr/>
        </p:nvSpPr>
        <p:spPr>
          <a:xfrm>
            <a:off x="3780000" y="5013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Text Box 15"/>
          <p:cNvSpPr/>
          <p:nvPr/>
        </p:nvSpPr>
        <p:spPr>
          <a:xfrm>
            <a:off x="1116000" y="189000"/>
            <a:ext cx="6300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Prepositions of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94920" y="333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….the street, then turn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urists walked……the Tower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re …………..of the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‘s meet …………of the street at 8 o’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lowers all……….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2:03:20Z</dcterms:created>
  <dc:creator>USER</dc:creator>
  <dc:description/>
  <dc:language>en-US</dc:language>
  <cp:lastModifiedBy>ULI</cp:lastModifiedBy>
  <dcterms:modified xsi:type="dcterms:W3CDTF">2011-01-20T19:39:20Z</dcterms:modified>
  <cp:revision>34</cp:revision>
  <dc:subject/>
  <dc:title>Слайд 1</dc:title>
</cp:coreProperties>
</file>