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B279-E5C1-4393-85E3-9A3B7FB1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12DD-0746-46CA-81DF-634C724B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C8F9-26B0-4D02-B704-44C6FAF7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95C7-DF40-49D1-958A-3AFBE3EC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6725-60A1-4F7F-9C27-9358E151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2E05-5B34-4140-8EAF-B0F02203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1626-6D3F-43A6-BB57-80AD7A30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6733-E752-4374-A104-181F283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250-0625-40D3-BF9B-F8D8E24E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1C7-EBC4-4C58-9889-E32D9B67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F09-2BC5-4FD8-81CF-C302CFB6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50D2-7651-4361-9068-3F7CE7B8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6304-CC52-498E-A6E1-97C85DC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5D5C-F29F-4970-B21B-7926984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A086-3991-49C9-89A0-B9DBD12A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4EF9-D4EF-415D-9F06-41BA5DB3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5F75-AEC2-4683-8EFB-8854CE5D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6FA7E-8620-4C1C-B90A-41F7982F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2287-0C3D-44D0-83A2-EDD5584C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4B70-EBA3-4E9C-97C9-D6761375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655B-34D2-4D6B-9AE8-051A0458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756C-684C-4B07-AC5B-8D86E0C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42B1-1F3C-4F2D-BD16-67CA33A7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9E1B-89A6-4C15-9059-DFBD1F3F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995E-DEDE-49C6-BEBD-AEDD0C702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850-550A-4801-B9A3-0AD817242A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1.xml"/><Relationship Id="rId12" Type="http://schemas.openxmlformats.org/officeDocument/2006/relationships/slide" Target="slide32.xml"/><Relationship Id="rId13" Type="http://schemas.openxmlformats.org/officeDocument/2006/relationships/slide" Target="slide33.xml"/><Relationship Id="rId14" Type="http://schemas.openxmlformats.org/officeDocument/2006/relationships/slide" Target="slide34.xml"/><Relationship Id="rId15" Type="http://schemas.openxmlformats.org/officeDocument/2006/relationships/slide" Target="slide35.xml"/><Relationship Id="rId16" Type="http://schemas.openxmlformats.org/officeDocument/2006/relationships/slide" Target="slide36.xml"/><Relationship Id="rId17" Type="http://schemas.openxmlformats.org/officeDocument/2006/relationships/slide" Target="slide37.xml"/><Relationship Id="rId18" Type="http://schemas.openxmlformats.org/officeDocument/2006/relationships/slide" Target="slide38.xml"/><Relationship Id="rId19" Type="http://schemas.openxmlformats.org/officeDocument/2006/relationships/slide" Target="slide39.xml"/><Relationship Id="rId20" Type="http://schemas.openxmlformats.org/officeDocument/2006/relationships/slide" Target="slide40.xml"/><Relationship Id="rId21" Type="http://schemas.openxmlformats.org/officeDocument/2006/relationships/slide" Target="slide4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uchportal.ru/load/305-1-0-35784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1280" y="3933720"/>
            <a:ext cx="85694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: «Фильмы-сказк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ого кинематографа»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йлова Е. Н., учитель начальных классов МБОУ СОШ № 4 МО город Горячий Ключ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Рисунок 6" descr="0402dvlcsnap2010020318h57m29s79.png"/>
          <p:cNvPicPr/>
          <p:nvPr/>
        </p:nvPicPr>
        <p:blipFill>
          <a:blip r:embed="rId1">
            <a:lum bright="-10000"/>
          </a:blip>
          <a:srcRect l="0" t="0" r="0" b="16020"/>
          <a:stretch/>
        </p:blipFill>
        <p:spPr>
          <a:xfrm>
            <a:off x="1619280" y="0"/>
            <a:ext cx="6013440" cy="3787920"/>
          </a:xfrm>
          <a:prstGeom prst="rect">
            <a:avLst/>
          </a:prstGeom>
          <a:ln w="0">
            <a:noFill/>
          </a:ln>
        </p:spPr>
      </p:pic>
      <p:pic>
        <p:nvPicPr>
          <p:cNvPr id="103" name="Svoya_Igra_Zastavka_raunda_2001_2013_(vmusice.net).mp3" descr=""/>
          <p:cNvPicPr/>
          <p:nvPr/>
        </p:nvPicPr>
        <p:blipFill>
          <a:blip r:embed="rId2"/>
          <a:stretch/>
        </p:blipFill>
        <p:spPr>
          <a:xfrm>
            <a:off x="17928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669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250920" y="46080"/>
            <a:ext cx="8785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 не волшебник, я только учус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Золушк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179280" y="115920"/>
            <a:ext cx="8785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епло ли тебе, девица, тепло ли тебе, красная? 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ы чего, дед, обалдел совсем?! Не видишь, у меня руки и ноги замерзли!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Морозко»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179280" y="115920"/>
            <a:ext cx="8856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сок, где мы познакомились, подружились, - это пол чуда. 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оящие чудеса впереди. Перила-то коралловые. 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а ну?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Марья-искусниц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08000" y="20520"/>
            <a:ext cx="8928000" cy="63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азаны, фазаны! 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ять не ощипаны? Не потрошены?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е потрошены! 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от я сейчас пришлю поварят и...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Королевство кривых зеркал»</a:t>
            </a:r>
            <a:r>
              <a:rPr b="0" lang="ru-RU" sz="4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Управляющая кнопка: назад 3">
            <a:hlinkClick r:id="rId1" action="ppaction://hlinksldjump"/>
          </p:cNvPr>
          <p:cNvSpPr/>
          <p:nvPr/>
        </p:nvSpPr>
        <p:spPr>
          <a:xfrm>
            <a:off x="12384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250920" y="189000"/>
            <a:ext cx="878508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Вам здесь нравится, сударыня? 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чень. 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у, в таком случае, спойте что-нибудь нам и пропляшите что-нибудь для нас. 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орошо. 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Золушка»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79280" y="189000"/>
            <a:ext cx="81439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Марья-искусниц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песня солдата Марья-искусница.mp3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1263600" cy="1263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487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95280" y="44280"/>
            <a:ext cx="8497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r>
              <a:rPr b="0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Золушка»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Добрый_Жук_Золушка.mp3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1295640" cy="129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158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108000" y="115920"/>
            <a:ext cx="89280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Королевство кривых зеркал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королевство кривых зеркал.mp3" descr=""/>
          <p:cNvPicPr/>
          <p:nvPr/>
        </p:nvPicPr>
        <p:blipFill>
          <a:blip r:embed="rId2"/>
          <a:stretch/>
        </p:blipFill>
        <p:spPr>
          <a:xfrm>
            <a:off x="3960720" y="220500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735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24000" y="169920"/>
            <a:ext cx="84960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Золушка»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Песня Золушки грустная.mp3" descr=""/>
          <p:cNvPicPr/>
          <p:nvPr/>
        </p:nvPicPr>
        <p:blipFill>
          <a:blip r:embed="rId2"/>
          <a:stretch/>
        </p:blipFill>
        <p:spPr>
          <a:xfrm>
            <a:off x="4030560" y="1932120"/>
            <a:ext cx="10828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2644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395280" y="11592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Морозко»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Кукушечка  песня Настеньки.mp3" descr=""/>
          <p:cNvPicPr/>
          <p:nvPr/>
        </p:nvPicPr>
        <p:blipFill>
          <a:blip r:embed="rId2"/>
          <a:stretch/>
        </p:blipFill>
        <p:spPr>
          <a:xfrm>
            <a:off x="4145040" y="1773360"/>
            <a:ext cx="996840" cy="995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3696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едставление команд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 раунд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9280" y="1268280"/>
          <a:ext cx="8785440" cy="4754520"/>
        </p:xfrm>
        <a:graphic>
          <a:graphicData uri="http://schemas.openxmlformats.org/drawingml/2006/table">
            <a:tbl>
              <a:tblPr/>
              <a:tblGrid>
                <a:gridCol w="3878280"/>
                <a:gridCol w="1028880"/>
                <a:gridCol w="1030320"/>
                <a:gridCol w="925560"/>
                <a:gridCol w="927000"/>
                <a:gridCol w="9954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фильм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«Золушка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«Королевство кривых зеркал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8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9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0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«Марья-искусница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1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2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3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4" action="ppaction://hlinksldjump"/>
                        </a:rPr>
                        <a:t>8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5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«Морозко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6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7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8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9" action="ppaction://hlinksldjump"/>
                        </a:rPr>
                        <a:t>8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0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8" name="Управляющая кнопка: в конец 3">
            <a:hlinkClick r:id="rId21" action="ppaction://hlinksldjump"/>
          </p:cNvPr>
          <p:cNvSpPr/>
          <p:nvPr/>
        </p:nvSpPr>
        <p:spPr>
          <a:xfrm>
            <a:off x="64296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6463" y="10800"/>
                </a:moveTo>
                <a:lnTo>
                  <a:pt x="5958" y="17806"/>
                </a:lnTo>
                <a:lnTo>
                  <a:pt x="5958" y="3794"/>
                </a:lnTo>
                <a:close/>
              </a:path>
              <a:path fill="darken" w="25929" h="21600">
                <a:moveTo>
                  <a:pt x="18308" y="3794"/>
                </a:moveTo>
                <a:lnTo>
                  <a:pt x="18308" y="17806"/>
                </a:lnTo>
                <a:lnTo>
                  <a:pt x="19971" y="17806"/>
                </a:lnTo>
                <a:lnTo>
                  <a:pt x="19971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svoya_igra_zastavka_(vmusice.net).mp3" descr=""/>
          <p:cNvPicPr/>
          <p:nvPr/>
        </p:nvPicPr>
        <p:blipFill>
          <a:blip r:embed="rId22"/>
          <a:stretch/>
        </p:blipFill>
        <p:spPr>
          <a:xfrm>
            <a:off x="5526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6084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250920" y="189000"/>
            <a:ext cx="8642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помог Золушке попа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бал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ея.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2"/>
          <p:cNvSpPr/>
          <p:nvPr/>
        </p:nvSpPr>
        <p:spPr>
          <a:xfrm>
            <a:off x="108000" y="189000"/>
            <a:ext cx="892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каком добром насекомом пела Золушка в фильме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 жуке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250920" y="189000"/>
            <a:ext cx="8785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м году в СССР вышел фильм «Золушка»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1947 году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/>
          <p:cNvSpPr/>
          <p:nvPr/>
        </p:nvSpPr>
        <p:spPr>
          <a:xfrm>
            <a:off x="179280" y="189000"/>
            <a:ext cx="8785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размер обуви носила актриса, исполнившая роль Золушк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1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24000" y="115920"/>
            <a:ext cx="856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актрису, исполнившую роль Золушк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нина Жеймо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324000" y="115920"/>
            <a:ext cx="8424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бабушка называла внучку? 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удовище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428760" y="189000"/>
            <a:ext cx="8464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 по счёту был король Йагупоп? 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Йагупоп 77-й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324000" y="189000"/>
            <a:ext cx="8640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оисходила смена пажеского караула в королевстве кривых зеркал? 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хлопать в ладоши, прокричать слово «ключ»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179280" y="115920"/>
            <a:ext cx="878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режиссёра фильма «Королевство кривых зеркал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лександр Ро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авила игры: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764640"/>
            <a:ext cx="87948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ок участия команд определяется жеребьёвк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 и 2 раундах команда выбирает тему и стоимость вопроса по своему желанию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бсуждение ответа на вопрос команде даётся 15 секунд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3 раунде все команды участвуют одновременно, ответ на вопрос даёт команда, которая быстрее всех подняла сигнальную карточк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неправильный ответ у команды списываются очки по стоимости вопро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ачи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2"/>
          <p:cNvSpPr/>
          <p:nvPr/>
        </p:nvSpPr>
        <p:spPr>
          <a:xfrm>
            <a:off x="250920" y="0"/>
            <a:ext cx="878508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о, что в основу сценария ленты был положен сюжет повести детского писателя "Королевство кривых зеркал». Назовите имя и фамилию этого писат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италий Губарев</a:t>
            </a:r>
            <a:r>
              <a:rPr b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428760" y="333360"/>
            <a:ext cx="8464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похитил Марью- искусницу? 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дяной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179280" y="26028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беда приключилась у медвежат? 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едушка попал в капкан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179280" y="114480"/>
            <a:ext cx="8785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ую плату водяной заплатил за импортные коралловые перила? 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000 пудов осетровой икры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179280" y="189000"/>
            <a:ext cx="885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написал сценарий к фильму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вгений Шварц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108000" y="115920"/>
            <a:ext cx="8856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ивлекло режиссёра фильма в этой истории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ключительная любовь к родине в образе солдата, вера в торжество добра над зл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179280" y="189000"/>
            <a:ext cx="87138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омощью каких слов папа Настеньки всегда избегал конфликта? 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олчу-молч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Управляющая кнопка: назад 4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2"/>
          <p:cNvSpPr/>
          <p:nvPr/>
        </p:nvSpPr>
        <p:spPr>
          <a:xfrm>
            <a:off x="252360" y="237960"/>
            <a:ext cx="8358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40 баллов</a:t>
            </a:r>
            <a:r>
              <a:rPr b="0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верную собачку Настеньки? 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япа.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250920" y="260280"/>
            <a:ext cx="856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6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дубинок Иван «отправил» в небо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7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250920" y="139680"/>
            <a:ext cx="871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8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ие края забрёл Иван, когда отправился из дому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края далёкие, неизведанные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 раунд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1844640"/>
          <a:ext cx="8928000" cy="3375000"/>
        </p:xfrm>
        <a:graphic>
          <a:graphicData uri="http://schemas.openxmlformats.org/drawingml/2006/table">
            <a:tbl>
              <a:tblPr/>
              <a:tblGrid>
                <a:gridCol w="3940200"/>
                <a:gridCol w="1047600"/>
                <a:gridCol w="1046160"/>
                <a:gridCol w="941400"/>
                <a:gridCol w="941400"/>
                <a:gridCol w="1011240"/>
              </a:tblGrid>
              <a:tr h="85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еро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7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Фразы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7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Музык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7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9" name="Управляющая кнопка: далее 3">
            <a:hlinkClick r:id="rId16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svoya_igra_zastavka_(vmusice.net).mp3" descr=""/>
          <p:cNvPicPr/>
          <p:nvPr/>
        </p:nvPicPr>
        <p:blipFill>
          <a:blip r:embed="rId17"/>
          <a:stretch/>
        </p:blipFill>
        <p:spPr>
          <a:xfrm>
            <a:off x="5158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6084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2"/>
          <p:cNvSpPr/>
          <p:nvPr/>
        </p:nvSpPr>
        <p:spPr>
          <a:xfrm>
            <a:off x="250920" y="11736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ой киностудии был снят фильм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 киностудии им. М. Горького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Управляющая кнопка: назад 3">
            <a:hlinkClick r:id="rId1" action="ppaction://hlinksldjump"/>
          </p:cNvPr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 раунд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611280" y="98100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: «Режиссёр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svoya_igra_zastavka_(vmusice.net).mp3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D:\Desktop\20160308-3.jpg"/>
          <p:cNvPicPr/>
          <p:nvPr/>
        </p:nvPicPr>
        <p:blipFill>
          <a:blip r:embed="rId2"/>
          <a:stretch/>
        </p:blipFill>
        <p:spPr>
          <a:xfrm>
            <a:off x="1403280" y="1889280"/>
            <a:ext cx="66978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6084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0 баллов 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50920" y="1197000"/>
            <a:ext cx="8785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является режиссёром трёх фильмов  из второго раунда? Назовите эти фильм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лександр Роу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Королевство кривых зеркал»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Марья-искусница», «Морозко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9680" y="1785960"/>
            <a:ext cx="86439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одведение </a:t>
            </a:r>
            <a:br>
              <a:rPr sz="4800"/>
            </a:b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тогов викторины</a:t>
            </a:r>
            <a:br>
              <a:rPr sz="4800"/>
            </a:b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97" name="Рисунок 4" descr="casos.png"/>
          <p:cNvPicPr/>
          <p:nvPr/>
        </p:nvPicPr>
        <p:blipFill>
          <a:blip r:embed="rId1"/>
          <a:stretch/>
        </p:blipFill>
        <p:spPr>
          <a:xfrm>
            <a:off x="2916360" y="2870280"/>
            <a:ext cx="391320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ные интернет-ресурсы: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17360" y="1052640"/>
            <a:ext cx="8928360" cy="83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Автор шаблона игры: Вовденко О.Л., учитель математики МБОУ СОШ № 61 им. М.И. Неделина  г. Липецк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uchportal.ru/load/305-1-0-3578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Картинка на титульном слайде: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yandex.ru/yandsearch?text=%D1%81%D0%B2%D0%BE%D1%8F%20%D0%B8%D0%B3%D1%80%D0%B0&amp;noreask=1&amp;pos=1&amp;rpt=simage&amp;lr=9&amp;img_url=http%3A%2F%2Fcs4463.userapi.com%2Fg16000362%2Fa_4b2c76ec.jpg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убок: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yandex.ru/yandsearch?p=5&amp;text=%D0%BF%D0%BE%D0%B4%D0%B2%D0%B5%D0%B4%D0%B5%D0%BD%D0%B8%D0%B5%20%D0%B8%D1%82%D0%BE%D0%B3%D0%BE%D0%B2%20%D0%B8%D0%B3%D1%80%D1%8B%20%D0%BA%D0%B0%D1%80%D1%82%D0%B8%D0%BD%D0%BA%D0%B0&amp;noreask=1&amp;pos=158&amp;rpt=simage&amp;lr=9&amp;img_url=http%3A%2F%2Flestroismousquetons.free.fr%2Fimages%2Ftrophy.p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Мелодия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oya_igra_zastavka_(vmusice.net)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vmusice.net/mp3/%F1%E2%EE%FF+%E8%E3%F0%E0+%E7%E0%F1%F2%E0%E2%EA%E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опросы для викторины с сайтов :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http://zanimatika.narod.ru/RF25_11.htm#Российское кино;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Garamond"/>
              </a:rPr>
              <a:t>http://www.solnet.ee/games/g7_v94.html; http://branto.ru/index/igra_ljubimoe_sovetskoe_kino_otvety_korolevstvo_krivykh_zerkal_kuda_nushrok_prikazal_zatochit_gurda/0-2229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Garamond"/>
              </a:rPr>
              <a:t>http://branto.ru/index/igra_ljubimoe_sovetskoe_kino_otvety_marja_iskusnica_kakaja_beda_prikljuchilas_u_medvezhat/0-2242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Garamond"/>
              </a:rPr>
              <a:t>http://branto.ru/index/igra_ljubimoe_sovetskoe_kino_otvety_morozko_skolko_ivan_oboroten_pozhertvoval_nishhemu/0-2218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Garamond"/>
              </a:rPr>
              <a:t>6. Песни из кинофильмов с сайта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Garamond"/>
              </a:rPr>
              <a:t>http://mp3davalka.com/files/%D0%B7%D0%BE%D0%BB%D1%83%D1%88%D0%BA%D0%B0%201947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7.Фото на слайде 3 раунда </a:t>
            </a:r>
            <a:r>
              <a:rPr b="0" lang="en-US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https://yandex.ru/images/search?img_url=http%3A%2F%2Fimg1.liveinternet.ru%2Fimages%2Fattach%2Fc%2F5%2F85%2F285%2F85285675_x_e22b884e.jpg&amp;text=%D1%84%D0%BE%D1%82%D0%BE%20%D0%B0%D0%BB%D0%B5%D0%BA%D1%81%D0%B0%D0%BD%D0%B4%D1%80%D0%B0%20%D1%80%D0%BE%D1%83&amp;noreask=1&amp;pos=2&amp;lr=35&amp;rpt=simag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79280" y="272880"/>
            <a:ext cx="878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главных героев фильма «Морозко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стенька, Иван, Морозко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08000" y="130320"/>
            <a:ext cx="892800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ласково и нежно мама называла Марфушеньку в фильме «Морозко»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ынцесс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179280" y="260280"/>
            <a:ext cx="878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</a:rPr>
              <a:t>3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опрос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ероиня какого фильма поёт песенку о добром насекомом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</a:rPr>
              <a:t>Золуш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108000" y="7920"/>
            <a:ext cx="8928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</a:rPr>
              <a:t>5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 чьё царство попали солдат-барабанщик и Иванушка в фильме «Марья-искусница»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</a:rPr>
              <a:t>Ответ 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</a:rPr>
              <a:t>В царство Водокрута </a:t>
            </a:r>
            <a:r>
              <a:rPr b="0" lang="en-US" sz="4800" spc="-1" strike="noStrike">
                <a:solidFill>
                  <a:srgbClr val="00b0f0"/>
                </a:solidFill>
                <a:latin typeface="Times New Roman"/>
              </a:rPr>
              <a:t>XIII</a:t>
            </a:r>
            <a:r>
              <a:rPr b="0" lang="ru-RU" sz="4800" spc="-1" strike="noStrike">
                <a:solidFill>
                  <a:srgbClr val="00b0f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108000" y="0"/>
            <a:ext cx="8856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</a:rPr>
              <a:t>70 балло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опрос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Расшифруйте имена персонажей Абаж, Анидаг, Гурд, Йагупоп. Из какого они фильма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Times New Roman"/>
              </a:rPr>
              <a:t>Ответ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</a:rPr>
              <a:t>Жаба, Гадина, Друг, Попугай, фильм «Королевство кривых зеркал»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User</cp:lastModifiedBy>
  <dcterms:modified xsi:type="dcterms:W3CDTF">2016-06-15T13:42:17Z</dcterms:modified>
  <cp:revision>154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