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4.png" ContentType="image/png"/>
  <Override PartName="/ppt/media/image8.jpeg" ContentType="image/jpeg"/>
  <Override PartName="/ppt/media/image26.jpeg" ContentType="image/jpeg"/>
  <Override PartName="/ppt/media/image5.jpeg" ContentType="image/jpeg"/>
  <Override PartName="/ppt/media/image16.jpeg" ContentType="image/jpeg"/>
  <Override PartName="/ppt/media/wind.wav" ContentType="audio/x-wav"/>
  <Override PartName="/ppt/media/image7.jpeg" ContentType="image/jpeg"/>
  <Override PartName="/ppt/media/image28.jpeg" ContentType="image/jpeg"/>
  <Override PartName="/ppt/media/image11.png" ContentType="image/png"/>
  <Override PartName="/ppt/media/image1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drumroll.wav" ContentType="audio/x-wav"/>
  <Override PartName="/ppt/media/image24.jpeg" ContentType="image/jpeg"/>
  <Override PartName="/ppt/media/image1.png" ContentType="image/png"/>
  <Override PartName="/ppt/media/image20.jpeg" ContentType="image/jpeg"/>
  <Override PartName="/ppt/media/image13.png" ContentType="image/png"/>
  <Override PartName="/ppt/media/image14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chimes.wav" ContentType="audio/x-wav"/>
  <Override PartName="/ppt/media/image21.jpeg" ContentType="image/jpeg"/>
  <Override PartName="/ppt/media/image9.png" ContentType="image/png"/>
  <Override PartName="/ppt/media/image22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C75A-5EC6-4177-A3B9-F095FE11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D471-756B-491A-BC95-60674BD1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369E8-CC3B-4D49-AF41-5E0A855B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EC7BD-8129-4D70-9C4A-566CDAEB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DA716-6E11-4775-AFF0-4CE49713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973A8-F272-4AA6-8EDC-4C4E04C5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B3E71-62A6-4866-AE60-7A47D967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05739-3E8C-4D36-83E2-7C612AA5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8B66D-51E4-4932-BC68-19EBC968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E31D5-3809-42CF-8BB2-445E1211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E785A-F62B-43CF-B5F1-B170C5B1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73DBC-3A86-4DCD-9E32-494D6EA9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EC9-7A69-43D5-85E8-4C606145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D50DC-ED17-4AF3-9254-4DD09E58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D6A41-743F-472B-9A2A-51ED9CF3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4C375-BF50-4FAE-A547-5AB9EE88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7A958-38BF-4357-8720-5FDD922F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D7ABC-51EC-4E44-A925-098F4E7D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3E24E-9DA0-492B-9770-E8BF279E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5C8EB-E810-4741-A7A3-E2C9EC21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C624D-F5B0-45F5-83C2-A0310E13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B14F1-0711-40F4-9941-30BF0F04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963EA-427C-4CC8-8591-1A70C2FB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C7C-3126-4696-8D28-C7EFD2B3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C9DB7-6821-4974-8A3D-A70E4ED2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16D3-A0C9-488B-9A2E-BF8A8AC19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309A-A494-4C8A-8D9D-41324D09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ED8C-D591-4E63-97F4-93A307F8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6AF5-E405-4FD3-A699-46ADC168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1983-3DE8-4E1C-B801-EBAC9BFB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4079-98FC-4575-ACA7-E15FE315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EE0F-13DC-4FCA-9AF3-E25FC455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A487-4795-40FE-8E8D-7EBCD7AB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FF62-B319-4488-84F2-025CEEE6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62B0-C88C-4CD8-8340-0CC3D83D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85CD-815B-49F0-A021-7C0520AE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55E9-27E7-4F83-8005-FDEB7470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4763-9F16-4AFA-A9E6-09DBF5F3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99AB3-C495-4F1B-A1DD-FB90B17F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38ADB-5830-41DE-A8F8-A19F7E34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D4D80-41D4-49B0-884F-4EC12B44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7B0EB-F509-4586-AEE6-9E933960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550AE-DDDE-4D08-8EBC-084D2645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16D-8869-417D-AB1A-B440CEB1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DAEF4-3BE7-4BAC-88D1-25CDE73E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0555A-CF84-4F3E-85BD-DD8FBEAE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BAA8F-F056-4005-BFB0-9862102D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7B1E9-E0D9-4DB3-9F1F-7D578C8D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79C09-24AA-437B-84AE-BB8F6056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424EA-E2DD-4A1E-80E2-60845268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97843-3020-42E7-A410-45FA0DB7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E4C5B-6669-4C9F-B9EC-CDA2C613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5B88B-6A89-441F-B6E0-88E796EE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640CF-00E5-44F3-B73D-6D9B26AB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74F7-C7FA-4AF4-A34A-9BAF8D6A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C41BB-5C7E-4F47-AAF2-8CF1B3BC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E37A9-EF01-4CCA-B178-ECA0F8EA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B8166-EDE7-4484-8180-872D9049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FF538-08A8-49CF-8124-1C3EE456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D665D-347C-4EFF-B7D9-5B25004D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62272-729C-4CDE-991A-F7884DD3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B958D-3B88-4365-BD69-5A521D1E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C8E91-8AE0-4180-9A21-BB5D6B56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87F82-2961-4DAE-BB10-BCCC588C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6B27C-3739-41DE-BA78-3F934628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5BB-85A4-4AA9-9A60-9E2E8B00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A908F-C070-4AD4-ACE4-ED3422FF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58677-7A89-4F25-9810-D9518C35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B79FE-A571-4253-BBDC-4F988888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BC80F-E2A4-4A9B-927F-B77EAEFC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535DD-2AD3-4ADC-ABBA-E22D1288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FED5A-BA58-41A2-99E9-CD8BDD7E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FAD55-6834-4F6D-B61B-B6B7F41B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3209C-1D1A-43EE-B074-64246153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D7B27-BCCA-4B6E-B042-6383B006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42137-FF70-4076-9856-6C42BCBA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0876-3512-4C50-B338-1D76043C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95AD1-3319-4F16-86B6-065C5CF6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88D28-B5DB-4711-97E8-467A7963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03C21-F17F-4D16-83C4-A264AA82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93F74-640C-4B0A-80FE-D08FD525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678E5-094C-4778-8154-CC311FBC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04EB2-2B2D-473B-8401-9B316FCE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CB8DF-BC07-4EF5-B5BE-415FCC2C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73658-B18D-419F-8CBC-46BAC4BB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902BA-F52C-4271-B74D-4C237AFA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EEF4E-31E4-475C-8416-3E31D7AD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B975-F969-43EA-87F1-4A564755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320C5-A924-4C3B-8E35-5844D122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CD5F2-46C7-4D21-88F8-93CEFE6D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BFA71-A4CE-4310-9107-4A3F7253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65B50-9AB5-463A-8615-F09D6022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16299-0010-4A7E-831A-FB1350FA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C6A8C-DA06-483D-984E-4C045D17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92403-C298-4E1D-9104-08A28507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43DB9-85DF-4BA3-B21C-D6C36B34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785D0-F5E6-4879-A65C-0FD6901F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B7EB0-741A-4D5C-90C2-72DCD367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40A4-993E-4D83-8904-8A0BE39C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46559-DB02-4EF4-B24A-12F4EE96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7BD24-CD90-4607-A3CF-129DB703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C38DD-1D6C-4E77-AFF7-5D5D7A09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39578-792F-4FDF-91F3-33B67300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607AB-B314-4774-BB15-F236A89E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4E5C8-F52B-4BD4-9805-73F3F44F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614F7-DFFF-4D54-9AC3-1429A578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22215-7FD0-4F46-A9AB-19E3B9A7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B4251-3041-48AD-A74D-8FE1DA7D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4681E-3650-4F0E-858E-2368CE58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281-2530-4AE5-B32F-0DEDE19F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2E343-509C-494E-9D74-97C6AC46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1810D-2577-4F6F-99EA-1A82398C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AEA4B-A1D0-421C-BBAA-F46CBA04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0BB14-E426-4368-96FD-2F2BB48F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B19E4-8BB1-49E5-A1C6-F1148EF2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D0261-23A3-43CD-A1EF-032DD0C3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01E67-5815-4324-A034-38F74A00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02D66-EDEA-4E08-B9D5-F7DFF9B59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2097D-A204-4D7C-89DA-609BA2EA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D73B0-9133-404E-B6A4-6D414FC6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43D6-3281-4BAB-AE59-236B366081C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FDF6-BE52-4604-9512-946AF4ECFBF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EEC4-45F0-48B0-A669-62DFB6D620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2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B656-B478-4714-8428-B5B076E25FD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6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15EB-5717-440E-A1C6-0C53077AA76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86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3240-CD80-44EE-8A2E-5EA541D6126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0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FE56-DEDE-4E59-98F8-C0E40400DB6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4518-D279-41FC-8D0A-4BFECD94341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1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B54D-5C2A-43E2-B597-9A457A80F25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059F-00E8-4DEE-A067-807DA4C038B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WordArt 4"/>
          <p:cNvSpPr txBox="1"/>
          <p:nvPr/>
        </p:nvSpPr>
        <p:spPr>
          <a:xfrm>
            <a:off x="179280" y="260280"/>
            <a:ext cx="8713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pperplate Gothic Bold"/>
              </a:rPr>
              <a:t>The  connoisseurs  of  Great  Britain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pperplate Gothic Bold"/>
              <a:ea typeface="Copperplate Gothic Bold"/>
            </a:endParaRPr>
          </a:p>
        </p:txBody>
      </p:sp>
      <p:pic>
        <p:nvPicPr>
          <p:cNvPr id="441" name="Picture 5" descr="https://avatars.dzeninfra.ru/get-zen_doc/3512190/pub_62b0b173cbd9197865e542a1_62b0b31992892e6ea4c311f1/scale_1200"/>
          <p:cNvPicPr/>
          <p:nvPr/>
        </p:nvPicPr>
        <p:blipFill>
          <a:blip r:embed="rId1"/>
          <a:stretch/>
        </p:blipFill>
        <p:spPr>
          <a:xfrm>
            <a:off x="1332000" y="1557360"/>
            <a:ext cx="6467400" cy="4118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Заголовок 1" descr=""/>
          <p:cNvPicPr/>
          <p:nvPr/>
        </p:nvPicPr>
        <p:blipFill>
          <a:blip r:embed="rId1"/>
          <a:stretch/>
        </p:blipFill>
        <p:spPr>
          <a:xfrm>
            <a:off x="291960" y="-6480"/>
            <a:ext cx="8699760" cy="15494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t is the most populous city in Scotland, and the third most populous city in the United Kingdom. It is the fifth most visited city in the UK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8" name="Рисунок 4" descr="Глазго"/>
          <p:cNvPicPr/>
          <p:nvPr/>
        </p:nvPicPr>
        <p:blipFill>
          <a:blip r:embed="rId2"/>
          <a:stretch/>
        </p:blipFill>
        <p:spPr>
          <a:xfrm>
            <a:off x="4859280" y="1844640"/>
            <a:ext cx="3816360" cy="3529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Заголовок 1" descr=""/>
          <p:cNvPicPr/>
          <p:nvPr/>
        </p:nvPicPr>
        <p:blipFill>
          <a:blip r:embed="rId1"/>
          <a:stretch/>
        </p:blipFill>
        <p:spPr>
          <a:xfrm>
            <a:off x="291960" y="182520"/>
            <a:ext cx="8699760" cy="14511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0" y="1599840"/>
            <a:ext cx="5292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It is noted for its culture, architecture, and transport links.</a:t>
            </a:r>
            <a:r>
              <a:rPr b="1" lang="ru-RU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3000" spc="-1" strike="noStrike">
                <a:solidFill>
                  <a:srgbClr val="4e3b30"/>
                </a:solidFill>
                <a:latin typeface="Franklin Gothic Book"/>
              </a:rPr>
              <a:t>It is closely associated with the arts, particularly music; the popularity of the Beatles, who are regarded as the most influential band in history, contributed to the city's status as a tourist destination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1" name="Рисунок 4" descr="https://wikiway.com/upload/hl-photo/12c/ead/leverpool_103.jpg"/>
          <p:cNvPicPr/>
          <p:nvPr/>
        </p:nvPicPr>
        <p:blipFill>
          <a:blip r:embed="rId2"/>
          <a:stretch/>
        </p:blipFill>
        <p:spPr>
          <a:xfrm>
            <a:off x="5364000" y="2276640"/>
            <a:ext cx="3456000" cy="33843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ASK 3. </a:t>
            </a:r>
            <a:r>
              <a:rPr b="1" i="1" lang="en-US" sz="36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he longest, the largest, the oldest…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94920" y="1071720"/>
            <a:ext cx="760572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The largest city of Great Britain is…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What is the highest mountain in the United Kingdom?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What is the longest river in the UK?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Who is one of the best-known English writers?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Where is Loch Ness?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heel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The largest city of Great Britain i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Lond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What is the highest mountain in the United Kingdom? </a:t>
            </a:r>
            <a:r>
              <a:rPr b="1" i="1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Ben Nevi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What is the longest river in the UK? </a:t>
            </a:r>
            <a:r>
              <a:rPr b="1" i="1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The Sever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Who is one of the best-known English writers? </a:t>
            </a:r>
            <a:r>
              <a:rPr b="1" i="1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William Shakespear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Where is Loch Ness? </a:t>
            </a:r>
            <a:r>
              <a:rPr b="1" i="1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Scotlan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188640"/>
            <a:ext cx="8686800" cy="110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                </a:t>
            </a:r>
            <a:r>
              <a:rPr b="0" lang="en-US" sz="4400" spc="-1" strike="noStrike">
                <a:solidFill>
                  <a:srgbClr val="4e3b30"/>
                </a:solidFill>
                <a:latin typeface="Arial Black"/>
              </a:rPr>
              <a:t>TASK 4. </a:t>
            </a:r>
            <a:r>
              <a:rPr b="0" i="1" lang="en-US" sz="4400" spc="-1" strike="noStrike">
                <a:solidFill>
                  <a:srgbClr val="4e3b30"/>
                </a:solidFill>
                <a:latin typeface="Arial Black"/>
              </a:rPr>
              <a:t>The box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76" name="Picture 3" descr="C:\Documents and Settings\User\Рабочий стол\imgpreview.jpeg"/>
          <p:cNvPicPr/>
          <p:nvPr/>
        </p:nvPicPr>
        <p:blipFill>
          <a:blip r:embed="rId1"/>
          <a:stretch/>
        </p:blipFill>
        <p:spPr>
          <a:xfrm>
            <a:off x="2428920" y="1714680"/>
            <a:ext cx="4452840" cy="4452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official name of the country which we call Great Britain?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 flipV="1" rot="10800000">
            <a:off x="0" y="553608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333333"/>
                </a:solidFill>
                <a:latin typeface="Arial"/>
                <a:ea typeface="Times New Roman"/>
              </a:rPr>
              <a:t>The United Kingdom of Great Britain and Northern Irela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13" descr="https://i.pinimg.com/originals/94/6e/96/946e9630be4128faf6af71419ff85233.jpg"/>
          <p:cNvPicPr/>
          <p:nvPr/>
        </p:nvPicPr>
        <p:blipFill>
          <a:blip r:embed="rId1"/>
          <a:stretch/>
        </p:blipFill>
        <p:spPr>
          <a:xfrm>
            <a:off x="2700360" y="2205000"/>
            <a:ext cx="3600360" cy="3299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362800" cy="14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are the main colours of the Union flag?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6" descr="https://avatars.dzeninfra.ru/get-zen_doc/3512190/pub_62b0b173cbd9197865e542a1_62b0b31992892e6ea4c311f1/scale_1200"/>
          <p:cNvPicPr/>
          <p:nvPr/>
        </p:nvPicPr>
        <p:blipFill>
          <a:blip r:embed="rId1"/>
          <a:stretch/>
        </p:blipFill>
        <p:spPr>
          <a:xfrm>
            <a:off x="1763640" y="1628640"/>
            <a:ext cx="5345280" cy="3405240"/>
          </a:xfrm>
          <a:prstGeom prst="rect">
            <a:avLst/>
          </a:prstGeom>
          <a:ln w="0">
            <a:noFill/>
          </a:ln>
        </p:spPr>
      </p:pic>
      <p:sp>
        <p:nvSpPr>
          <p:cNvPr id="484" name="TextBox 5"/>
          <p:cNvSpPr/>
          <p:nvPr/>
        </p:nvSpPr>
        <p:spPr>
          <a:xfrm>
            <a:off x="684360" y="5661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lue, red and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favourite hot drink in Britain?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Box 4"/>
          <p:cNvSpPr/>
          <p:nvPr/>
        </p:nvSpPr>
        <p:spPr>
          <a:xfrm>
            <a:off x="1571760" y="5929200"/>
            <a:ext cx="58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https://podacha-blud.com/uploads/posts/2022-10/1665601489_35-podacha-blud-com-p-chaya-po-angliiski-krasivie-foto-42.jpg"/>
          <p:cNvPicPr/>
          <p:nvPr/>
        </p:nvPicPr>
        <p:blipFill>
          <a:blip r:embed="rId1"/>
          <a:stretch/>
        </p:blipFill>
        <p:spPr>
          <a:xfrm>
            <a:off x="1692360" y="1628640"/>
            <a:ext cx="5688000" cy="3630600"/>
          </a:xfrm>
          <a:prstGeom prst="rect">
            <a:avLst/>
          </a:prstGeom>
          <a:ln w="0">
            <a:noFill/>
          </a:ln>
        </p:spPr>
      </p:pic>
      <p:sp>
        <p:nvSpPr>
          <p:cNvPr id="488" name="TextBox 5"/>
          <p:cNvSpPr/>
          <p:nvPr/>
        </p:nvSpPr>
        <p:spPr>
          <a:xfrm>
            <a:off x="4788000" y="5732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was the Head of Great Britain and ruled for 70 years?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3"/>
          <p:cNvSpPr/>
          <p:nvPr/>
        </p:nvSpPr>
        <p:spPr>
          <a:xfrm>
            <a:off x="4427640" y="5373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Queen Elizabeth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6" descr="https://gorodovoy.ru/k2/news/1200/upload/upload/news/520694511265.jpg"/>
          <p:cNvPicPr/>
          <p:nvPr/>
        </p:nvPicPr>
        <p:blipFill>
          <a:blip r:embed="rId1"/>
          <a:stretch/>
        </p:blipFill>
        <p:spPr>
          <a:xfrm>
            <a:off x="1523880" y="1989000"/>
            <a:ext cx="5888160" cy="3311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the largest part of the UK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Picture 6" descr="https://motellook.ru/wp-content/uploads/6/4/0/6400cfccf1595f91748f4b1d5791ff53.jpeg"/>
          <p:cNvPicPr/>
          <p:nvPr/>
        </p:nvPicPr>
        <p:blipFill>
          <a:blip r:embed="rId1"/>
          <a:stretch/>
        </p:blipFill>
        <p:spPr>
          <a:xfrm>
            <a:off x="4284720" y="1557360"/>
            <a:ext cx="3735360" cy="4444920"/>
          </a:xfrm>
          <a:prstGeom prst="rect">
            <a:avLst/>
          </a:prstGeom>
          <a:ln w="0">
            <a:noFill/>
          </a:ln>
        </p:spPr>
      </p:pic>
      <p:sp>
        <p:nvSpPr>
          <p:cNvPr id="494" name="TextBox 5"/>
          <p:cNvSpPr/>
          <p:nvPr/>
        </p:nvSpPr>
        <p:spPr>
          <a:xfrm>
            <a:off x="395280" y="515772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298440" y="365040"/>
            <a:ext cx="8699400" cy="138456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6" descr="https://sportishka.com/uploads/posts/2022-04/1650651918_67-sportishka-com-p-londonskii-krasivo-foto-72.jpg"/>
          <p:cNvPicPr/>
          <p:nvPr/>
        </p:nvPicPr>
        <p:blipFill>
          <a:blip r:embed="rId2"/>
          <a:stretch/>
        </p:blipFill>
        <p:spPr>
          <a:xfrm>
            <a:off x="395280" y="1484280"/>
            <a:ext cx="3816360" cy="216072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7" descr="https://fb.ru/media/i/3/5/1/2/1/5/i/351215.jpg"/>
          <p:cNvPicPr/>
          <p:nvPr/>
        </p:nvPicPr>
        <p:blipFill>
          <a:blip r:embed="rId3"/>
          <a:stretch/>
        </p:blipFill>
        <p:spPr>
          <a:xfrm>
            <a:off x="5076720" y="1557360"/>
            <a:ext cx="3397320" cy="215892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8" descr="https://traveltimes.ru/wp-content/uploads/2021/12/cardiffPierheadMODIF-shutterstock_551048935.jpg"/>
          <p:cNvPicPr/>
          <p:nvPr/>
        </p:nvPicPr>
        <p:blipFill>
          <a:blip r:embed="rId4"/>
          <a:stretch/>
        </p:blipFill>
        <p:spPr>
          <a:xfrm>
            <a:off x="468360" y="4292640"/>
            <a:ext cx="3672000" cy="199548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9" descr="https://stella-clothes.ru/wp-content/uploads/b/0/0/b00f21fc7b9b08cc5be466b6dc93d601.jpeg"/>
          <p:cNvPicPr/>
          <p:nvPr/>
        </p:nvPicPr>
        <p:blipFill>
          <a:blip r:embed="rId5"/>
          <a:stretch/>
        </p:blipFill>
        <p:spPr>
          <a:xfrm>
            <a:off x="4859280" y="4076640"/>
            <a:ext cx="3457800" cy="2225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s the favorite topic to discuss in Great Britai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Picture 6" descr="https://image.winudf.com/v2/image/Y29tLndlYXRoZXIudG9tb3Jyb3cuZm9yZWNhc3QucmVkYXJfc2NyZWVuXzFfMTUzNDU2OTg0NV8wMjk/screen-1.jpg?fakeurl=1&amp;type=.jpg"/>
          <p:cNvPicPr/>
          <p:nvPr/>
        </p:nvPicPr>
        <p:blipFill>
          <a:blip r:embed="rId1"/>
          <a:stretch/>
        </p:blipFill>
        <p:spPr>
          <a:xfrm>
            <a:off x="1692360" y="1773360"/>
            <a:ext cx="6221160" cy="38876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6"/>
          <p:cNvSpPr/>
          <p:nvPr/>
        </p:nvSpPr>
        <p:spPr>
          <a:xfrm>
            <a:off x="5219640" y="61657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 Black"/>
              </a:rPr>
              <a:t>TASK.5 </a:t>
            </a:r>
            <a:r>
              <a:rPr b="1" i="1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LACES OF INTEREST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99" name="Picture 10" descr="https://wikiway.com/upload/hl-photo/451/147/big-ben_68.jpg"/>
          <p:cNvPicPr/>
          <p:nvPr/>
        </p:nvPicPr>
        <p:blipFill>
          <a:blip r:embed="rId1"/>
          <a:stretch/>
        </p:blipFill>
        <p:spPr>
          <a:xfrm>
            <a:off x="6588000" y="2421000"/>
            <a:ext cx="2154240" cy="31687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2" descr="https://wikiway.com/upload/hl-photo/53d/fb1/trafalgarskaya-ploshchad_98.jpg"/>
          <p:cNvPicPr/>
          <p:nvPr/>
        </p:nvPicPr>
        <p:blipFill>
          <a:blip r:embed="rId2"/>
          <a:stretch/>
        </p:blipFill>
        <p:spPr>
          <a:xfrm>
            <a:off x="2556000" y="1484280"/>
            <a:ext cx="3789360" cy="25210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4" descr="https://sportishka.com/uploads/posts/2022-04/1650551626_4-sportishka-com-p-gaid-park-v-londone-krasivo-foto-5.jpg"/>
          <p:cNvPicPr/>
          <p:nvPr/>
        </p:nvPicPr>
        <p:blipFill>
          <a:blip r:embed="rId3"/>
          <a:stretch/>
        </p:blipFill>
        <p:spPr>
          <a:xfrm>
            <a:off x="2556000" y="4145040"/>
            <a:ext cx="3744720" cy="24969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6" descr="https://wikiway.com/upload/hl-photo/708/78d/kafedralnyy-sobor-svyatogo-pavla_112.jpg"/>
          <p:cNvPicPr/>
          <p:nvPr/>
        </p:nvPicPr>
        <p:blipFill>
          <a:blip r:embed="rId4"/>
          <a:stretch/>
        </p:blipFill>
        <p:spPr>
          <a:xfrm>
            <a:off x="250920" y="2060640"/>
            <a:ext cx="2098440" cy="316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23"/>
          <p:cNvSpPr/>
          <p:nvPr/>
        </p:nvSpPr>
        <p:spPr>
          <a:xfrm>
            <a:off x="684360" y="1989000"/>
            <a:ext cx="777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e3b30"/>
                </a:solidFill>
                <a:latin typeface="Arial"/>
              </a:rPr>
              <a:t>Thank you for attentio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 Black"/>
              </a:rPr>
              <a:t>TOWNS AND CITIES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Прямоугольник 7"/>
          <p:cNvSpPr/>
          <p:nvPr/>
        </p:nvSpPr>
        <p:spPr>
          <a:xfrm>
            <a:off x="1187280" y="219852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chester                      Cardi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pool                          Edinbur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sgo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Bel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 Black"/>
              </a:rPr>
              <a:t>TASK 2.</a:t>
            </a:r>
            <a:r>
              <a:rPr b="1" i="1" lang="en-US" sz="4400" spc="-1" strike="noStrike">
                <a:solidFill>
                  <a:srgbClr val="660066"/>
                </a:solidFill>
                <a:latin typeface="Arial Black"/>
              </a:rPr>
              <a:t>GUESS THE CITIES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0" spc="-1" strike="noStrike">
                <a:solidFill>
                  <a:srgbClr val="660066"/>
                </a:solidFill>
                <a:latin typeface="Franklin Gothic Book"/>
              </a:rPr>
              <a:t>?</a:t>
            </a:r>
            <a:r>
              <a:rPr b="0" lang="en-US" sz="30000" spc="-1" strike="noStrike">
                <a:solidFill>
                  <a:srgbClr val="660066"/>
                </a:solidFill>
                <a:latin typeface="Franklin Gothic Book"/>
              </a:rPr>
              <a:t> </a:t>
            </a:r>
            <a:r>
              <a:rPr b="0" lang="ru-RU" sz="30000" spc="-1" strike="noStrike">
                <a:solidFill>
                  <a:srgbClr val="660066"/>
                </a:solidFill>
                <a:latin typeface="Franklin Gothic Book"/>
              </a:rPr>
              <a:t>?</a:t>
            </a:r>
            <a:r>
              <a:rPr b="0" lang="en-US" sz="30000" spc="-1" strike="noStrike">
                <a:solidFill>
                  <a:srgbClr val="660066"/>
                </a:solidFill>
                <a:latin typeface="Franklin Gothic Book"/>
              </a:rPr>
              <a:t> </a:t>
            </a:r>
            <a:r>
              <a:rPr b="0" lang="ru-RU" sz="30000" spc="-1" strike="noStrike">
                <a:solidFill>
                  <a:srgbClr val="660066"/>
                </a:solidFill>
                <a:latin typeface="Franklin Gothic Book"/>
              </a:rPr>
              <a:t>?</a:t>
            </a:r>
            <a:endParaRPr b="0" lang="en-US" sz="30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Rectangle 6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699400" cy="141444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95280" y="1599840"/>
            <a:ext cx="4248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1" lang="en-US" sz="3600" spc="-1" strike="noStrike">
                <a:solidFill>
                  <a:srgbClr val="4e3b30"/>
                </a:solidFill>
                <a:latin typeface="Franklin Gothic Book"/>
              </a:rPr>
              <a:t>It is the capital and largest city of England and the United Kingdom. It stands on the River Thames.</a:t>
            </a:r>
            <a:r>
              <a:rPr b="1" i="1" lang="en-US" sz="36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                      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3" name="Рисунок 4" descr="https://sportishka.com/uploads/posts/2022-04/1650651918_67-sportishka-com-p-londonskii-krasivo-foto-72.jpg"/>
          <p:cNvPicPr/>
          <p:nvPr/>
        </p:nvPicPr>
        <p:blipFill>
          <a:blip r:embed="rId2"/>
          <a:stretch/>
        </p:blipFill>
        <p:spPr>
          <a:xfrm>
            <a:off x="5003640" y="1773360"/>
            <a:ext cx="3529080" cy="3240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Rectangle 6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699760" cy="14079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0" y="1125360"/>
            <a:ext cx="529272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t is the capital of Scotland. The city has long been a centre of education, particularly in the fields of medicine,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literature, philosophy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and engineering. It is Scotland's second most populous city and the seventh most populous in the United Kingdom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6" name="Рисунок 4" descr="https://fb.ru/media/i/3/5/1/2/1/5/i/351215.jpg"/>
          <p:cNvPicPr/>
          <p:nvPr/>
        </p:nvPicPr>
        <p:blipFill>
          <a:blip r:embed="rId2"/>
          <a:stretch/>
        </p:blipFill>
        <p:spPr>
          <a:xfrm>
            <a:off x="5219640" y="2276640"/>
            <a:ext cx="3745080" cy="3024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291960" y="-6480"/>
            <a:ext cx="8699760" cy="15494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357120" y="1196640"/>
            <a:ext cx="4286160" cy="53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t is the capital of Wales and its largest city. It is the eleventh-largest city in the United Kingdom. It is a significant tourist centre and the most popular visitor destination in Wal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9" name="Рисунок 4" descr="https://traveltimes.ru/wp-content/uploads/2021/12/cardiffPierheadMODIF-shutterstock_551048935.jpg"/>
          <p:cNvPicPr/>
          <p:nvPr/>
        </p:nvPicPr>
        <p:blipFill>
          <a:blip r:embed="rId2"/>
          <a:stretch/>
        </p:blipFill>
        <p:spPr>
          <a:xfrm>
            <a:off x="4859280" y="1916280"/>
            <a:ext cx="3857760" cy="302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244440" y="-6480"/>
            <a:ext cx="8680320" cy="15494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t is the capital and largest city of Northern Ireland. It is the 12th-largest city in the United Kingdom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2" name="Содержимое 5" descr="https://stella-clothes.ru/wp-content/uploads/b/0/0/b00f21fc7b9b08cc5be466b6dc93d601.jpeg"/>
          <p:cNvPicPr/>
          <p:nvPr/>
        </p:nvPicPr>
        <p:blipFill>
          <a:blip r:embed="rId2"/>
          <a:stretch/>
        </p:blipFill>
        <p:spPr>
          <a:xfrm>
            <a:off x="4500720" y="1844640"/>
            <a:ext cx="4228920" cy="31402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1"/>
          <a:stretch/>
        </p:blipFill>
        <p:spPr>
          <a:xfrm>
            <a:off x="291960" y="182520"/>
            <a:ext cx="8699760" cy="14511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t is the third most visited city in the UK, after London and Edinburgh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It is well known as a city of sport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5" name="Рисунок 4" descr="https://wikiway.com/upload/hl-photo/acb/bb1/manchester_94.jpg"/>
          <p:cNvPicPr/>
          <p:nvPr/>
        </p:nvPicPr>
        <p:blipFill>
          <a:blip r:embed="rId2"/>
          <a:stretch/>
        </p:blipFill>
        <p:spPr>
          <a:xfrm>
            <a:off x="4716360" y="1773360"/>
            <a:ext cx="3768840" cy="3311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5:03:44Z</dcterms:created>
  <dc:creator>User</dc:creator>
  <dc:description/>
  <dc:language>en-US</dc:language>
  <cp:lastModifiedBy>User</cp:lastModifiedBy>
  <dcterms:modified xsi:type="dcterms:W3CDTF">2023-02-20T09:12:49Z</dcterms:modified>
  <cp:revision>125</cp:revision>
  <dc:subject/>
  <dc:title>Слайд 1</dc:title>
</cp:coreProperties>
</file>