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6A7B-413A-423D-A469-4A6E2A21A8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BF44-E580-4F07-BFDB-57C26D9E47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E99A-9EE8-4CBA-95E5-60407410E4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BBD8-E96A-4D26-A9A3-08D60C3861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8DE-C20B-4F90-8985-AA0DB6A1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FB65-B6F8-4776-B7EF-A3C75D75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CD6-3CA0-4BA1-BB9D-123F35AD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B1F-359C-47A6-9050-AB1AB67C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6D7-E774-4D9E-BC42-9F882CDC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5DA7-0BBC-467C-8D1F-FBA1DAF5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58B-AD2C-4252-823B-D5A78DA2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394-0B82-4165-83F5-A9DB44E6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1CB-59E0-4115-B148-D922D5C5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AD1-E7D7-4326-B943-24547848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2C7-A60E-493C-BDEA-A6C76FD1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518-A836-4A4B-96AC-5C630B6E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9FDF-34F1-4E4F-A57B-2F61DC2C51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281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Чтобы спорилось нужное дело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Чтобы в жизни не знать неудач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 урок отправляемся  смело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 мир примеров и разных зада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А девизом нашего урока будут такие слов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умать - коллективно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ешать - оперативно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Отвечать - доказательно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аботать - старательно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Times New Roman"/>
              </a:rPr>
              <a:t>Задача №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381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бы спуститься с Везувия, спартаковцы сплели лестницу:                                                           875м были сделаны из верёвок,                                         часть лестницы из ивовых прутьев составляла 20% от длины верёвочной части, а остальные 321 м были сделаны из виноградных лоз. Какова высота Везув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875:100∙20 = 175(м) – часть лестницы из ивовых прутье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875 + 175 + 321 = 1371(м) – высота Везув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: 1371мет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Найти процент от чи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бы найти процент от числа,           нуж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число разделить на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умножить на количество процен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27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Times New Roman"/>
              </a:rPr>
              <a:t>Пере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Прямоугольник 4" descr=""/>
          <p:cNvPicPr/>
          <p:nvPr/>
        </p:nvPicPr>
        <p:blipFill>
          <a:blip r:embed="rId1"/>
          <a:stretch/>
        </p:blipFill>
        <p:spPr>
          <a:xfrm>
            <a:off x="3492360" y="2451240"/>
            <a:ext cx="4681800" cy="15174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6" descr=""/>
          <p:cNvPicPr/>
          <p:nvPr/>
        </p:nvPicPr>
        <p:blipFill>
          <a:blip r:embed="rId2"/>
          <a:stretch/>
        </p:blipFill>
        <p:spPr>
          <a:xfrm>
            <a:off x="2054160" y="4853160"/>
            <a:ext cx="4243320" cy="15602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8" descr=""/>
          <p:cNvPicPr/>
          <p:nvPr/>
        </p:nvPicPr>
        <p:blipFill>
          <a:blip r:embed="rId3"/>
          <a:stretch/>
        </p:blipFill>
        <p:spPr>
          <a:xfrm>
            <a:off x="4578480" y="1268280"/>
            <a:ext cx="4462200" cy="160812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9" descr=""/>
          <p:cNvPicPr/>
          <p:nvPr/>
        </p:nvPicPr>
        <p:blipFill>
          <a:blip r:embed="rId4"/>
          <a:stretch/>
        </p:blipFill>
        <p:spPr>
          <a:xfrm>
            <a:off x="195120" y="2730600"/>
            <a:ext cx="3279960" cy="160344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10" descr=""/>
          <p:cNvPicPr/>
          <p:nvPr/>
        </p:nvPicPr>
        <p:blipFill>
          <a:blip r:embed="rId5"/>
          <a:stretch/>
        </p:blipFill>
        <p:spPr>
          <a:xfrm>
            <a:off x="0" y="1487520"/>
            <a:ext cx="5078520" cy="160956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11" descr=""/>
          <p:cNvPicPr/>
          <p:nvPr/>
        </p:nvPicPr>
        <p:blipFill>
          <a:blip r:embed="rId6"/>
          <a:stretch/>
        </p:blipFill>
        <p:spPr>
          <a:xfrm>
            <a:off x="3273480" y="3541680"/>
            <a:ext cx="54007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Times New Roman"/>
              </a:rPr>
              <a:t>2 урок. Би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Times New Roman"/>
              </a:rPr>
              <a:t>Задача №2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ышь весит 50 граммов, а слон 5 тонн. Сколько процентов составляет масса мышки от массы сло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132000" y="3755880"/>
            <a:ext cx="33116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0г = 0,05 кг      5т = 5000к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,05 : 5000 ∙100= 0,00001 ∙100 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 0,001% - составляет масса мышки от массы слон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твет: 0,001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Сколько процентов одно число составляет от другог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бы узнать, сколько процентов одно число составляет от другого, нужно                      1) разделить одно число на другое                            2) полученную дробь умножить на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Times New Roman"/>
              </a:rPr>
              <a:t>3 урок. Географ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Times New Roman"/>
              </a:rPr>
              <a:t>Задача №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ша занимает 150 млн кв. км, что составляет 30% поверхности Земли. Какова площадь всей поверхности Земли? Какова площадь поверхности, покрытой вод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150 : 30 ∙100 = 500(млн кв. км)  - площадь поверхности Зем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500 - 150 = 350(млн кв. км)  - площадь поверхности, покрытой вод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: 500 млн кв. км, 350 млн кв. к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Найти число по значению его процен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бы найти число по значению его процента, нужно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исло разделить на количество процен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  умножить на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Объект 2" descr=""/>
          <p:cNvPicPr/>
          <p:nvPr/>
        </p:nvPicPr>
        <p:blipFill>
          <a:blip r:embed="rId1"/>
          <a:stretch/>
        </p:blipFill>
        <p:spPr>
          <a:xfrm>
            <a:off x="255600" y="938160"/>
            <a:ext cx="84312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Times New Roman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90440" y="1125360"/>
            <a:ext cx="8326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Times New Roman"/>
              </a:rPr>
              <a:t>4 урок. Физ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Times New Roman"/>
              </a:rPr>
              <a:t>Задача №4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ая космическая скорость 7,78км/с. Вторая космическая скорость – 11, 18км/с.  На сколько процентов увеличивается скорость ракеты при переходе с первой на вторую скорост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11,18 – 7,78 = 3,4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м/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- изменилась скорость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3,4 : 7,78=0,4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 ≈ 0,44∙ 100 = 44% - изменилась скор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: на 4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427640" y="3860640"/>
            <a:ext cx="18493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Изменение величины в процент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бы узнать, на сколько процентов изменилась величина, нужно                                       1) найти разность величин                                         2) найти отношение разности к первоначальному значению величины                        3) выразить отношение в процент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6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69228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от закончился уро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одведём сейчас итог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ы много вспомнили, друзь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ез этого никак нельз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авила мы повторил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 практике их применил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 задачах, находя решень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азвиваем мы мышлень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амять и вниман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Закрепляем зн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Times New Roman"/>
              </a:rPr>
              <a:t>Лист контро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8360" y="2349360"/>
          <a:ext cx="7918560" cy="2279880"/>
        </p:xfrm>
        <a:graphic>
          <a:graphicData uri="http://schemas.openxmlformats.org/drawingml/2006/table">
            <a:tbl>
              <a:tblPr/>
              <a:tblGrid>
                <a:gridCol w="1111320"/>
                <a:gridCol w="828720"/>
                <a:gridCol w="1307880"/>
                <a:gridCol w="841320"/>
                <a:gridCol w="1027080"/>
                <a:gridCol w="933480"/>
                <a:gridCol w="935280"/>
                <a:gridCol w="933480"/>
              </a:tblGrid>
              <a:tr h="1121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Разминк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Устный опро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Истор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Биолог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Географ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Физик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Итоговая отмет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за ур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8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Отметка за выполненную рабо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3"/>
          <p:cNvSpPr/>
          <p:nvPr/>
        </p:nvSpPr>
        <p:spPr>
          <a:xfrm>
            <a:off x="1502640" y="1343520"/>
            <a:ext cx="62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b6bcf"/>
                </a:solidFill>
                <a:latin typeface="Times New Roman"/>
              </a:rPr>
              <a:t>Индивидуальный лист учащегося</a:t>
            </a:r>
            <a:r>
              <a:rPr b="1" lang="ru-RU" sz="1200" spc="-1" strike="noStrike">
                <a:solidFill>
                  <a:srgbClr val="6b6bc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6b6bcf"/>
                </a:solidFill>
                <a:latin typeface="Times New Roman"/>
              </a:rPr>
              <a:t>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А теперь, внимание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Домашнее задание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е вызовет оно проблем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Решенья ход известен всем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оставить синквей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 тему «Проценты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Times New Roman"/>
              </a:rPr>
              <a:t>Синквейн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 существитель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а прилагатель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и глаг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ложение из четырёх с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  слово-резю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Times New Roman"/>
              </a:rPr>
              <a:t>Рефлекс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87280" y="1341360"/>
          <a:ext cx="6367680" cy="4537080"/>
        </p:xfrm>
        <a:graphic>
          <a:graphicData uri="http://schemas.openxmlformats.org/drawingml/2006/table">
            <a:tbl>
              <a:tblPr/>
              <a:tblGrid>
                <a:gridCol w="3184560"/>
                <a:gridCol w="3183120"/>
              </a:tblGrid>
              <a:tr h="4537080">
                <a:tc>
                  <a:txBody>
                    <a:bodyPr lIns="0" rIns="0" tIns="0" bIns="0" anchor="ctr">
                      <a:noAutofit/>
                    </a:bodyPr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1. На уроке я рабо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2. Своей работой на уроке 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3. Урок для меня показал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4. За урок 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5. Мое настро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6. Материал урока мне бы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7. Домашнее задание мне каж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активно / пассив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доволен / не довол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коротким / длин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не устал / ус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стало лучше / стало хуж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понятен / не понят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полезен / бесполез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интересен / скуч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легким / труд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5400" indent="133200" algn="just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b6bcf"/>
                          </a:solidFill>
                          <a:latin typeface="Times New Roman"/>
                        </a:rPr>
                        <a:t>интересным / неинтерес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Объект 2" descr=""/>
          <p:cNvPicPr/>
          <p:nvPr/>
        </p:nvPicPr>
        <p:blipFill>
          <a:blip r:embed="rId1"/>
          <a:stretch/>
        </p:blipFill>
        <p:spPr>
          <a:xfrm>
            <a:off x="324000" y="1085760"/>
            <a:ext cx="83628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26560" y="3430080"/>
            <a:ext cx="6689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33cc"/>
                </a:solidFill>
                <a:latin typeface="Times New Roman"/>
              </a:rPr>
              <a:t>Тема урока:</a:t>
            </a:r>
            <a:br>
              <a:rPr sz="8000"/>
            </a:br>
            <a:r>
              <a:rPr b="1" lang="ru-RU" sz="8000" spc="-1" strike="noStrike">
                <a:solidFill>
                  <a:srgbClr val="0033cc"/>
                </a:solidFill>
                <a:latin typeface="Times New Roman"/>
              </a:rPr>
              <a:t>Процент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708360" y="4573440"/>
            <a:ext cx="12952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крепление навыка решения практических задач с использованием математического понятия "процент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Times New Roman"/>
              </a:rPr>
              <a:t>Что мы знаем о </a:t>
            </a:r>
            <a:r>
              <a:rPr b="1" lang="ru-RU" sz="4800" spc="-1" strike="noStrike">
                <a:solidFill>
                  <a:srgbClr val="6b6bcf"/>
                </a:solidFill>
                <a:latin typeface="Times New Roman"/>
              </a:rPr>
              <a:t>процента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% - какая это часть числ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ё целое – это сколько процентов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найти процент от числ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найти число по его процент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бы найти, какую часть первое число составляет от второго, нужно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бы перейти от процентов к десятичной дроби, нужно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бы перейти от десятичной дроби к        процентам, нужно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2803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6b6bcf"/>
                </a:solidFill>
                <a:latin typeface="Times New Roman"/>
              </a:rPr>
              <a:t>Где используются проценты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асто используются в повседневной жизни, а также при   изучении других школьных дисциплин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35344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Times New Roman"/>
              </a:rPr>
              <a:t>Расписание уро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611280" y="2286000"/>
            <a:ext cx="540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611280" y="1268280"/>
            <a:ext cx="6213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урок.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стор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</a:rPr>
              <a:t>Переме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 урок.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иолог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 урок.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еограф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</a:rPr>
              <a:t>Физминут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 уро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Физ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Times New Roman"/>
              </a:rPr>
              <a:t>1 урок. Истор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осстание Спартака (74 – 71г. до н.э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411280" y="2427120"/>
            <a:ext cx="38894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15-10-14T16:02:30Z</dcterms:modified>
  <cp:revision>91</cp:revision>
  <dc:subject/>
  <dc:title>Слайд 1</dc:title>
</cp:coreProperties>
</file>