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095C-C11E-46DA-8D01-4EC3497880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7D1B-3E97-4BAE-80DC-3BC0872422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7C9-69CD-4170-8170-C027402569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EBC7-3911-4901-B8DE-DDC04D0D72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B32-70A3-4982-8E76-E52E36D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718-2775-40B4-B239-0144EDE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90C-EB2E-4FED-A168-E5817576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DC3-C6F7-4834-8855-12E4C675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806-B554-44C3-81DC-2D31368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9ED-C606-4075-87E1-348BC5F1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50C-0EDE-49B3-83B2-F512196F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5F5-1353-41F6-B42B-7B01FA00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10D-29B7-4A32-927D-13FAA25D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1E8-8ABA-4E29-B6D3-13DB11CC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772-4ACA-4086-B284-393AAF6F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A8E-648D-4FCD-8274-0EE6659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EE38-BCDB-475F-B9BD-687614E3CC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281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тобы спорилось нужное дел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тобы в жизни не знать неудач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 урок отправляемся  смел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мир примеров и разных за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 девизом нашего урока будут такие слов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умать - коллектив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ешать - оператив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твечать - доказатель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ботать - старатель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Задача №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81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спуститься с Везувия, спартаковцы сплели лестницу:                                                           875м были сделаны из верёвок,                                         часть лестницы из ивовых прутьев составляла 20% от длины верёвочной части, а остальные 321 м были сделаны из виноградных лоз. Какова высота Везув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875:100∙20 = 175(м) – часть лестницы из ивовых прутье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875 + 175 + 321 = 1371(м) – высота Везу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1371мет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Найти процент от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найти процент от числа,           нуж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число разделить на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умножить на количество проц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27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Пер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Прямоугольник 4" descr=""/>
          <p:cNvPicPr/>
          <p:nvPr/>
        </p:nvPicPr>
        <p:blipFill>
          <a:blip r:embed="rId1"/>
          <a:stretch/>
        </p:blipFill>
        <p:spPr>
          <a:xfrm>
            <a:off x="3492360" y="2451240"/>
            <a:ext cx="4681800" cy="15174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6" descr=""/>
          <p:cNvPicPr/>
          <p:nvPr/>
        </p:nvPicPr>
        <p:blipFill>
          <a:blip r:embed="rId2"/>
          <a:stretch/>
        </p:blipFill>
        <p:spPr>
          <a:xfrm>
            <a:off x="2054160" y="4853160"/>
            <a:ext cx="4243320" cy="1560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8" descr=""/>
          <p:cNvPicPr/>
          <p:nvPr/>
        </p:nvPicPr>
        <p:blipFill>
          <a:blip r:embed="rId3"/>
          <a:stretch/>
        </p:blipFill>
        <p:spPr>
          <a:xfrm>
            <a:off x="4578480" y="1268280"/>
            <a:ext cx="4462200" cy="160812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9" descr=""/>
          <p:cNvPicPr/>
          <p:nvPr/>
        </p:nvPicPr>
        <p:blipFill>
          <a:blip r:embed="rId4"/>
          <a:stretch/>
        </p:blipFill>
        <p:spPr>
          <a:xfrm>
            <a:off x="195120" y="2730600"/>
            <a:ext cx="3279960" cy="16034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0" descr=""/>
          <p:cNvPicPr/>
          <p:nvPr/>
        </p:nvPicPr>
        <p:blipFill>
          <a:blip r:embed="rId5"/>
          <a:stretch/>
        </p:blipFill>
        <p:spPr>
          <a:xfrm>
            <a:off x="0" y="1487520"/>
            <a:ext cx="5078520" cy="16095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1" descr=""/>
          <p:cNvPicPr/>
          <p:nvPr/>
        </p:nvPicPr>
        <p:blipFill>
          <a:blip r:embed="rId6"/>
          <a:stretch/>
        </p:blipFill>
        <p:spPr>
          <a:xfrm>
            <a:off x="3273480" y="3541680"/>
            <a:ext cx="54007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2 урок. Би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Задача №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шь весит 50 граммов, а слон 5 тонн. Сколько процентов составляет масса мышки от массы сло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132000" y="3755880"/>
            <a:ext cx="3311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0г = 0,05 кг      5т = 5000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05 : 5000 ∙100= 0,00001 ∙100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 0,001% - составляет масса мышки от массы слон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: 0,00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колько процентов одно число составляет от друг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узнать, сколько процентов одно число составляет от другого, нужно                      1) разделить одно число на другое                            2) полученную дробь умножить на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3 урок. Географ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Задача №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ша занимает 150 млн кв. км, что составляет 30% поверхности Земли. Какова площадь всей поверхности Земли? Какова площадь поверхности, покрытой вод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150 : 30 ∙100 = 500(млн кв. км)  - площадь поверхности Зем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500 - 150 = 350(млн кв. км)  - площадь поверхности, покрытой вод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500 млн кв. км, 350 млн кв. 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Найти число по значению его проц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найти число по значению его процента, нужно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о разделить на количество проц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 умножить на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255600" y="938160"/>
            <a:ext cx="84312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90440" y="1125360"/>
            <a:ext cx="8326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4 урок. Физ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Задача №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космическая скорость 7,78км/с. Вторая космическая скорость – 11, 18км/с.  На сколько процентов увеличивается скорость ракеты при переходе с первой на вторую скор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11,18 – 7,78 = 3,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м/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- изменилась скорост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3,4 : 7,78=0,4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 ≈ 0,44∙ 100 = 44% - изменилась скор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на 4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18493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зменение величины в процен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узнать, на сколько процентов изменилась величина, нужно                                       1) найти разность величин                                         2) найти отношение разности к первоначальному значению величины                        3) выразить отношение в процен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т закончился уро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ведём сейчас итог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ы много вспомнили, друзь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ез этого никак нельз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авила мы повторил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 практике их применил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задачах, находя решень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виваем мы мышлень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амять и внима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крепляем 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Лист контр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2349360"/>
          <a:ext cx="7918560" cy="2279880"/>
        </p:xfrm>
        <a:graphic>
          <a:graphicData uri="http://schemas.openxmlformats.org/drawingml/2006/table">
            <a:tbl>
              <a:tblPr/>
              <a:tblGrid>
                <a:gridCol w="1111320"/>
                <a:gridCol w="828720"/>
                <a:gridCol w="1307880"/>
                <a:gridCol w="841320"/>
                <a:gridCol w="1027080"/>
                <a:gridCol w="933480"/>
                <a:gridCol w="935280"/>
                <a:gridCol w="933480"/>
              </a:tblGrid>
              <a:tr h="1121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Размин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Устный опро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стор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Биолог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Географ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Физ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тоговая отме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за у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8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Отметка за выполненную рабо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3"/>
          <p:cNvSpPr/>
          <p:nvPr/>
        </p:nvSpPr>
        <p:spPr>
          <a:xfrm>
            <a:off x="1502640" y="1343520"/>
            <a:ext cx="62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b6bcf"/>
                </a:solidFill>
                <a:latin typeface="Times New Roman"/>
              </a:rPr>
              <a:t>Индивидуальный лист учащегося</a:t>
            </a:r>
            <a:r>
              <a:rPr b="1" lang="ru-RU" sz="1200" spc="-1" strike="noStrike">
                <a:solidFill>
                  <a:srgbClr val="6b6bc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 теперь, внимание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омашнее зада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 вызовет оно проблем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шенья ход известен всем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ставить синквей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тему «Проценты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Синквейн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 существ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а прилаг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 глаг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е из четырёх с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  слово-резю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1341360"/>
          <a:ext cx="6367680" cy="4537080"/>
        </p:xfrm>
        <a:graphic>
          <a:graphicData uri="http://schemas.openxmlformats.org/drawingml/2006/table">
            <a:tbl>
              <a:tblPr/>
              <a:tblGrid>
                <a:gridCol w="3184560"/>
                <a:gridCol w="3183120"/>
              </a:tblGrid>
              <a:tr h="4537080">
                <a:tc>
                  <a:txBody>
                    <a:bodyPr lIns="0" rIns="0" tIns="0" bIns="0" anchor="ctr">
                      <a:noAutofit/>
                    </a:bodyPr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1. На уроке я рабо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2. Своей работой на уроке 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3. Урок для меня показал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4. За урок 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5. Мое 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6. Материал урока мне бы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7. Домашнее задание мне каж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активно / пасси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доволен / не дово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коротким / длин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не устал / ус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стало лучше / стало ху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понятен / не поня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полезен / бесполез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нтересен / ску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легким / труд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нтересным / неинтерес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Объект 2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836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26560" y="3430080"/>
            <a:ext cx="6689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cc"/>
                </a:solidFill>
                <a:latin typeface="Times New Roman"/>
              </a:rPr>
              <a:t>Тема урока:</a:t>
            </a:r>
            <a:br>
              <a:rPr sz="8000"/>
            </a:br>
            <a:r>
              <a:rPr b="1" lang="ru-RU" sz="8000" spc="-1" strike="noStrike">
                <a:solidFill>
                  <a:srgbClr val="0033cc"/>
                </a:solidFill>
                <a:latin typeface="Times New Roman"/>
              </a:rPr>
              <a:t>Процент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708360" y="4573440"/>
            <a:ext cx="1295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репление навыка решения практических задач с использованием математического понятия "процент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Что мы знаем о </a:t>
            </a:r>
            <a:r>
              <a:rPr b="1" lang="ru-RU" sz="4800" spc="-1" strike="noStrike">
                <a:solidFill>
                  <a:srgbClr val="6b6bcf"/>
                </a:solidFill>
                <a:latin typeface="Times New Roman"/>
              </a:rPr>
              <a:t>процент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% - какая это часть чи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ё целое – это сколько процент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айти процент от чи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айти число по его процент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найти, какую часть первое число составляет от второго, нуж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перейти от процентов к десятичной дроби, нуж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перейти от десятичной дроби к        процентам, нуж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Где используются проценты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асто используются в повседневной жизни, а также при   изучении других школьных дисципли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Расписание уро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11280" y="2286000"/>
            <a:ext cx="540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611280" y="1268280"/>
            <a:ext cx="6213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урок.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сто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Перем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урок.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иолог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урок.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еограф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Физминут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 уро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1 урок. Истор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осстание Спартака (74 – 71г. до н.э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411280" y="2427120"/>
            <a:ext cx="3889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5-10-14T16:02:30Z</dcterms:modified>
  <cp:revision>91</cp:revision>
  <dc:subject/>
  <dc:title>Слайд 1</dc:title>
</cp:coreProperties>
</file>