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F6A-545F-4B24-BD4E-BB548354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ABB-A34D-4EC2-B2D5-277D8FE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8F5-D983-420F-8F9F-02B4D039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AF1-0915-4A8D-8265-0BB9BA3D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667E-0EE4-4039-8801-A283DC58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705A-4F3A-4B31-A396-4CE4347A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5AE3-4214-45F2-B668-57620AC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D33E-4A66-4035-96B1-205B6740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E1FB-1539-4024-A590-B3F0F91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AFC-6B55-4FB6-9123-E6242730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F804-E244-43E7-9242-C06F79C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29F-24B9-4210-94CA-019C91E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AC7-4962-4553-8AFC-501CB015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DC9-90E5-43C0-A448-1C7A278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71A1-3959-4E27-BC54-DD75C758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BDF4-01E2-441B-845A-B937AFD0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0FF1-A7A5-4C2B-BCBE-1D15F08C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16D-0458-4894-8F77-7F3AE6BC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F59-50F6-44C3-889C-4382DE92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5AE-638B-4778-B278-CCF9545A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D13-EB61-4D00-8068-47F8557A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8E5-1F39-43AD-881D-3055782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9A5-C924-4EA1-BE13-9C41E80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9AB-1DA5-46BC-B93D-5CDD943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530-F3BD-4D83-820C-88A55AE49B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4FDA-AB1D-4530-A2E1-A13321E9C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ON THE MEN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К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tligh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6», В.Эванс, Дж.Дули, О.Подоляко, Ю.Вау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учитель английского языка МБОУ «Нижнесортымская СОШ» Фром С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3520" y="144792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onetic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 your han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you ea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ood health rul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’s hard to b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better work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better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t three good me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d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9960" y="1676520"/>
            <a:ext cx="334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hat does it mea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A men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A star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A main cou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A desse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A dri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aflet in a restaurant. It gives you information about the dishes and the pr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ish you start your meal wi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biggest dish you have at a me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licious (usually sweet) dish you have to finish your me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thing you drink with your me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4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609480"/>
          <a:ext cx="4029120" cy="31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09480"/>
                    <a:ext cx="40291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105520" y="68580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304920"/>
            <a:ext cx="510552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0" y="3276720"/>
            <a:ext cx="518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 my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i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can you see i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nformation does it give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groups of dishes can you see he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most expensive starter on the men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ain course ( dish) is cheap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 cheapest drink in this café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o usually says these word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ld you like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ld you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thing to dr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bout some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I take you ord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I have some..., plea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…, ple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d like some…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I have …, plea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THANK YOU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THE LESSON IS OVE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1T20:37:59Z</dcterms:created>
  <dc:creator>biper</dc:creator>
  <dc:description/>
  <dc:language>en-US</dc:language>
  <cp:lastModifiedBy>biper</cp:lastModifiedBy>
  <dcterms:modified xsi:type="dcterms:W3CDTF">2019-05-21T21:48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