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41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38.jpeg" ContentType="image/jpeg"/>
  <Override PartName="/ppt/media/image46.png" ContentType="image/png"/>
  <Override PartName="/ppt/media/image32.jpeg" ContentType="image/jpeg"/>
  <Override PartName="/ppt/media/image49.jpeg" ContentType="image/jpeg"/>
  <Override PartName="/ppt/media/image51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39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35.jpeg" ContentType="image/jpeg"/>
  <Override PartName="/ppt/media/image5.jpeg" ContentType="image/jpeg"/>
  <Override PartName="/ppt/media/image50.png" ContentType="image/png"/>
  <Override PartName="/ppt/media/image26.jpeg" ContentType="image/jpeg"/>
  <Override PartName="/ppt/media/image42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4A5-C761-496B-A9D0-9E0EDB83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8BD-0D97-4303-8D13-22EAEAE6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5F0-60EB-4AD6-810B-E854D12F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B2AA-801C-4E2D-8236-806229D5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BEE2-500B-4425-A38C-008449A6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5357-5ED8-4850-9455-F82CBC3D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F21D-C18C-41D0-B3DC-8DFC7A07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E95D-67E9-46A9-B102-38F3CFEE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6D26-954E-4AB0-AB41-CCFCE23A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A163-602D-4341-AB09-50860263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988C-C6FF-42A8-93F6-0D0A3543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7F1-717C-4E42-B64F-C72A5E9C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460B-755C-43FA-9C49-F1B0DDAD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BB2D-5F65-4BE1-BC2A-1D4C93DC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3B76-BBFE-4ABB-9A14-1F37BC18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EA76-7DFC-44F1-B038-62828EAF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0E50-779E-49B4-95E7-A0D9B60E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B3F5-AEE8-4244-97AE-2F82E8D7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DC5-0A7F-4E1E-B631-2600D2AE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452E-9B26-42D6-A264-BE3F8777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FA3-F4BD-4D04-89FB-01D195F0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2C5-05AD-439C-AB09-51CB7CC6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C4D-19EE-49B8-BC18-3BCF3853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E31-BFB0-4F05-8DD8-1AE56804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455D-2BEF-433D-9119-DD7D2824BC6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46D8-2B1B-4D07-B7B2-295AD9E8F23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695160"/>
            <a:ext cx="8326440" cy="2505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7" descr="Прогулка по набережной в Лимерике"/>
          <p:cNvPicPr/>
          <p:nvPr/>
        </p:nvPicPr>
        <p:blipFill>
          <a:blip r:embed="rId2"/>
          <a:stretch/>
        </p:blipFill>
        <p:spPr>
          <a:xfrm>
            <a:off x="5429160" y="42861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http://s019.radikal.ru/i603/1308/ed/52a68d606621.gif"/>
          <p:cNvPicPr/>
          <p:nvPr/>
        </p:nvPicPr>
        <p:blipFill>
          <a:blip r:embed="rId3"/>
          <a:stretch/>
        </p:blipFill>
        <p:spPr>
          <a:xfrm>
            <a:off x="214200" y="4286160"/>
            <a:ext cx="37864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4" descr="э Лир.jpg"/>
          <p:cNvPicPr/>
          <p:nvPr/>
        </p:nvPicPr>
        <p:blipFill>
          <a:blip r:embed="rId2"/>
          <a:stretch/>
        </p:blipFill>
        <p:spPr>
          <a:xfrm>
            <a:off x="6804000" y="333360"/>
            <a:ext cx="1833480" cy="290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0" name=""/>
          <p:cNvSpPr txBox="1"/>
          <p:nvPr/>
        </p:nvSpPr>
        <p:spPr>
          <a:xfrm>
            <a:off x="179280" y="1341360"/>
            <a:ext cx="4321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Лиру исполнилось 18 лет, Зоологическое общество заказало ему нарисовать большую коллекцию попугаев, собранную в Ридженс-парке. Рисунки с изображением птиц были выполнены с большой точностью и тонкостью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5" descr="http://yafanat.ru/published/publicdata/YAFANATYF/attachments/SC/products_pictures/1001399828.jpg"/>
          <p:cNvPicPr/>
          <p:nvPr/>
        </p:nvPicPr>
        <p:blipFill>
          <a:blip r:embed="rId3"/>
          <a:stretch/>
        </p:blipFill>
        <p:spPr>
          <a:xfrm>
            <a:off x="4429080" y="1714680"/>
            <a:ext cx="2428920" cy="2428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http://www.audubonhouse.org/images/Lear_Large/lea_1153.jpg"/>
          <p:cNvPicPr/>
          <p:nvPr/>
        </p:nvPicPr>
        <p:blipFill>
          <a:blip r:embed="rId4"/>
          <a:stretch/>
        </p:blipFill>
        <p:spPr>
          <a:xfrm>
            <a:off x="6500880" y="3286080"/>
            <a:ext cx="2338200" cy="342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3" descr="http://www.theslideprojector.com/images/21stcentury/ford/dyingwords.jpg"/>
          <p:cNvPicPr/>
          <p:nvPr/>
        </p:nvPicPr>
        <p:blipFill>
          <a:blip r:embed="rId5"/>
          <a:stretch/>
        </p:blipFill>
        <p:spPr>
          <a:xfrm>
            <a:off x="4071960" y="4286160"/>
            <a:ext cx="300024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79280" y="1341360"/>
            <a:ext cx="4316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вив Орнитологию, он посвятил себя «топографическому пейзажу». Его пейзажи выходили большими альбомами и пользовались успехом в Англи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Рисунок 5" descr="картины эдва.jpg"/>
          <p:cNvPicPr/>
          <p:nvPr/>
        </p:nvPicPr>
        <p:blipFill>
          <a:blip r:embed="rId2"/>
          <a:stretch/>
        </p:blipFill>
        <p:spPr>
          <a:xfrm>
            <a:off x="4500720" y="4581360"/>
            <a:ext cx="4403520" cy="20656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карти.jpg"/>
          <p:cNvPicPr/>
          <p:nvPr/>
        </p:nvPicPr>
        <p:blipFill>
          <a:blip r:embed="rId3"/>
          <a:stretch/>
        </p:blipFill>
        <p:spPr>
          <a:xfrm>
            <a:off x="4932360" y="2924280"/>
            <a:ext cx="3743280" cy="1773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Корфу и горы Албании "/>
          <p:cNvPicPr/>
          <p:nvPr/>
        </p:nvPicPr>
        <p:blipFill>
          <a:blip r:embed="rId4"/>
          <a:stretch/>
        </p:blipFill>
        <p:spPr>
          <a:xfrm>
            <a:off x="4286160" y="1071720"/>
            <a:ext cx="3571920" cy="2174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Корфу – Эдвард Лир, 1812-1888. "/>
          <p:cNvPicPr/>
          <p:nvPr/>
        </p:nvPicPr>
        <p:blipFill>
          <a:blip r:embed="rId5"/>
          <a:stretch/>
        </p:blipFill>
        <p:spPr>
          <a:xfrm>
            <a:off x="0" y="4743360"/>
            <a:ext cx="4381560" cy="2114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Корфу со стороны деревни Ассеншен (вознесение)"/>
          <p:cNvPicPr/>
          <p:nvPr/>
        </p:nvPicPr>
        <p:blipFill>
          <a:blip r:embed="rId6"/>
          <a:stretch/>
        </p:blipFill>
        <p:spPr>
          <a:xfrm>
            <a:off x="6200640" y="3071880"/>
            <a:ext cx="2943360" cy="1800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http://s40.radikal.ru/i087/1308/b2/d83a579ffbad.jpg"/>
          <p:cNvPicPr/>
          <p:nvPr/>
        </p:nvPicPr>
        <p:blipFill>
          <a:blip r:embed="rId7"/>
          <a:stretch/>
        </p:blipFill>
        <p:spPr>
          <a:xfrm>
            <a:off x="4429080" y="4572000"/>
            <a:ext cx="30006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4" descr="1001696865.jpg"/>
          <p:cNvPicPr/>
          <p:nvPr/>
        </p:nvPicPr>
        <p:blipFill>
          <a:blip r:embed="rId2"/>
          <a:stretch/>
        </p:blipFill>
        <p:spPr>
          <a:xfrm>
            <a:off x="142920" y="4357800"/>
            <a:ext cx="1584360" cy="2098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651640" y="1599840"/>
            <a:ext cx="3340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 «Книга бессмыслиц» вышла анонимно в 1846 году с посвящением детям лорда Дерби. Забавные стишки лимрики, были украшены рисунками автор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Рисунок 6" descr="5da1285adac9a199b4f04c9d9c75b385_82893.jpg"/>
          <p:cNvPicPr/>
          <p:nvPr/>
        </p:nvPicPr>
        <p:blipFill>
          <a:blip r:embed="rId3"/>
          <a:stretch/>
        </p:blipFill>
        <p:spPr>
          <a:xfrm>
            <a:off x="285840" y="0"/>
            <a:ext cx="1334880" cy="21337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7" descr="11_learcover-copy.jpg"/>
          <p:cNvPicPr/>
          <p:nvPr/>
        </p:nvPicPr>
        <p:blipFill>
          <a:blip r:embed="rId4"/>
          <a:stretch/>
        </p:blipFill>
        <p:spPr>
          <a:xfrm>
            <a:off x="1857240" y="1214280"/>
            <a:ext cx="1930680" cy="2751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http://sta.imhonet.ru/element/a8/77/a8778605190dd3e225c1c3c1b5ab209b.jpg"/>
          <p:cNvPicPr/>
          <p:nvPr/>
        </p:nvPicPr>
        <p:blipFill>
          <a:blip r:embed="rId5"/>
          <a:stretch/>
        </p:blipFill>
        <p:spPr>
          <a:xfrm>
            <a:off x="1857240" y="4071960"/>
            <a:ext cx="1762200" cy="2571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http://st8.imhonet.ru/element/83/45/834550fc5116f212be340a52c2f4caa4.jpg"/>
          <p:cNvPicPr/>
          <p:nvPr/>
        </p:nvPicPr>
        <p:blipFill>
          <a:blip r:embed="rId6"/>
          <a:stretch/>
        </p:blipFill>
        <p:spPr>
          <a:xfrm>
            <a:off x="3714840" y="4143240"/>
            <a:ext cx="1762200" cy="2571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http://st4.imhonet.ru/element/4a/6f/4a6faf843f1809735d9aae24ea7ece0c.jpg"/>
          <p:cNvPicPr/>
          <p:nvPr/>
        </p:nvPicPr>
        <p:blipFill>
          <a:blip r:embed="rId7"/>
          <a:stretch/>
        </p:blipFill>
        <p:spPr>
          <a:xfrm>
            <a:off x="3857760" y="1428840"/>
            <a:ext cx="1761840" cy="2571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http://static1.ozone.ru/multimedia/books_covers/c200/1000640663.jpg"/>
          <p:cNvPicPr/>
          <p:nvPr/>
        </p:nvPicPr>
        <p:blipFill>
          <a:blip r:embed="rId8"/>
          <a:stretch/>
        </p:blipFill>
        <p:spPr>
          <a:xfrm>
            <a:off x="0" y="2214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6" descr="lord-derby.jpg"/>
          <p:cNvPicPr/>
          <p:nvPr/>
        </p:nvPicPr>
        <p:blipFill>
          <a:blip r:embed="rId1"/>
          <a:stretch/>
        </p:blipFill>
        <p:spPr>
          <a:xfrm>
            <a:off x="2357280" y="285768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44" name="Заголовок 1" descr=""/>
          <p:cNvPicPr/>
          <p:nvPr/>
        </p:nvPicPr>
        <p:blipFill>
          <a:blip r:embed="rId2"/>
          <a:stretch/>
        </p:blipFill>
        <p:spPr>
          <a:xfrm>
            <a:off x="304920" y="189000"/>
            <a:ext cx="8686800" cy="865080"/>
          </a:xfrm>
          <a:prstGeom prst="rect">
            <a:avLst/>
          </a:prstGeom>
          <a:ln w="0">
            <a:noFill/>
          </a:ln>
        </p:spPr>
      </p:pic>
      <p:pic>
        <p:nvPicPr>
          <p:cNvPr id="145" name="Содержимое 4" descr="1001358_1358_301.jpg"/>
          <p:cNvPicPr/>
          <p:nvPr/>
        </p:nvPicPr>
        <p:blipFill>
          <a:blip r:embed="rId3"/>
          <a:stretch/>
        </p:blipFill>
        <p:spPr>
          <a:xfrm>
            <a:off x="214200" y="2286000"/>
            <a:ext cx="2448000" cy="36590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5" descr="35a612f9e32b.jpg"/>
          <p:cNvPicPr/>
          <p:nvPr/>
        </p:nvPicPr>
        <p:blipFill>
          <a:blip r:embed="rId4"/>
          <a:srcRect l="13682" t="0" r="14504" b="0"/>
          <a:stretch/>
        </p:blipFill>
        <p:spPr>
          <a:xfrm>
            <a:off x="6215040" y="142920"/>
            <a:ext cx="2736720" cy="38098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7"/>
          <p:cNvSpPr/>
          <p:nvPr/>
        </p:nvSpPr>
        <p:spPr>
          <a:xfrm>
            <a:off x="324000" y="112536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Б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erby) (1799–1869), лорд Дерби, британский государственный деятель, премьер-министр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08000" y="1599840"/>
            <a:ext cx="374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ние годы своей жизни Эдвард Лир провёл в Сан-Ремо в обществе старого слуги-албанца и кота Фосса, которого увековечил в своих стихах и рисунках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Содержимое 4" descr="size1.jpg"/>
          <p:cNvPicPr/>
          <p:nvPr/>
        </p:nvPicPr>
        <p:blipFill>
          <a:blip r:embed="rId2"/>
          <a:stretch/>
        </p:blipFill>
        <p:spPr>
          <a:xfrm>
            <a:off x="4000680" y="1857240"/>
            <a:ext cx="4343400" cy="46530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Foss2.jpg"/>
          <p:cNvPicPr/>
          <p:nvPr/>
        </p:nvPicPr>
        <p:blipFill>
          <a:blip r:embed="rId3"/>
          <a:stretch/>
        </p:blipFill>
        <p:spPr>
          <a:xfrm>
            <a:off x="5857920" y="214200"/>
            <a:ext cx="30733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1403280" y="2781360"/>
            <a:ext cx="4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6" descr="http://www.xxlbook.ru/imgh1320583.png"/>
          <p:cNvPicPr/>
          <p:nvPr/>
        </p:nvPicPr>
        <p:blipFill>
          <a:blip r:embed="rId2"/>
          <a:stretch/>
        </p:blipFill>
        <p:spPr>
          <a:xfrm>
            <a:off x="1857240" y="1285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 строка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бщается имя (или признак) героя стихотворения и его местожительств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 строка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бщается о том, чем герой занималс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3-4 строка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ъяснение причин либо последствий этих занят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5 строка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аль, при этом строка должна словно эхо, полуповторять  первую строку и содержать какую-нибудь оцен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428760" y="414324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 Одна странная рыбка  в Оби…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Жил да был ученик один в Бердске…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6" descr="http://im1-tub-ru.yandex.net/i?id=98821917-24-72&amp;n=21"/>
          <p:cNvPicPr/>
          <p:nvPr/>
        </p:nvPicPr>
        <p:blipFill>
          <a:blip r:embed="rId2"/>
          <a:stretch/>
        </p:blipFill>
        <p:spPr>
          <a:xfrm>
            <a:off x="2571840" y="1714680"/>
            <a:ext cx="371484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304920" y="121392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Сколько всего строк в лимерике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Как обычно начинается лимерик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Какие строки рифмуются с первой строкой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. Какая строчка рифмуется с третьей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 Какой вопрос можно задать к первой строчке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6. Какой вопрос можно задать ко второй строчке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. Какой вопрос можно задать к двум следующим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8. На какой вопрос отвечает последняя строчка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9. Чем отличаются лимрики от стихотворения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0.С каким видом поэтических произведений в русском народном творчестве схожи лимрики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1.Понравилось ли вам сочинять лимрики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2.Чем отличаются лимрики от стихотворения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3.С каким видом поэтических произведений в русском народном творчестве схожи лимрики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4.Понравилось ли вам сочинять лимрики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Спасибо за работу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7120" y="164268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л старик с сединой в бород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клицавший весь день: «Быть беде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е вороны и чиж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апля, утка и стриж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ли гнезда в моей бороде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девицы одной чудо-нос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 и рос, и до полу дорос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 старушку, бывало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, что твёрдо ступал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нимала носить этот но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4" descr="Эдвард Лир и поэзия нонсенса - лимерики"/>
          <p:cNvPicPr/>
          <p:nvPr/>
        </p:nvPicPr>
        <p:blipFill>
          <a:blip r:embed="rId1"/>
          <a:stretch/>
        </p:blipFill>
        <p:spPr>
          <a:xfrm>
            <a:off x="642960" y="4000680"/>
            <a:ext cx="3429000" cy="224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Эдвард Лир и поэзия нонсенса - лимерики"/>
          <p:cNvPicPr/>
          <p:nvPr/>
        </p:nvPicPr>
        <p:blipFill>
          <a:blip r:embed="rId2"/>
          <a:stretch/>
        </p:blipFill>
        <p:spPr>
          <a:xfrm>
            <a:off x="4714920" y="500040"/>
            <a:ext cx="414324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двард Лир и поэзия нонсенса http://alldayplus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мер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nsc.1september.ru/2001/26/no26_01.h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alte-zavalinka.livejournal.com/278573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двард Лир – Лимерики – Книга нонсен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lir.ramot.ru/limeriki/lim1.h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 лимериках и Эдварде Лир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85480" y="1553760"/>
            <a:ext cx="870588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ыть новый секрет стихосложения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ытаться самим написать свое стихотворение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1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: Придумай рифм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ик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а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ь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род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рога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сть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6" descr="http://ppt4web.ru/images/3258/57682/310/img1.jpg"/>
          <p:cNvPicPr/>
          <p:nvPr/>
        </p:nvPicPr>
        <p:blipFill>
          <a:blip r:embed="rId1"/>
          <a:stretch/>
        </p:blipFill>
        <p:spPr>
          <a:xfrm>
            <a:off x="5045040" y="3643200"/>
            <a:ext cx="40989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Задание: Закончи строчку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ело живется нам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школу Федя не пошёл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шку новую разбила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не любит умываться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задание: Придумайте предлож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тором все слова начинаются на букву «К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6" descr="http://img.championat.com/i/article/88/36/98836_b_a-pridumaj-ka-mne-rifmu-k-slovu-biljaletdinov_1318406929.jpg"/>
          <p:cNvPicPr/>
          <p:nvPr/>
        </p:nvPicPr>
        <p:blipFill>
          <a:blip r:embed="rId1"/>
          <a:stretch/>
        </p:blipFill>
        <p:spPr>
          <a:xfrm>
            <a:off x="5210280" y="0"/>
            <a:ext cx="393372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я стихотворная форма, состоящая из единственной пятистрочной строфы, в которой рифмуются между собой первая, вторая и пятая строка, а третья рифмуется с четвёрто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йствующие лица этих стихов – забавные, весёлые люд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ая соединительная линия 4"/>
          <p:cNvSpPr/>
          <p:nvPr/>
        </p:nvSpPr>
        <p:spPr>
          <a:xfrm flipH="1">
            <a:off x="1547280" y="1628640"/>
            <a:ext cx="71640" cy="14472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ая соединительная линия 6"/>
          <p:cNvSpPr/>
          <p:nvPr/>
        </p:nvSpPr>
        <p:spPr>
          <a:xfrm flipH="1">
            <a:off x="2771280" y="1557360"/>
            <a:ext cx="71640" cy="14292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старушки одной на Рус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ос был — хоть святых выноси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в полную силу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а голосила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астрофа была на Рус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5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атичная леди с Атлантики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язавши ботинки на бантики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й гуляла по пристан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 щенками пятнистыми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орочила климат Атлантик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Эдвард Лир и поэзия нонсенса - лимерики"/>
          <p:cNvPicPr/>
          <p:nvPr/>
        </p:nvPicPr>
        <p:blipFill>
          <a:blip r:embed="rId2"/>
          <a:stretch/>
        </p:blipFill>
        <p:spPr>
          <a:xfrm>
            <a:off x="4857840" y="1643040"/>
            <a:ext cx="3929040" cy="2577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Эдвард Лир и поэзия нонсенса - лимерики"/>
          <p:cNvPicPr/>
          <p:nvPr/>
        </p:nvPicPr>
        <p:blipFill>
          <a:blip r:embed="rId3"/>
          <a:stretch/>
        </p:blipFill>
        <p:spPr>
          <a:xfrm>
            <a:off x="357120" y="3643200"/>
            <a:ext cx="40006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04920" y="1214280"/>
            <a:ext cx="8686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68360" y="4508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ланд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 Лимери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http://img2news.restbee.ru/europe/limerik/01_glavn_d-johnston.jpg"/>
          <p:cNvPicPr/>
          <p:nvPr/>
        </p:nvPicPr>
        <p:blipFill>
          <a:blip r:embed="rId2"/>
          <a:stretch/>
        </p:blipFill>
        <p:spPr>
          <a:xfrm>
            <a:off x="357120" y="1214280"/>
            <a:ext cx="4071960" cy="267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Ирландские поля"/>
          <p:cNvPicPr/>
          <p:nvPr/>
        </p:nvPicPr>
        <p:blipFill>
          <a:blip r:embed="rId3"/>
          <a:stretch/>
        </p:blipFill>
        <p:spPr>
          <a:xfrm>
            <a:off x="4214880" y="3786120"/>
            <a:ext cx="4214880" cy="2811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Собор Святой Марии в Лимерике"/>
          <p:cNvPicPr/>
          <p:nvPr/>
        </p:nvPicPr>
        <p:blipFill>
          <a:blip r:embed="rId4"/>
          <a:stretch/>
        </p:blipFill>
        <p:spPr>
          <a:xfrm>
            <a:off x="4643280" y="14288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http://geophoto.ru/mediumlib/gb000257_1m.jpg"/>
          <p:cNvPicPr/>
          <p:nvPr/>
        </p:nvPicPr>
        <p:blipFill>
          <a:blip r:embed="rId5"/>
          <a:stretch/>
        </p:blipFill>
        <p:spPr>
          <a:xfrm>
            <a:off x="7000920" y="214200"/>
            <a:ext cx="16002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16" name="Содержимое 3" descr="лир.jpg"/>
          <p:cNvPicPr/>
          <p:nvPr/>
        </p:nvPicPr>
        <p:blipFill>
          <a:blip r:embed="rId2"/>
          <a:stretch/>
        </p:blipFill>
        <p:spPr>
          <a:xfrm>
            <a:off x="395280" y="1341360"/>
            <a:ext cx="2232000" cy="5052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2842920" y="1341360"/>
            <a:ext cx="61484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двард Лир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английский поэт 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дожник, родился 12 мая 1812 год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Лондоне в семье преуспевающег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ьца Иеремии Лира. У него было 2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тьев и сестёр. Отец разорилс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шлось идти на улицу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рабатывать деньги. Делал он эт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ованием рисунков для лавок 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нением смешных песенок -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хов лимериков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6:21:58Z</dcterms:created>
  <dc:creator>Ветер 2</dc:creator>
  <dc:description/>
  <dc:language>en-US</dc:language>
  <cp:lastModifiedBy>Huawei</cp:lastModifiedBy>
  <dcterms:modified xsi:type="dcterms:W3CDTF">2025-10-28T14:29:05Z</dcterms:modified>
  <cp:revision>61</cp:revision>
  <dc:subject/>
  <dc:title>Лимерики  – поэтические произведения</dc:title>
</cp:coreProperties>
</file>