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5.jpeg" ContentType="image/jpeg"/>
  <Override PartName="/ppt/media/image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41.jpeg" ContentType="image/jpeg"/>
  <Override PartName="/ppt/media/image43.jpeg" ContentType="image/jpeg"/>
  <Override PartName="/ppt/media/image45.png" ContentType="image/png"/>
  <Override PartName="/ppt/media/image44.jpeg" ContentType="image/jpeg"/>
  <Override PartName="/ppt/media/image38.jpeg" ContentType="image/jpeg"/>
  <Override PartName="/ppt/media/image46.png" ContentType="image/png"/>
  <Override PartName="/ppt/media/image32.jpeg" ContentType="image/jpeg"/>
  <Override PartName="/ppt/media/image49.jpeg" ContentType="image/jpeg"/>
  <Override PartName="/ppt/media/image51.png" ContentType="image/png"/>
  <Override PartName="/ppt/media/image34.jpeg" ContentType="image/jpeg"/>
  <Override PartName="/ppt/media/image7.png" ContentType="image/png"/>
  <Override PartName="/ppt/media/image22.jpeg" ContentType="image/jpeg"/>
  <Override PartName="/ppt/media/image39.png" ContentType="image/png"/>
  <Override PartName="/ppt/media/image10.png" ContentType="image/png"/>
  <Override PartName="/ppt/media/image47.png" ContentType="image/png"/>
  <Override PartName="/ppt/media/image1.jpeg" ContentType="image/jpeg"/>
  <Override PartName="/ppt/media/image35.jpeg" ContentType="image/jpeg"/>
  <Override PartName="/ppt/media/image5.jpeg" ContentType="image/jpeg"/>
  <Override PartName="/ppt/media/image50.png" ContentType="image/png"/>
  <Override PartName="/ppt/media/image26.jpeg" ContentType="image/jpeg"/>
  <Override PartName="/ppt/media/image42.png" ContentType="image/pn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065-6C4C-490B-A004-79B48E38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837-BE6B-44C3-8777-B9FD7DE15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1EFA-F474-4470-8EB6-FDADBCE59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7AB7-0A51-4DE4-913E-7F4FB757D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7102-730E-45E2-91B9-ACC6A5A0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FE88-DAC6-411E-8E84-3DC73D31F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0500-B5A1-470F-944F-DE659C28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7569C-35AB-45CC-9585-50A6385D2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7F05-0632-47B7-91F8-C64EB1D5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98C4-2727-4333-B4B8-57A86AE95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DD17-3881-4DBE-B023-557FDFA2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4213-1265-4AB4-B91F-E0905E16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B264-8967-4297-93C2-4FA355CB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6C8C5-0CE6-4D69-8F13-6B93D446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9E44F-32DE-411A-B792-869ACEBDE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1891-B958-4E90-95F4-C75528390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9DAD-4D98-4785-A3CD-A1B406EE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EF91-5684-40E6-BAC4-2D34794BC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7977-D8A9-4FB5-9D81-1CA75BF31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EE03-C976-4313-A021-2ADF7816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6B44-D451-4E75-A023-FD3EFA78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AB86-129B-4D74-8AF9-21C4F0BE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7268-BAEB-42B6-88A1-CCEE4C6A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F5D-CE76-4E6F-B0A3-D146BA5D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618AF-8473-457A-ACB3-BFA239C1A2F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68FD-C956-4784-8C43-14B4C0574AF3}" type="slidenum">
              <a:rPr b="0" lang="ru-RU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420840" y="695160"/>
            <a:ext cx="8326440" cy="25052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7" descr="Прогулка по набережной в Лимерике"/>
          <p:cNvPicPr/>
          <p:nvPr/>
        </p:nvPicPr>
        <p:blipFill>
          <a:blip r:embed="rId2"/>
          <a:stretch/>
        </p:blipFill>
        <p:spPr>
          <a:xfrm>
            <a:off x="5429160" y="428616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" descr="http://s019.radikal.ru/i603/1308/ed/52a68d606621.gif"/>
          <p:cNvPicPr/>
          <p:nvPr/>
        </p:nvPicPr>
        <p:blipFill>
          <a:blip r:embed="rId3"/>
          <a:stretch/>
        </p:blipFill>
        <p:spPr>
          <a:xfrm>
            <a:off x="214200" y="4286160"/>
            <a:ext cx="378648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4" descr="э Лир.jpg"/>
          <p:cNvPicPr/>
          <p:nvPr/>
        </p:nvPicPr>
        <p:blipFill>
          <a:blip r:embed="rId2"/>
          <a:stretch/>
        </p:blipFill>
        <p:spPr>
          <a:xfrm>
            <a:off x="6804000" y="333360"/>
            <a:ext cx="1833480" cy="2900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0" name=""/>
          <p:cNvSpPr txBox="1"/>
          <p:nvPr/>
        </p:nvSpPr>
        <p:spPr>
          <a:xfrm>
            <a:off x="179280" y="1341360"/>
            <a:ext cx="4321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Лиру исполнилось 18 лет, Зоологическое общество заказало ему нарисовать большую коллекцию попугаев, собранную в Ридженс-парке. Рисунки с изображением птиц были выполнены с большой точностью и тонкостью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15" descr="http://yafanat.ru/published/publicdata/YAFANATYF/attachments/SC/products_pictures/1001399828.jpg"/>
          <p:cNvPicPr/>
          <p:nvPr/>
        </p:nvPicPr>
        <p:blipFill>
          <a:blip r:embed="rId3"/>
          <a:stretch/>
        </p:blipFill>
        <p:spPr>
          <a:xfrm>
            <a:off x="4429080" y="1714680"/>
            <a:ext cx="2428920" cy="2428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http://www.audubonhouse.org/images/Lear_Large/lea_1153.jpg"/>
          <p:cNvPicPr/>
          <p:nvPr/>
        </p:nvPicPr>
        <p:blipFill>
          <a:blip r:embed="rId4"/>
          <a:stretch/>
        </p:blipFill>
        <p:spPr>
          <a:xfrm>
            <a:off x="6500880" y="3286080"/>
            <a:ext cx="2338200" cy="3424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3" descr="http://www.theslideprojector.com/images/21stcentury/ford/dyingwords.jpg"/>
          <p:cNvPicPr/>
          <p:nvPr/>
        </p:nvPicPr>
        <p:blipFill>
          <a:blip r:embed="rId5"/>
          <a:stretch/>
        </p:blipFill>
        <p:spPr>
          <a:xfrm>
            <a:off x="4071960" y="4286160"/>
            <a:ext cx="300024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79280" y="1341360"/>
            <a:ext cx="43164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тавив Орнитологию, он посвятил себя «топографическому пейзажу». Его пейзажи выходили большими альбомами и пользовались успехом в Англи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Рисунок 5" descr="картины эдва.jpg"/>
          <p:cNvPicPr/>
          <p:nvPr/>
        </p:nvPicPr>
        <p:blipFill>
          <a:blip r:embed="rId2"/>
          <a:stretch/>
        </p:blipFill>
        <p:spPr>
          <a:xfrm>
            <a:off x="4500720" y="4581360"/>
            <a:ext cx="4403520" cy="20656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карти.jpg"/>
          <p:cNvPicPr/>
          <p:nvPr/>
        </p:nvPicPr>
        <p:blipFill>
          <a:blip r:embed="rId3"/>
          <a:stretch/>
        </p:blipFill>
        <p:spPr>
          <a:xfrm>
            <a:off x="4932360" y="2924280"/>
            <a:ext cx="3743280" cy="1773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Корфу и горы Албании "/>
          <p:cNvPicPr/>
          <p:nvPr/>
        </p:nvPicPr>
        <p:blipFill>
          <a:blip r:embed="rId4"/>
          <a:stretch/>
        </p:blipFill>
        <p:spPr>
          <a:xfrm>
            <a:off x="4286160" y="1071720"/>
            <a:ext cx="3571920" cy="2174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Корфу – Эдвард Лир, 1812-1888. "/>
          <p:cNvPicPr/>
          <p:nvPr/>
        </p:nvPicPr>
        <p:blipFill>
          <a:blip r:embed="rId5"/>
          <a:stretch/>
        </p:blipFill>
        <p:spPr>
          <a:xfrm>
            <a:off x="0" y="4743360"/>
            <a:ext cx="4381560" cy="211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" descr="Корфу со стороны деревни Ассеншен (вознесение)"/>
          <p:cNvPicPr/>
          <p:nvPr/>
        </p:nvPicPr>
        <p:blipFill>
          <a:blip r:embed="rId6"/>
          <a:stretch/>
        </p:blipFill>
        <p:spPr>
          <a:xfrm>
            <a:off x="6200640" y="3071880"/>
            <a:ext cx="2943360" cy="180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5" descr="http://s40.radikal.ru/i087/1308/b2/d83a579ffbad.jpg"/>
          <p:cNvPicPr/>
          <p:nvPr/>
        </p:nvPicPr>
        <p:blipFill>
          <a:blip r:embed="rId7"/>
          <a:stretch/>
        </p:blipFill>
        <p:spPr>
          <a:xfrm>
            <a:off x="4429080" y="4572000"/>
            <a:ext cx="3000600" cy="20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35" name="Содержимое 4" descr="1001696865.jpg"/>
          <p:cNvPicPr/>
          <p:nvPr/>
        </p:nvPicPr>
        <p:blipFill>
          <a:blip r:embed="rId2"/>
          <a:stretch/>
        </p:blipFill>
        <p:spPr>
          <a:xfrm>
            <a:off x="142920" y="4357800"/>
            <a:ext cx="1584360" cy="20984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5651640" y="1599840"/>
            <a:ext cx="3340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вая «Книга бессмыслиц» вышла анонимно в 1846 году с посвящением детям лорда Дерби. Забавные стишки лимрики, были украшены рисунками автора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Рисунок 6" descr="5da1285adac9a199b4f04c9d9c75b385_82893.jpg"/>
          <p:cNvPicPr/>
          <p:nvPr/>
        </p:nvPicPr>
        <p:blipFill>
          <a:blip r:embed="rId3"/>
          <a:stretch/>
        </p:blipFill>
        <p:spPr>
          <a:xfrm>
            <a:off x="285840" y="0"/>
            <a:ext cx="1334880" cy="21337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7" descr="11_learcover-copy.jpg"/>
          <p:cNvPicPr/>
          <p:nvPr/>
        </p:nvPicPr>
        <p:blipFill>
          <a:blip r:embed="rId4"/>
          <a:stretch/>
        </p:blipFill>
        <p:spPr>
          <a:xfrm>
            <a:off x="1857240" y="1214280"/>
            <a:ext cx="1930680" cy="2751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http://sta.imhonet.ru/element/a8/77/a8778605190dd3e225c1c3c1b5ab209b.jpg"/>
          <p:cNvPicPr/>
          <p:nvPr/>
        </p:nvPicPr>
        <p:blipFill>
          <a:blip r:embed="rId5"/>
          <a:stretch/>
        </p:blipFill>
        <p:spPr>
          <a:xfrm>
            <a:off x="1857240" y="4071960"/>
            <a:ext cx="1762200" cy="25718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5" descr="http://st8.imhonet.ru/element/83/45/834550fc5116f212be340a52c2f4caa4.jpg"/>
          <p:cNvPicPr/>
          <p:nvPr/>
        </p:nvPicPr>
        <p:blipFill>
          <a:blip r:embed="rId6"/>
          <a:stretch/>
        </p:blipFill>
        <p:spPr>
          <a:xfrm>
            <a:off x="3714840" y="4143240"/>
            <a:ext cx="1762200" cy="2571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7" descr="http://st4.imhonet.ru/element/4a/6f/4a6faf843f1809735d9aae24ea7ece0c.jpg"/>
          <p:cNvPicPr/>
          <p:nvPr/>
        </p:nvPicPr>
        <p:blipFill>
          <a:blip r:embed="rId7"/>
          <a:stretch/>
        </p:blipFill>
        <p:spPr>
          <a:xfrm>
            <a:off x="3857760" y="1428840"/>
            <a:ext cx="1761840" cy="25718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" descr="http://static1.ozone.ru/multimedia/books_covers/c200/1000640663.jpg"/>
          <p:cNvPicPr/>
          <p:nvPr/>
        </p:nvPicPr>
        <p:blipFill>
          <a:blip r:embed="rId8"/>
          <a:stretch/>
        </p:blipFill>
        <p:spPr>
          <a:xfrm>
            <a:off x="0" y="2214720"/>
            <a:ext cx="1905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Рисунок 6" descr="lord-derby.jpg"/>
          <p:cNvPicPr/>
          <p:nvPr/>
        </p:nvPicPr>
        <p:blipFill>
          <a:blip r:embed="rId1"/>
          <a:stretch/>
        </p:blipFill>
        <p:spPr>
          <a:xfrm>
            <a:off x="2357280" y="2857680"/>
            <a:ext cx="5715000" cy="3809880"/>
          </a:xfrm>
          <a:prstGeom prst="rect">
            <a:avLst/>
          </a:prstGeom>
          <a:ln w="0">
            <a:noFill/>
          </a:ln>
        </p:spPr>
      </p:pic>
      <p:pic>
        <p:nvPicPr>
          <p:cNvPr id="144" name="Заголовок 1" descr=""/>
          <p:cNvPicPr/>
          <p:nvPr/>
        </p:nvPicPr>
        <p:blipFill>
          <a:blip r:embed="rId2"/>
          <a:stretch/>
        </p:blipFill>
        <p:spPr>
          <a:xfrm>
            <a:off x="304920" y="189000"/>
            <a:ext cx="8686800" cy="865080"/>
          </a:xfrm>
          <a:prstGeom prst="rect">
            <a:avLst/>
          </a:prstGeom>
          <a:ln w="0">
            <a:noFill/>
          </a:ln>
        </p:spPr>
      </p:pic>
      <p:pic>
        <p:nvPicPr>
          <p:cNvPr id="145" name="Содержимое 4" descr="1001358_1358_301.jpg"/>
          <p:cNvPicPr/>
          <p:nvPr/>
        </p:nvPicPr>
        <p:blipFill>
          <a:blip r:embed="rId3"/>
          <a:stretch/>
        </p:blipFill>
        <p:spPr>
          <a:xfrm>
            <a:off x="214200" y="2286000"/>
            <a:ext cx="2448000" cy="3659040"/>
          </a:xfrm>
          <a:prstGeom prst="rect">
            <a:avLst/>
          </a:prstGeom>
          <a:ln w="0">
            <a:noFill/>
          </a:ln>
        </p:spPr>
      </p:pic>
      <p:pic>
        <p:nvPicPr>
          <p:cNvPr id="146" name="Содержимое 5" descr="35a612f9e32b.jpg"/>
          <p:cNvPicPr/>
          <p:nvPr/>
        </p:nvPicPr>
        <p:blipFill>
          <a:blip r:embed="rId4"/>
          <a:srcRect l="13682" t="0" r="14504" b="0"/>
          <a:stretch/>
        </p:blipFill>
        <p:spPr>
          <a:xfrm>
            <a:off x="6215040" y="142920"/>
            <a:ext cx="2736720" cy="3809880"/>
          </a:xfrm>
          <a:prstGeom prst="rect">
            <a:avLst/>
          </a:prstGeom>
          <a:ln w="0">
            <a:noFill/>
          </a:ln>
        </p:spPr>
      </p:pic>
      <p:sp>
        <p:nvSpPr>
          <p:cNvPr id="147" name="TextBox 7"/>
          <p:cNvSpPr/>
          <p:nvPr/>
        </p:nvSpPr>
        <p:spPr>
          <a:xfrm>
            <a:off x="324000" y="112536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Б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Derby) (1799–1869), лорд Дерби, британский государственный деятель, премьер-министр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108000" y="1599840"/>
            <a:ext cx="3743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ние годы своей жизни Эдвард Лир провёл в Сан-Ремо в обществе старого слуги-албанца и кота Фосса, которого увековечил в своих стихах и рисунках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Содержимое 4" descr="size1.jpg"/>
          <p:cNvPicPr/>
          <p:nvPr/>
        </p:nvPicPr>
        <p:blipFill>
          <a:blip r:embed="rId2"/>
          <a:stretch/>
        </p:blipFill>
        <p:spPr>
          <a:xfrm>
            <a:off x="4000680" y="1857240"/>
            <a:ext cx="4343400" cy="465300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5" descr="Foss2.jpg"/>
          <p:cNvPicPr/>
          <p:nvPr/>
        </p:nvPicPr>
        <p:blipFill>
          <a:blip r:embed="rId3"/>
          <a:stretch/>
        </p:blipFill>
        <p:spPr>
          <a:xfrm>
            <a:off x="5857920" y="214200"/>
            <a:ext cx="30733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6"/>
          <p:cNvSpPr/>
          <p:nvPr/>
        </p:nvSpPr>
        <p:spPr>
          <a:xfrm>
            <a:off x="1403280" y="2781360"/>
            <a:ext cx="43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6" descr="http://www.xxlbook.ru/imgh1320583.png"/>
          <p:cNvPicPr/>
          <p:nvPr/>
        </p:nvPicPr>
        <p:blipFill>
          <a:blip r:embed="rId2"/>
          <a:stretch/>
        </p:blipFill>
        <p:spPr>
          <a:xfrm>
            <a:off x="1857240" y="12859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1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бщается имя (или признак) героя стихотворения и его местожительство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2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общается о том, чем герой занимался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3-4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ъяснение причин либо последствий этих занятий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5 строка: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ль, при этом строка должна словно эхо, полуповторять  первую строку и содержать какую-нибудь оцен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428760" y="4143240"/>
            <a:ext cx="7858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 Одна странная рыбка  в Оби…»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Жил да был ученик один в Бердске…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6" descr="http://im1-tub-ru.yandex.net/i?id=98821917-24-72&amp;n=21"/>
          <p:cNvPicPr/>
          <p:nvPr/>
        </p:nvPicPr>
        <p:blipFill>
          <a:blip r:embed="rId2"/>
          <a:stretch/>
        </p:blipFill>
        <p:spPr>
          <a:xfrm>
            <a:off x="2571840" y="1714680"/>
            <a:ext cx="371484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04920" y="1213920"/>
            <a:ext cx="8686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. Сколько всего строк в лимерик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2. Как обычно начинается лимерик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3. Какие строки рифмуются с первой строко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4. Какая строчка рифмуется с третьей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 Какой вопрос можно задать к первой строчк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6. Какой вопрос можно задать ко второй строчке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Какой вопрос можно задать к двум следующим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На какой вопрос отвечает последняя строчка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9. Чем отличаются лимрики от стихотворения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0.С каким видом поэтических произведений в русском народном творчестве схожи лимрики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1.Понравилось ли вам сочинять лимрики?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2.Чем отличаются лимрики от стихотворения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3.С каким видом поэтических произведений в русском народном творчестве схожи лимрики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14.Понравилось ли вам сочинять лимрики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imes New Roman"/>
              </a:rPr>
              <a:t>Спасибо за работу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57120" y="1642680"/>
            <a:ext cx="4191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л старик с сединой в бород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клицавший весь день: «Быть беде!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е вороны и чиж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пля, утка и стриж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ли гнезда в моей бороде!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девицы одной чудо-нос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с и рос, и до полу дорос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к старушку, бывало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, что твёрдо ступала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нимала носить этот но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Picture 4" descr="Эдвард Лир и поэзия нонсенса - лимерики"/>
          <p:cNvPicPr/>
          <p:nvPr/>
        </p:nvPicPr>
        <p:blipFill>
          <a:blip r:embed="rId1"/>
          <a:stretch/>
        </p:blipFill>
        <p:spPr>
          <a:xfrm>
            <a:off x="642960" y="4000680"/>
            <a:ext cx="3429000" cy="2249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Эдвард Лир и поэзия нонсенса - лимерики"/>
          <p:cNvPicPr/>
          <p:nvPr/>
        </p:nvPicPr>
        <p:blipFill>
          <a:blip r:embed="rId2"/>
          <a:stretch/>
        </p:blipFill>
        <p:spPr>
          <a:xfrm>
            <a:off x="4714920" y="500040"/>
            <a:ext cx="4143240" cy="27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304920" y="1553760"/>
            <a:ext cx="8686800" cy="50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двард Лир и поэзия нонсенса http://alldayplus.r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имерик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nsc.1september.ru/2001/26/no26_01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alte-zavalinka.livejournal.com/278573.htm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Эдвард Лир – Лимерики – Книга нонсен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lir.ramot.ru/limeriki/lim1.ht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 лимериках и Эдварде Лир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480" y="1553760"/>
            <a:ext cx="8705880" cy="437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ыть новый секрет стихосложения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ытаться самим написать свое стихотворение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41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1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ние: Придумай рифм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рик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аба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нь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ород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орога -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Честь 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Picture 6" descr="http://ppt4web.ru/images/3258/57682/310/img1.jpg"/>
          <p:cNvPicPr/>
          <p:nvPr/>
        </p:nvPicPr>
        <p:blipFill>
          <a:blip r:embed="rId1"/>
          <a:stretch/>
        </p:blipFill>
        <p:spPr>
          <a:xfrm>
            <a:off x="5045040" y="3643200"/>
            <a:ext cx="40989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Задание: Закончи строчку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ело живется нам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школу Федя не пошёл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ашку новую разбила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не любит умываться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 задание: Придумайте предложение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тором все слова начинаются на букву «К»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spcBef>
                <a:spcPts val="700"/>
              </a:spcBef>
              <a:buClr>
                <a:srgbClr val="f9f9f9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Picture 6" descr="http://img.championat.com/i/article/88/36/98836_b_a-pridumaj-ka-mne-rifmu-k-slovu-biljaletdinov_1318406929.jpg"/>
          <p:cNvPicPr/>
          <p:nvPr/>
        </p:nvPicPr>
        <p:blipFill>
          <a:blip r:embed="rId1"/>
          <a:stretch/>
        </p:blipFill>
        <p:spPr>
          <a:xfrm>
            <a:off x="5210280" y="0"/>
            <a:ext cx="39337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я стихотворная форма, состоящая из единственной пятистрочной строфы, в которой рифмуются между собой первая, вторая и пятая строка, а третья рифмуется с четвёртой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йствующие лица этих стихов – забавные, весёлые люд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Прямая соединительная линия 4"/>
          <p:cNvSpPr/>
          <p:nvPr/>
        </p:nvSpPr>
        <p:spPr>
          <a:xfrm flipH="1">
            <a:off x="1547280" y="1628640"/>
            <a:ext cx="71640" cy="1447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ая соединительная линия 6"/>
          <p:cNvSpPr/>
          <p:nvPr/>
        </p:nvSpPr>
        <p:spPr>
          <a:xfrm flipH="1">
            <a:off x="2771280" y="1557360"/>
            <a:ext cx="71640" cy="142920"/>
          </a:xfrm>
          <a:prstGeom prst="line">
            <a:avLst/>
          </a:prstGeom>
          <a:ln w="9360">
            <a:solidFill>
              <a:srgbClr val="9887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 старушки одной на Рус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лос был — хоть святых выноси.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гда в полную силу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а голосила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тастрофа была на Рус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5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50000"/>
              </a:lnSpc>
              <a:spcBef>
                <a:spcPts val="476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атичная леди с Атлантики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язавши ботинки на бантики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й гуляла по пристани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 щенками пятнистыми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 порочила климат Атлантики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Эдвард Лир и поэзия нонсенса - лимерики"/>
          <p:cNvPicPr/>
          <p:nvPr/>
        </p:nvPicPr>
        <p:blipFill>
          <a:blip r:embed="rId2"/>
          <a:stretch/>
        </p:blipFill>
        <p:spPr>
          <a:xfrm>
            <a:off x="4857840" y="1643040"/>
            <a:ext cx="3929040" cy="2577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Эдвард Лир и поэзия нонсенса - лимерики"/>
          <p:cNvPicPr/>
          <p:nvPr/>
        </p:nvPicPr>
        <p:blipFill>
          <a:blip r:embed="rId3"/>
          <a:stretch/>
        </p:blipFill>
        <p:spPr>
          <a:xfrm>
            <a:off x="357120" y="3643200"/>
            <a:ext cx="40006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304920" y="1214280"/>
            <a:ext cx="86868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68360" y="450864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рландия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од Лимерик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8" descr="http://img2news.restbee.ru/europe/limerik/01_glavn_d-johnston.jpg"/>
          <p:cNvPicPr/>
          <p:nvPr/>
        </p:nvPicPr>
        <p:blipFill>
          <a:blip r:embed="rId2"/>
          <a:stretch/>
        </p:blipFill>
        <p:spPr>
          <a:xfrm>
            <a:off x="357120" y="1214280"/>
            <a:ext cx="4071960" cy="2679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Ирландские поля"/>
          <p:cNvPicPr/>
          <p:nvPr/>
        </p:nvPicPr>
        <p:blipFill>
          <a:blip r:embed="rId3"/>
          <a:stretch/>
        </p:blipFill>
        <p:spPr>
          <a:xfrm>
            <a:off x="4214880" y="3786120"/>
            <a:ext cx="4214880" cy="2811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Собор Святой Марии в Лимерике"/>
          <p:cNvPicPr/>
          <p:nvPr/>
        </p:nvPicPr>
        <p:blipFill>
          <a:blip r:embed="rId4"/>
          <a:stretch/>
        </p:blipFill>
        <p:spPr>
          <a:xfrm>
            <a:off x="4643280" y="1428840"/>
            <a:ext cx="4214880" cy="316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http://geophoto.ru/mediumlib/gb000257_1m.jpg"/>
          <p:cNvPicPr/>
          <p:nvPr/>
        </p:nvPicPr>
        <p:blipFill>
          <a:blip r:embed="rId5"/>
          <a:stretch/>
        </p:blipFill>
        <p:spPr>
          <a:xfrm>
            <a:off x="7000920" y="214200"/>
            <a:ext cx="160020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116" name="Содержимое 3" descr="лир.jpg"/>
          <p:cNvPicPr/>
          <p:nvPr/>
        </p:nvPicPr>
        <p:blipFill>
          <a:blip r:embed="rId2"/>
          <a:stretch/>
        </p:blipFill>
        <p:spPr>
          <a:xfrm>
            <a:off x="395280" y="1341360"/>
            <a:ext cx="2232000" cy="50529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2842920" y="1341360"/>
            <a:ext cx="61484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двард Лир </a:t>
            </a: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английский поэт 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дожник, родился 12 мая 1812 год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Лондоне в семье преуспевающег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ьца Иеремии Лира. У него было 2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атьев и сестёр. Отец разорился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шлось идти на улицу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рабатывать деньги. Делал он это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сованием рисунков для лавок 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ением смешных песенок -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хов лимериков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8T06:21:58Z</dcterms:created>
  <dc:creator>Ветер 2</dc:creator>
  <dc:description/>
  <dc:language>en-US</dc:language>
  <cp:lastModifiedBy>Huawei</cp:lastModifiedBy>
  <dcterms:modified xsi:type="dcterms:W3CDTF">2025-10-28T14:29:05Z</dcterms:modified>
  <cp:revision>61</cp:revision>
  <dc:subject/>
  <dc:title>Лимерики  – поэтические произведения</dc:title>
</cp:coreProperties>
</file>