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6.png" ContentType="image/png"/>
  <Override PartName="/ppt/media/image28.png" ContentType="image/png"/>
  <Override PartName="/ppt/media/image10.png" ContentType="image/png"/>
  <Override PartName="/ppt/media/image19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6B6A-DB5E-4B62-AE2D-1B24D8C8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E09-2470-455A-8F78-4EEF9DFF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3C91A-C301-4F48-97D3-925DDD7A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230E7-91DE-4884-A4CF-C1CC3428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E542E-72E4-4F9A-9DBA-8BB8FCFE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5DF4F-0A2D-4406-8CA1-C04DE132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7A7BA-C4B7-4B82-A421-079B3039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BD63A-DA55-40F0-9F5E-CF9A9E64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0289D-2EAC-48AE-9DE1-2C73394D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4FB88-8AC8-4B59-88EE-C3768D80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C72C3-E4DB-4F54-B1B7-AB251DF7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B3407-24E2-499D-8568-097DB094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EFF-A0C5-4033-8BEC-2CE93B22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8D1BC-39A5-497E-9729-E868B48D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D6D18-D7EF-4756-ADCE-1DA459C3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E61FD-18D5-4416-9025-42B640A1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C0FA2-BECC-422E-9896-80037F5F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83843-ECC1-428C-96A7-607D8B05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1FEF3-68C2-4A34-9468-4EC23ACC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41F94-6FD5-4870-AA77-5B476566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CBB6E-D289-4D5B-8989-FB2FF8AB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61934-0505-4122-AD24-DB66222A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DFD3D-8299-4628-94DF-C3D40B97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A2E-7D91-4856-9A3D-E1024CDF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F8F86-AFB7-4B00-8610-409EEE36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F096F-94BE-4B50-8568-B3CE43D5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DC4C8-BCAB-43AF-8E50-1FDC2214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1B8A2-C971-48D4-A9F8-E9DE3D82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287F9-C80C-444F-B1E2-E93B6FE8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84B39-FC16-4E76-A221-9D97BD62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F3BE3-BC35-44C6-A38C-8FB09BF7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B6C63-28D2-4973-99D1-1504093B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87C9E-9144-4E77-8D35-F15ACFD8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F941E-5D3C-46EB-8690-53550214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E428-1407-4409-B980-51BC0AB9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C8A93-9857-4BE3-B922-4B1C1694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50416-8928-47F3-9793-9AE45221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A5FC6-EF7C-435E-B641-B3C5B6F5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B5B5B-7EFA-4460-BD42-FEC5BB6B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97BBD-C9DE-4C04-B7B5-54959B39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AD601-D45E-4D85-8668-CFCDC414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CD02A-E197-409C-A95C-0977E6BF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DA3E5-8FEF-4653-B064-EE47171A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F6EAD-B901-4C7D-87AB-126829BA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D6ABF-EB35-4197-AA9A-BD10F907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3121-7A3D-4FF5-8F81-4DA8E10D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892BC-D7BF-4F6D-8F36-74762337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C56F1-E9FA-487C-AFD3-DB39F97B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1DA64-5744-44EA-9773-6107BD4A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C210E-22F9-4471-86D1-1016CDB7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5F0C4-5AE0-44BD-A55E-16AFAC51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CC0E9-03A7-44DE-8EC9-DB83DF32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74E9D-9E6B-46A1-8CC6-0D934CB8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862B3-4AB8-4D77-BDDD-542D3624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3B7BD-AF23-46F1-9E71-2A7F6E84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6E43F7-622D-4118-8D95-B805ECB9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F1D1-943D-48BE-BF2E-95C5A8BA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DA34FB-249A-4764-895E-8B55C8E2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744429-732C-40AF-85E6-90BEF8E9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CE4DE-85FB-47BF-A739-60264653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7E3DF-D931-4D62-BD7A-FB246D5D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49B8A-EC3C-4D5D-9D4B-AB78049E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220DC4-C852-4F68-A537-C2B79DD5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79BA5-F6E2-4F85-8753-FE75A053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2A762D-B683-4E61-AB97-28AD06E2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05097A-403D-4E0D-AF3A-AC10826F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11D7BE-075E-463E-9A8A-24CB6221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B239-9DF6-464F-9722-DABB4771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911D04-C89E-4FD0-95C6-9F6B9556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0B7F7-AEFE-4510-B306-705FB0B6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6FF71E-25A2-41CD-8E7D-852B9D37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B448C-DA6D-4E79-A503-8CAADFD5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0B5F3F-48A1-4BD3-83F7-F167CB2E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1B59EC-D208-44BC-8881-2EB5FEDC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F3030A-32CD-435B-8F53-9E33D5C6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785974-66EE-4380-B987-4843ABBE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5CC406-94D6-4055-8C1A-C9EDD452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97B3D3-143D-4CEF-A021-FFAC14E1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6EF7-E8F9-4215-8A18-313F875C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444F54-A42D-4265-9351-454EF704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64983D-5EBA-4A70-8396-2322C294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D31232-B979-458D-A00F-A991CCA4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957BDE-A6B8-46DC-A9E0-583E3430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B8454D-78A0-4369-9F61-40D51B77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4EDDE9-679B-4B5F-A2C9-D6243957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96D885-3CEB-493D-86FC-E5F3DBCA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EB456F-345A-4C07-B4F1-999A5AC0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E6AB3E-9315-4C2A-A16A-B54B0370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03C9DF-C2D6-41DD-9A79-15F14B14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FF41-4CBF-4912-BBBD-C319BE7C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2BF7E2-88B7-498C-B513-0B4C8046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8C1E4-0E6A-4479-B82F-B47C20B2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028CA8-2ED2-4CB0-AF5C-56119734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964C37-DFD1-4F4E-9FBB-D0111580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814BBC-FF34-49F6-8F92-099B9A8D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310A6A-2D9C-45B8-9AF2-6D7600EC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6D5F3B-C83C-4BF7-973C-09BA07EE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3CC082-1838-499F-B52E-D7CC9A32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0EE5F6-D1CC-43F5-91BA-72ADBBCA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D3C62D-731D-4B29-A48A-450BB93E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A8AA-4C2C-47B9-840A-CA3F47DB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CBD736-9AB8-4185-9E2F-1E5177A7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393743-8A95-4E1D-BDC2-85B0F22E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96EA31-ED0F-4233-9839-FA92FE59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D6E378-8DB5-47B3-BFAC-F8DE0D3E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85138F-CB74-468B-AEF9-A0202624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9BE479-19CF-4379-8F9B-AEDA076E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1EAF93-A2A4-465E-9D2F-74C112F4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994FFA-4AB0-4D6F-B403-C0233BE1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541707-6E46-4B2B-BE6B-DF64A9C7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EFEA1C-F08D-4E36-A890-9C6B4E6F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E32F-9534-4C92-86CE-7B0B9AAA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A6E8-9611-430F-B405-BE3A4CCB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22CA82-828A-4271-8D42-02EDC2C2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425F9D-80C0-4C04-A0C2-438B2E5A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A0E705-16D6-46B7-9BAF-4335A0D9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0B362F-FC03-4529-8068-E6FBDB44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982676-C0BB-4A66-881A-49AF7037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3474-13C6-4DF0-8259-2AC01BCD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380E-480F-4690-89A6-BF2C05A6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71CB-3DC2-47A2-BABA-99B0E8BF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08F3-A501-4FD7-BBF2-A483860D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E5F1A-67C2-45E6-BB72-3B424BBB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0523B-E45A-45C8-9830-FEFAC980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21339-F705-4872-9DEC-1529F64A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FACE9-CC5E-45BB-9D58-50B79651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4FD9F-A40F-4535-BCE0-05714538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38F-A260-413A-8386-D4FA9843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78716-B2D5-4B8D-8E4B-137218FB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78BCA-9B06-4710-AECA-F65AD5A5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271B7-919C-4375-B31C-12508005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871A1-385F-4F68-9909-5FC75F6D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CB3E9-955B-4940-98A3-97EE372F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CFEE0-AE8D-4A2D-8090-28C0016C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6AEF1-E331-4989-AB38-DE3CC40F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FDFEF-021C-40BC-A90D-C94EBD1A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EFD4B-4AC9-435B-B60F-33964264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D5179-5919-4995-99CF-20270D5B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AD30-34EA-4E76-A5DF-A06B7BE1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B0006-485B-48FF-A131-45A055D3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F3DE8-7763-4F63-8658-D4947999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D7C3C-2C44-40CD-B64E-DF3B8141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69A78-DE1C-43B7-8A2B-B8985777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45283-F819-4C34-80D8-7DE6F1F1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904F0-964A-43F8-8332-4582B87E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1C714-E9DF-4C3A-986D-2BFB20A6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541F1-F4BF-4F5C-9437-359C5080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482B3-8D61-4256-9349-55157181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C1E7F-F03F-4834-B299-8BD43CE2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0AE-ED51-42DB-9CC2-96F1ACCD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D3876-7676-44B8-B6F3-96F72E98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BC16A-6560-44B0-888B-AE24B4E3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5EE96-7A96-40C1-BC88-0D2F7621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344E5-A615-43FC-A9A5-5B1B7C00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015BB-3727-4B13-A011-BA8032F0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5136C-9E5A-45FC-BE88-E6E13A4A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BB425-ECE7-484D-ABEC-4BB57043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E176A-8AAE-42D1-9CF6-E476A922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D7B07-3CA3-47FC-AF6E-1CF15198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FA04F-7D76-48B4-980B-EA256044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580-0B26-4E62-BDAA-8AB93360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532F0-6029-45D0-82DA-A59C1539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E0C02-683F-4FFD-8E1C-852D670B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06FCB-3C01-4F82-9E9B-EE3579B9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1C710-77EB-4F69-BC95-FCFDB1D1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FD91A-1CDB-4437-8351-0CFA5E8B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BF067-9F4D-444E-90FB-2E45ACCD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477F1-11DD-4FA1-B7C6-0C316B3E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42533-136D-44C1-99AF-32B2F544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BF985-F13E-4B7D-8E75-5345463C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584AF-D73B-4195-8E90-B8FEE632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7B9-C7F3-4B0A-8990-B1295E3F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CF551-6BE7-410E-ADFF-21A20F90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692CD-1889-4D1B-8DC4-422E72B3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3F97B-8E30-4160-A8DF-EEE93747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560BB-7FCD-41CE-B841-754015E9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4FBD7-F44C-4919-8453-A2A22606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78182-8474-4FCA-9AFB-DDBE22ED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80C5A-56B1-4A25-A699-FCCBAC0E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0D30A-D176-4E41-B5A8-E2EF7101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66B3D-D8B9-41C7-8113-704F37E9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7AFD0-5C1C-4DEB-89A6-2C803F21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003-C89F-4282-94A9-9DBEFA6F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1B5FB-8F10-431C-85E0-5DDA1207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D5E2B-F205-4208-B831-0A876C36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D89B3-68E6-4B38-8A4E-CD216CFD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892FB-1402-411E-8E7D-CF8A2598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E056C-EB7A-4AE5-8028-5BE10BC9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D365D-DDCB-45A9-959B-E11F686E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F1D72-20EB-4A72-8FFB-77FACDAC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EEB9A-DFD8-4F41-B335-418E6E0E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E14C4-529E-46B3-B918-FE6D8861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72D9F-518C-48D7-B254-F8F7BC10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692C-0F7E-424A-9AAF-AD0A1D07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16EE2-C7C0-429C-B6F1-1C57E794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17AA3-4DEE-44B5-92CC-29D98A50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746B9-05E9-416D-86AB-C285A8FE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4FCE9-8CAA-4028-BF31-C9BB94CA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95808-E012-4108-A8E0-B7BB66A4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CE0D1-02A1-425E-A6C1-1C11C0A3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70F90-950A-46C9-B17D-365B4141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C849C-4269-4E81-AE0A-4D880FE7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6BEE4-E11D-4EFF-99D5-2AA4BC28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F44A9-D13D-46FA-A522-489986DD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037A-A5A4-465E-8A00-978090457822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6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1F94-6443-4403-A433-A161356F08FE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2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2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2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2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3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3260-C014-4D92-ADF1-D64CA9FDA82E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7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83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9aaf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9aaf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3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3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3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ED75-639F-48A0-86CD-89D316D72BE1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2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3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3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3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B8EF-95C9-457E-B5B6-386DA046A397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7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8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9aaf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9aaf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4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4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BF5C-1080-4507-AFB6-0ECC70CF38DB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3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4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4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4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A249-D926-42BC-BA4F-870E905A81BA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8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9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9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9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9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9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4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4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E85E-6821-4BD1-8B7B-445CCE9ABEA1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83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4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5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5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6087-0315-408D-8C60-F8DC1FADB2B9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4754-F4DD-4B7C-966A-7D445B4B761C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519B-D0EA-4FEF-9CDA-E8E5F822229B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CC17-5958-40F5-9177-39B6F4849441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DFB1-CD57-40D9-A766-09BAA3983001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CE2A-1A78-453A-9798-3A58BB90F9C2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A720-937C-47DE-BD3C-2F3FB3029AAF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502A-56CA-422B-912F-ADA5BF60F328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1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0f6f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1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1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0f6f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009dd9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6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59aaf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f6f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0f6f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f6fc6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6001-E392-4328-8900-1E4A7101F126}" type="slidenum">
              <a:rPr b="0" lang="ru-RU" sz="9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2" descr=""/>
          <p:cNvPicPr/>
          <p:nvPr/>
        </p:nvPicPr>
        <p:blipFill>
          <a:blip r:embed="rId1"/>
          <a:srcRect l="22951" t="10490" r="23939" b="17503"/>
          <a:stretch/>
        </p:blipFill>
        <p:spPr>
          <a:xfrm>
            <a:off x="863640" y="476280"/>
            <a:ext cx="3665520" cy="638172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788360" y="4005360"/>
            <a:ext cx="3097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114864"/>
                </a:solidFill>
                <a:latin typeface="Trebuchet MS"/>
              </a:rPr>
              <a:t>Казак Елена Юрьевна</a:t>
            </a:r>
            <a:br>
              <a:rPr sz="1700"/>
            </a:br>
            <a:r>
              <a:rPr b="1" lang="ru-RU" sz="1700" spc="-1" strike="noStrike">
                <a:solidFill>
                  <a:srgbClr val="114864"/>
                </a:solidFill>
                <a:latin typeface="Trebuchet MS"/>
              </a:rPr>
              <a:t>Соловьёва Алёна Павловна</a:t>
            </a:r>
            <a:br>
              <a:rPr sz="1700"/>
            </a:br>
            <a:r>
              <a:rPr b="1" lang="ru-RU" sz="1700" spc="-1" strike="noStrike">
                <a:solidFill>
                  <a:srgbClr val="114864"/>
                </a:solidFill>
                <a:latin typeface="Trebuchet MS"/>
              </a:rPr>
              <a:t>МБОУ СОШ№81</a:t>
            </a:r>
            <a:br>
              <a:rPr sz="1700"/>
            </a:br>
            <a:r>
              <a:rPr b="1" lang="ru-RU" sz="1700" spc="-1" strike="noStrike">
                <a:solidFill>
                  <a:srgbClr val="114864"/>
                </a:solidFill>
                <a:latin typeface="Trebuchet MS"/>
              </a:rPr>
              <a:t>г. Нижний Тагил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890" name="Заголовок 3" descr=""/>
          <p:cNvPicPr/>
          <p:nvPr/>
        </p:nvPicPr>
        <p:blipFill>
          <a:blip r:embed="rId2"/>
          <a:stretch/>
        </p:blipFill>
        <p:spPr>
          <a:xfrm>
            <a:off x="2597040" y="2054160"/>
            <a:ext cx="660744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Заголовок 1" descr=""/>
          <p:cNvPicPr/>
          <p:nvPr/>
        </p:nvPicPr>
        <p:blipFill>
          <a:blip r:embed="rId1"/>
          <a:stretch/>
        </p:blipFill>
        <p:spPr>
          <a:xfrm>
            <a:off x="249120" y="878040"/>
            <a:ext cx="7809120" cy="142704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 txBox="1"/>
          <p:nvPr/>
        </p:nvSpPr>
        <p:spPr>
          <a:xfrm>
            <a:off x="142560" y="1915920"/>
            <a:ext cx="7705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мяч…к           __________-ик-__________     ключ…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15000"/>
              </a:lnSpc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замоч…к                                                          цветоч…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15000"/>
              </a:lnSpc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зайч..к            ___________-ек-__________    дом…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15000"/>
              </a:lnSpc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929" name="Picture 2" descr=""/>
          <p:cNvPicPr/>
          <p:nvPr/>
        </p:nvPicPr>
        <p:blipFill>
          <a:blip r:embed="rId2"/>
          <a:stretch/>
        </p:blipFill>
        <p:spPr>
          <a:xfrm>
            <a:off x="1979640" y="3629160"/>
            <a:ext cx="4032360" cy="322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Заголовок 1" descr=""/>
          <p:cNvPicPr/>
          <p:nvPr/>
        </p:nvPicPr>
        <p:blipFill>
          <a:blip r:embed="rId1"/>
          <a:stretch/>
        </p:blipFill>
        <p:spPr>
          <a:xfrm>
            <a:off x="249120" y="878040"/>
            <a:ext cx="7632720" cy="142704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 txBox="1"/>
          <p:nvPr/>
        </p:nvSpPr>
        <p:spPr>
          <a:xfrm>
            <a:off x="142560" y="1915920"/>
            <a:ext cx="9109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мяч</a:t>
            </a:r>
            <a:r>
              <a:rPr b="1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ик</a:t>
            </a:r>
            <a:r>
              <a:rPr b="0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             __________-ик-__________     ключ</a:t>
            </a:r>
            <a:r>
              <a:rPr b="1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и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15000"/>
              </a:lnSpc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зайч</a:t>
            </a:r>
            <a:r>
              <a:rPr b="1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ик</a:t>
            </a:r>
            <a:r>
              <a:rPr b="0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            __________-ик-__________     дом</a:t>
            </a:r>
            <a:r>
              <a:rPr b="1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и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15000"/>
              </a:lnSpc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замоч</a:t>
            </a:r>
            <a:r>
              <a:rPr b="1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ек</a:t>
            </a:r>
            <a:r>
              <a:rPr b="0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           __________-ек-__________     цветоч</a:t>
            </a:r>
            <a:r>
              <a:rPr b="1" lang="ru-RU" sz="2400" spc="-1" strike="noStrike">
                <a:solidFill>
                  <a:srgbClr val="113052"/>
                </a:solidFill>
                <a:latin typeface="Times New Roman"/>
                <a:ea typeface="Calibri"/>
              </a:rPr>
              <a:t>е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932" name="Picture 2" descr=""/>
          <p:cNvPicPr/>
          <p:nvPr/>
        </p:nvPicPr>
        <p:blipFill>
          <a:blip r:embed="rId2"/>
          <a:stretch/>
        </p:blipFill>
        <p:spPr>
          <a:xfrm>
            <a:off x="1979640" y="3629160"/>
            <a:ext cx="4032360" cy="32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Заголовок 1" descr=""/>
          <p:cNvPicPr/>
          <p:nvPr/>
        </p:nvPicPr>
        <p:blipFill>
          <a:blip r:embed="rId1"/>
          <a:stretch/>
        </p:blipFill>
        <p:spPr>
          <a:xfrm>
            <a:off x="1347840" y="828720"/>
            <a:ext cx="6100560" cy="1116000"/>
          </a:xfrm>
          <a:prstGeom prst="rect">
            <a:avLst/>
          </a:prstGeom>
          <a:ln w="0">
            <a:noFill/>
          </a:ln>
        </p:spPr>
      </p:pic>
      <p:pic>
        <p:nvPicPr>
          <p:cNvPr id="934" name="Рисунок 3" descr=""/>
          <p:cNvPicPr/>
          <p:nvPr/>
        </p:nvPicPr>
        <p:blipFill>
          <a:blip r:embed="rId2"/>
          <a:stretch/>
        </p:blipFill>
        <p:spPr>
          <a:xfrm>
            <a:off x="1835280" y="1951200"/>
            <a:ext cx="5329080" cy="35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Рисунок 8" descr=""/>
          <p:cNvPicPr/>
          <p:nvPr/>
        </p:nvPicPr>
        <p:blipFill>
          <a:blip r:embed="rId1"/>
          <a:stretch/>
        </p:blipFill>
        <p:spPr>
          <a:xfrm rot="20868000">
            <a:off x="5418000" y="3193560"/>
            <a:ext cx="1914840" cy="1913040"/>
          </a:xfrm>
          <a:prstGeom prst="rect">
            <a:avLst/>
          </a:prstGeom>
          <a:ln w="0">
            <a:noFill/>
          </a:ln>
        </p:spPr>
      </p:pic>
      <p:pic>
        <p:nvPicPr>
          <p:cNvPr id="936" name="Рисунок 10" descr=""/>
          <p:cNvPicPr/>
          <p:nvPr/>
        </p:nvPicPr>
        <p:blipFill>
          <a:blip r:embed="rId2"/>
          <a:srcRect l="0" t="17725" r="9489" b="32828"/>
          <a:stretch/>
        </p:blipFill>
        <p:spPr>
          <a:xfrm rot="518400">
            <a:off x="5435640" y="577800"/>
            <a:ext cx="1500120" cy="1773360"/>
          </a:xfrm>
          <a:prstGeom prst="rect">
            <a:avLst/>
          </a:prstGeom>
          <a:ln w="0">
            <a:noFill/>
          </a:ln>
        </p:spPr>
      </p:pic>
      <p:pic>
        <p:nvPicPr>
          <p:cNvPr id="937" name="Рисунок 11" descr=""/>
          <p:cNvPicPr/>
          <p:nvPr/>
        </p:nvPicPr>
        <p:blipFill>
          <a:blip r:embed="rId3"/>
          <a:srcRect l="0" t="24106" r="0" b="26331"/>
          <a:stretch/>
        </p:blipFill>
        <p:spPr>
          <a:xfrm rot="20166600">
            <a:off x="696960" y="3282480"/>
            <a:ext cx="1828800" cy="1962360"/>
          </a:xfrm>
          <a:prstGeom prst="rect">
            <a:avLst/>
          </a:prstGeom>
          <a:ln w="0">
            <a:noFill/>
          </a:ln>
        </p:spPr>
      </p:pic>
      <p:pic>
        <p:nvPicPr>
          <p:cNvPr id="938" name="Рисунок 12" descr=""/>
          <p:cNvPicPr/>
          <p:nvPr/>
        </p:nvPicPr>
        <p:blipFill>
          <a:blip r:embed="rId4"/>
          <a:srcRect l="0" t="19703" r="3762" b="38466"/>
          <a:stretch/>
        </p:blipFill>
        <p:spPr>
          <a:xfrm rot="418200">
            <a:off x="3177720" y="3995640"/>
            <a:ext cx="2100240" cy="2116080"/>
          </a:xfrm>
          <a:prstGeom prst="rect">
            <a:avLst/>
          </a:prstGeom>
          <a:ln w="0">
            <a:noFill/>
          </a:ln>
        </p:spPr>
      </p:pic>
      <p:pic>
        <p:nvPicPr>
          <p:cNvPr id="939" name="Рисунок 1" descr=""/>
          <p:cNvPicPr/>
          <p:nvPr/>
        </p:nvPicPr>
        <p:blipFill>
          <a:blip r:embed="rId5"/>
          <a:srcRect l="31539" t="5876" r="20769" b="11132"/>
          <a:stretch/>
        </p:blipFill>
        <p:spPr>
          <a:xfrm>
            <a:off x="841320" y="189000"/>
            <a:ext cx="1884240" cy="2070000"/>
          </a:xfrm>
          <a:prstGeom prst="rect">
            <a:avLst/>
          </a:prstGeom>
          <a:ln w="0">
            <a:noFill/>
          </a:ln>
        </p:spPr>
      </p:pic>
      <p:pic>
        <p:nvPicPr>
          <p:cNvPr id="940" name="Рисунок 2" descr=""/>
          <p:cNvPicPr/>
          <p:nvPr/>
        </p:nvPicPr>
        <p:blipFill>
          <a:blip r:embed="rId6"/>
          <a:srcRect l="0" t="6296" r="0" b="15572"/>
          <a:stretch/>
        </p:blipFill>
        <p:spPr>
          <a:xfrm>
            <a:off x="2732040" y="960480"/>
            <a:ext cx="2419560" cy="2220840"/>
          </a:xfrm>
          <a:prstGeom prst="rect">
            <a:avLst/>
          </a:prstGeom>
          <a:ln w="0">
            <a:noFill/>
          </a:ln>
        </p:spPr>
      </p:pic>
      <p:sp>
        <p:nvSpPr>
          <p:cNvPr id="941" name="TextBox 3"/>
          <p:cNvSpPr/>
          <p:nvPr/>
        </p:nvSpPr>
        <p:spPr>
          <a:xfrm>
            <a:off x="504720" y="2278080"/>
            <a:ext cx="279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2"/>
                </a:solidFill>
                <a:latin typeface="Trebuchet MS"/>
              </a:rPr>
              <a:t>His yellow aeropla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2" name="TextBox 4"/>
          <p:cNvSpPr/>
          <p:nvPr/>
        </p:nvSpPr>
        <p:spPr>
          <a:xfrm>
            <a:off x="2922480" y="3173400"/>
            <a:ext cx="26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2"/>
                </a:solidFill>
                <a:latin typeface="Trebuchet MS"/>
              </a:rPr>
              <a:t>Her blue elepha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3" name="TextBox 5"/>
          <p:cNvSpPr/>
          <p:nvPr/>
        </p:nvSpPr>
        <p:spPr>
          <a:xfrm rot="694800">
            <a:off x="4951080" y="2276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2"/>
                </a:solidFill>
                <a:latin typeface="Trebuchet MS"/>
              </a:rPr>
              <a:t>Her yellow dol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4" name="TextBox 6"/>
          <p:cNvSpPr/>
          <p:nvPr/>
        </p:nvSpPr>
        <p:spPr>
          <a:xfrm rot="20139000">
            <a:off x="1107720" y="5138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2"/>
                </a:solidFill>
                <a:latin typeface="Trebuchet MS"/>
              </a:rPr>
              <a:t>His blue tra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5" name="TextBox 7"/>
          <p:cNvSpPr/>
          <p:nvPr/>
        </p:nvSpPr>
        <p:spPr>
          <a:xfrm rot="309600">
            <a:off x="1778760" y="6030360"/>
            <a:ext cx="45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2"/>
                </a:solidFill>
                <a:latin typeface="Trebuchet MS"/>
              </a:rPr>
              <a:t>Her yellow, red, green and blue bal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6" name="TextBox 13"/>
          <p:cNvSpPr/>
          <p:nvPr/>
        </p:nvSpPr>
        <p:spPr>
          <a:xfrm rot="20159400">
            <a:off x="5312880" y="490644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2"/>
                </a:solidFill>
                <a:latin typeface="Trebuchet MS"/>
              </a:rPr>
              <a:t>His brown rocking hor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Заголовок 1" descr=""/>
          <p:cNvPicPr/>
          <p:nvPr/>
        </p:nvPicPr>
        <p:blipFill>
          <a:blip r:embed="rId1"/>
          <a:stretch/>
        </p:blipFill>
        <p:spPr>
          <a:xfrm>
            <a:off x="609480" y="506520"/>
            <a:ext cx="6345360" cy="142560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Я люблю свою лошадку,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Причешу ей шёрстку гладко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Заголовок 1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6345360" cy="14619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" descr=""/>
          <p:cNvPicPr/>
          <p:nvPr/>
        </p:nvPicPr>
        <p:blipFill>
          <a:blip r:embed="rId2"/>
          <a:stretch/>
        </p:blipFill>
        <p:spPr>
          <a:xfrm rot="20735400">
            <a:off x="836280" y="1827360"/>
            <a:ext cx="4314960" cy="32353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5" descr=""/>
          <p:cNvPicPr/>
          <p:nvPr/>
        </p:nvPicPr>
        <p:blipFill>
          <a:blip r:embed="rId3"/>
          <a:stretch/>
        </p:blipFill>
        <p:spPr>
          <a:xfrm rot="1086000">
            <a:off x="5231880" y="1903320"/>
            <a:ext cx="3583080" cy="26863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6" descr=""/>
          <p:cNvPicPr/>
          <p:nvPr/>
        </p:nvPicPr>
        <p:blipFill>
          <a:blip r:embed="rId4"/>
          <a:stretch/>
        </p:blipFill>
        <p:spPr>
          <a:xfrm>
            <a:off x="3492360" y="4029120"/>
            <a:ext cx="300528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Рисунок 3" descr=""/>
          <p:cNvPicPr/>
          <p:nvPr/>
        </p:nvPicPr>
        <p:blipFill>
          <a:blip r:embed="rId1"/>
          <a:stretch/>
        </p:blipFill>
        <p:spPr>
          <a:xfrm>
            <a:off x="3998880" y="2530440"/>
            <a:ext cx="3792600" cy="3821040"/>
          </a:xfrm>
          <a:prstGeom prst="rect">
            <a:avLst/>
          </a:prstGeom>
          <a:ln w="0">
            <a:noFill/>
          </a:ln>
        </p:spPr>
      </p:pic>
      <p:pic>
        <p:nvPicPr>
          <p:cNvPr id="892" name="Заголовок 1" descr=""/>
          <p:cNvPicPr/>
          <p:nvPr/>
        </p:nvPicPr>
        <p:blipFill>
          <a:blip r:embed="rId2"/>
          <a:stretch/>
        </p:blipFill>
        <p:spPr>
          <a:xfrm>
            <a:off x="414360" y="476280"/>
            <a:ext cx="7254720" cy="227340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2" descr=""/>
          <p:cNvPicPr/>
          <p:nvPr/>
        </p:nvPicPr>
        <p:blipFill>
          <a:blip r:embed="rId3"/>
          <a:stretch/>
        </p:blipFill>
        <p:spPr>
          <a:xfrm>
            <a:off x="420840" y="2577960"/>
            <a:ext cx="4663800" cy="376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Заголовок 1" descr=""/>
          <p:cNvPicPr/>
          <p:nvPr/>
        </p:nvPicPr>
        <p:blipFill>
          <a:blip r:embed="rId1"/>
          <a:stretch/>
        </p:blipFill>
        <p:spPr>
          <a:xfrm>
            <a:off x="755640" y="781200"/>
            <a:ext cx="6840720" cy="2224080"/>
          </a:xfrm>
          <a:prstGeom prst="rect">
            <a:avLst/>
          </a:prstGeom>
          <a:ln w="0">
            <a:noFill/>
          </a:ln>
        </p:spPr>
      </p:pic>
      <p:sp>
        <p:nvSpPr>
          <p:cNvPr id="895" name="TextBox 4"/>
          <p:cNvSpPr/>
          <p:nvPr/>
        </p:nvSpPr>
        <p:spPr>
          <a:xfrm>
            <a:off x="3314880" y="313524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мяч –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шар –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машина –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кукла -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96" name="Группа 14"/>
          <p:cNvGrpSpPr/>
          <p:nvPr/>
        </p:nvGrpSpPr>
        <p:grpSpPr>
          <a:xfrm>
            <a:off x="4322880" y="3486240"/>
            <a:ext cx="1655640" cy="1139760"/>
            <a:chOff x="4322880" y="3486240"/>
            <a:chExt cx="1655640" cy="1139760"/>
          </a:xfrm>
        </p:grpSpPr>
        <p:sp>
          <p:nvSpPr>
            <p:cNvPr id="897" name="Прямая соединительная линия 6"/>
            <p:cNvSpPr/>
            <p:nvPr/>
          </p:nvSpPr>
          <p:spPr>
            <a:xfrm>
              <a:off x="4322880" y="3486240"/>
              <a:ext cx="1655640" cy="0"/>
            </a:xfrm>
            <a:prstGeom prst="line">
              <a:avLst/>
            </a:prstGeom>
            <a:ln cap="rnd" w="19080">
              <a:solidFill>
                <a:srgbClr val="1148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98" name="Прямая соединительная линия 7"/>
            <p:cNvSpPr/>
            <p:nvPr/>
          </p:nvSpPr>
          <p:spPr>
            <a:xfrm>
              <a:off x="4322880" y="3919680"/>
              <a:ext cx="1655640" cy="0"/>
            </a:xfrm>
            <a:prstGeom prst="line">
              <a:avLst/>
            </a:prstGeom>
            <a:ln cap="rnd" w="19080">
              <a:solidFill>
                <a:srgbClr val="1148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99" name="Прямая соединительная линия 8"/>
            <p:cNvSpPr/>
            <p:nvPr/>
          </p:nvSpPr>
          <p:spPr>
            <a:xfrm>
              <a:off x="4898880" y="4286520"/>
              <a:ext cx="1079640" cy="0"/>
            </a:xfrm>
            <a:prstGeom prst="line">
              <a:avLst/>
            </a:prstGeom>
            <a:ln cap="rnd" w="19080">
              <a:solidFill>
                <a:srgbClr val="1148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0" name="Прямая соединительная линия 10"/>
            <p:cNvSpPr/>
            <p:nvPr/>
          </p:nvSpPr>
          <p:spPr>
            <a:xfrm>
              <a:off x="4599000" y="4626000"/>
              <a:ext cx="1379520" cy="0"/>
            </a:xfrm>
            <a:prstGeom prst="line">
              <a:avLst/>
            </a:prstGeom>
            <a:ln cap="rnd" w="19080">
              <a:solidFill>
                <a:srgbClr val="1148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901" name="Рисунок 15" descr=""/>
          <p:cNvPicPr/>
          <p:nvPr/>
        </p:nvPicPr>
        <p:blipFill>
          <a:blip r:embed="rId2"/>
          <a:stretch/>
        </p:blipFill>
        <p:spPr>
          <a:xfrm rot="20806800">
            <a:off x="549000" y="3240000"/>
            <a:ext cx="2120760" cy="3318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Заголовок 1" descr=""/>
          <p:cNvPicPr/>
          <p:nvPr/>
        </p:nvPicPr>
        <p:blipFill>
          <a:blip r:embed="rId1"/>
          <a:stretch/>
        </p:blipFill>
        <p:spPr>
          <a:xfrm>
            <a:off x="609480" y="622440"/>
            <a:ext cx="8406000" cy="4473360"/>
          </a:xfrm>
          <a:prstGeom prst="rect">
            <a:avLst/>
          </a:prstGeom>
          <a:ln w="0">
            <a:noFill/>
          </a:ln>
        </p:spPr>
      </p:pic>
      <p:sp>
        <p:nvSpPr>
          <p:cNvPr id="903" name="Прямая соединительная линия 4"/>
          <p:cNvSpPr/>
          <p:nvPr/>
        </p:nvSpPr>
        <p:spPr>
          <a:xfrm flipV="1">
            <a:off x="4549680" y="2492280"/>
            <a:ext cx="216000" cy="216000"/>
          </a:xfrm>
          <a:prstGeom prst="line">
            <a:avLst/>
          </a:prstGeom>
          <a:ln cap="rnd"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04" name="Picture 2" descr=""/>
          <p:cNvPicPr/>
          <p:nvPr/>
        </p:nvPicPr>
        <p:blipFill>
          <a:blip r:embed="rId2"/>
          <a:stretch/>
        </p:blipFill>
        <p:spPr>
          <a:xfrm>
            <a:off x="4649760" y="3147840"/>
            <a:ext cx="231840" cy="23184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3" descr=""/>
          <p:cNvPicPr/>
          <p:nvPr/>
        </p:nvPicPr>
        <p:blipFill>
          <a:blip r:embed="rId3"/>
          <a:stretch/>
        </p:blipFill>
        <p:spPr>
          <a:xfrm>
            <a:off x="5170320" y="3668760"/>
            <a:ext cx="231840" cy="231840"/>
          </a:xfrm>
          <a:prstGeom prst="rect">
            <a:avLst/>
          </a:prstGeom>
          <a:ln w="0">
            <a:noFill/>
          </a:ln>
        </p:spPr>
      </p:pic>
      <p:sp>
        <p:nvSpPr>
          <p:cNvPr id="906" name="Прямая соединительная линия 6"/>
          <p:cNvSpPr/>
          <p:nvPr/>
        </p:nvSpPr>
        <p:spPr>
          <a:xfrm>
            <a:off x="4716360" y="2492280"/>
            <a:ext cx="187560" cy="216000"/>
          </a:xfrm>
          <a:prstGeom prst="line">
            <a:avLst/>
          </a:prstGeom>
          <a:ln cap="rnd"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07" name="Picture 5" descr=""/>
          <p:cNvPicPr/>
          <p:nvPr/>
        </p:nvPicPr>
        <p:blipFill>
          <a:blip r:embed="rId4"/>
          <a:stretch/>
        </p:blipFill>
        <p:spPr>
          <a:xfrm>
            <a:off x="4853160" y="3151080"/>
            <a:ext cx="201600" cy="2318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6" descr=""/>
          <p:cNvPicPr/>
          <p:nvPr/>
        </p:nvPicPr>
        <p:blipFill>
          <a:blip r:embed="rId5"/>
          <a:stretch/>
        </p:blipFill>
        <p:spPr>
          <a:xfrm>
            <a:off x="5364000" y="3649680"/>
            <a:ext cx="201600" cy="23184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7" descr=""/>
          <p:cNvPicPr/>
          <p:nvPr/>
        </p:nvPicPr>
        <p:blipFill>
          <a:blip r:embed="rId6"/>
          <a:stretch/>
        </p:blipFill>
        <p:spPr>
          <a:xfrm>
            <a:off x="4903920" y="4254480"/>
            <a:ext cx="201600" cy="23184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8" descr=""/>
          <p:cNvPicPr/>
          <p:nvPr/>
        </p:nvPicPr>
        <p:blipFill>
          <a:blip r:embed="rId7"/>
          <a:stretch/>
        </p:blipFill>
        <p:spPr>
          <a:xfrm>
            <a:off x="4748040" y="4254480"/>
            <a:ext cx="231840" cy="231840"/>
          </a:xfrm>
          <a:prstGeom prst="rect">
            <a:avLst/>
          </a:prstGeom>
          <a:ln w="0">
            <a:noFill/>
          </a:ln>
        </p:spPr>
      </p:pic>
      <p:pic>
        <p:nvPicPr>
          <p:cNvPr id="911" name="Рисунок 2" descr=""/>
          <p:cNvPicPr/>
          <p:nvPr/>
        </p:nvPicPr>
        <p:blipFill>
          <a:blip r:embed="rId8"/>
          <a:stretch/>
        </p:blipFill>
        <p:spPr>
          <a:xfrm rot="643200">
            <a:off x="4750920" y="3075120"/>
            <a:ext cx="3962520" cy="3813120"/>
          </a:xfrm>
          <a:prstGeom prst="rect">
            <a:avLst/>
          </a:prstGeom>
          <a:ln w="0">
            <a:noFill/>
          </a:ln>
        </p:spPr>
      </p:pic>
      <p:pic>
        <p:nvPicPr>
          <p:cNvPr id="912" name="TextBox 3" descr=""/>
          <p:cNvPicPr/>
          <p:nvPr/>
        </p:nvPicPr>
        <p:blipFill>
          <a:blip r:embed="rId9"/>
          <a:stretch/>
        </p:blipFill>
        <p:spPr>
          <a:xfrm>
            <a:off x="1749600" y="1109520"/>
            <a:ext cx="4979880" cy="1127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Заголовок 1" descr=""/>
          <p:cNvPicPr/>
          <p:nvPr/>
        </p:nvPicPr>
        <p:blipFill>
          <a:blip r:embed="rId1"/>
          <a:stretch/>
        </p:blipFill>
        <p:spPr>
          <a:xfrm>
            <a:off x="755640" y="878040"/>
            <a:ext cx="6346800" cy="101124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 txBox="1"/>
          <p:nvPr/>
        </p:nvSpPr>
        <p:spPr>
          <a:xfrm>
            <a:off x="609480" y="2160360"/>
            <a:ext cx="6986880" cy="22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повторить образование          …      слов при помощи   …   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учиться писать слова с суффиксами –ек-,-ик-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Выучить слова по теме «…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915" name="Рисунок 3" descr=""/>
          <p:cNvPicPr/>
          <p:nvPr/>
        </p:nvPicPr>
        <p:blipFill>
          <a:blip r:embed="rId2"/>
          <a:stretch/>
        </p:blipFill>
        <p:spPr>
          <a:xfrm>
            <a:off x="4470480" y="4044960"/>
            <a:ext cx="4437000" cy="256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Заголовок 1" descr=""/>
          <p:cNvPicPr/>
          <p:nvPr/>
        </p:nvPicPr>
        <p:blipFill>
          <a:blip r:embed="rId1"/>
          <a:stretch/>
        </p:blipFill>
        <p:spPr>
          <a:xfrm>
            <a:off x="755640" y="878040"/>
            <a:ext cx="6346800" cy="101124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 txBox="1"/>
          <p:nvPr/>
        </p:nvSpPr>
        <p:spPr>
          <a:xfrm>
            <a:off x="609480" y="2160360"/>
            <a:ext cx="6986880" cy="22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повторить образование  родственных слов при помощи суффикс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учиться писать слова с суффиксами –ек-,-ик-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Выучить слова по теме «Игрушки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918" name="Рисунок 3" descr=""/>
          <p:cNvPicPr/>
          <p:nvPr/>
        </p:nvPicPr>
        <p:blipFill>
          <a:blip r:embed="rId2"/>
          <a:stretch/>
        </p:blipFill>
        <p:spPr>
          <a:xfrm>
            <a:off x="4470480" y="4044960"/>
            <a:ext cx="4437000" cy="2568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Заголовок 1" descr=""/>
          <p:cNvPicPr/>
          <p:nvPr/>
        </p:nvPicPr>
        <p:blipFill>
          <a:blip r:embed="rId1"/>
          <a:stretch/>
        </p:blipFill>
        <p:spPr>
          <a:xfrm>
            <a:off x="609480" y="506520"/>
            <a:ext cx="6345360" cy="142560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 txBox="1"/>
          <p:nvPr/>
        </p:nvSpPr>
        <p:spPr>
          <a:xfrm>
            <a:off x="395280" y="1628280"/>
            <a:ext cx="65628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Повторить правило образования родственных слов при помощи суффиксов, написание суффиксов –ек-,-и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2.Подвести итог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3.Познакомиться со словами по теме «Игрушки»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Заголовок 1" descr=""/>
          <p:cNvPicPr/>
          <p:nvPr/>
        </p:nvPicPr>
        <p:blipFill>
          <a:blip r:embed="rId1"/>
          <a:stretch/>
        </p:blipFill>
        <p:spPr>
          <a:xfrm>
            <a:off x="609480" y="506520"/>
            <a:ext cx="6345360" cy="142560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 txBox="1"/>
          <p:nvPr/>
        </p:nvSpPr>
        <p:spPr>
          <a:xfrm>
            <a:off x="395280" y="1628280"/>
            <a:ext cx="65628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Повторить правило образования родственных слов при помощи суффиксов, написание суффиксов –ек-,-и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2.Познакомиться со словами по теме «Игрушки»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13052"/>
                </a:solidFill>
                <a:latin typeface="Trebuchet MS"/>
              </a:rPr>
              <a:t>3.Подвести итог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0f6f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Рисунок 3" descr=""/>
          <p:cNvPicPr/>
          <p:nvPr/>
        </p:nvPicPr>
        <p:blipFill>
          <a:blip r:embed="rId1"/>
          <a:srcRect l="0" t="28722" r="0" b="26326"/>
          <a:stretch/>
        </p:blipFill>
        <p:spPr>
          <a:xfrm>
            <a:off x="0" y="1316160"/>
            <a:ext cx="5724360" cy="5568840"/>
          </a:xfrm>
          <a:prstGeom prst="rect">
            <a:avLst/>
          </a:prstGeom>
          <a:ln w="0">
            <a:noFill/>
          </a:ln>
        </p:spPr>
      </p:pic>
      <p:pic>
        <p:nvPicPr>
          <p:cNvPr id="924" name="Заголовок 1" descr=""/>
          <p:cNvPicPr/>
          <p:nvPr/>
        </p:nvPicPr>
        <p:blipFill>
          <a:blip r:embed="rId2"/>
          <a:stretch/>
        </p:blipFill>
        <p:spPr>
          <a:xfrm>
            <a:off x="1023840" y="165240"/>
            <a:ext cx="6632640" cy="1395360"/>
          </a:xfrm>
          <a:prstGeom prst="rect">
            <a:avLst/>
          </a:prstGeom>
          <a:ln w="0">
            <a:noFill/>
          </a:ln>
        </p:spPr>
      </p:pic>
      <p:sp>
        <p:nvSpPr>
          <p:cNvPr id="925" name="Прямоугольник 2"/>
          <p:cNvSpPr/>
          <p:nvPr/>
        </p:nvSpPr>
        <p:spPr>
          <a:xfrm rot="720000">
            <a:off x="5341680" y="2300400"/>
            <a:ext cx="3322440" cy="302004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ello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’m Tom. This is my toy. It is an elephant. Its name is Bob. It is grey. Bob likes apples. It can swim and dance. It can’t fly. I love my toy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6" name="Рисунок 5" descr=""/>
          <p:cNvPicPr/>
          <p:nvPr/>
        </p:nvPicPr>
        <p:blipFill>
          <a:blip r:embed="rId3"/>
          <a:stretch/>
        </p:blipFill>
        <p:spPr>
          <a:xfrm rot="465000">
            <a:off x="3660480" y="5076720"/>
            <a:ext cx="1279440" cy="1527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16T13:45:09Z</dcterms:created>
  <dc:creator>Пользователь</dc:creator>
  <dc:description/>
  <dc:language>en-US</dc:language>
  <cp:lastModifiedBy>Пользователь</cp:lastModifiedBy>
  <dcterms:modified xsi:type="dcterms:W3CDTF">2024-12-17T15:48:45Z</dcterms:modified>
  <cp:revision>47</cp:revision>
  <dc:subject/>
  <dc:title>«Инклюзивное образование обучающихся в системе начального   общего образования».</dc:title>
</cp:coreProperties>
</file>