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D21-7ED1-4CDC-973E-09F5A38A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8F42-2F3F-4707-B95A-09C91B3E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54A-008E-4DF5-A20A-DA4BCBE9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A16-CE59-48F0-AD3A-24703268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28F1-DB19-4AC6-8CEB-17AFC9E4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851-8CB7-47CA-AA0D-2DC96CD3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E508-04BF-4B90-B019-B67F4032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CF4-73B2-4CEE-ADC2-EA030D16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F15-A1FA-4175-B332-5D0F1FE8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D78-7B02-486F-A579-87AC202A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053C-E2CB-47EB-9FEF-CC8E7210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4FED-445A-434B-B46D-4072AB53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DEBF-008B-47DB-A352-D8BDAF5895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774200" cy="20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Monotype Corsiva"/>
              </a:rPr>
              <a:t>Краткосрочный проект 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Monotype Corsiva"/>
              </a:rPr>
              <a:t>по нравственно – патриотическому воспитанию</a:t>
            </a:r>
            <a:r>
              <a:rPr b="0" lang="ru-RU" sz="44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4149360"/>
            <a:ext cx="604836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Monotype Corsiva"/>
              </a:rPr>
              <a:t>«Наша Армия – наше будуще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150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66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4608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entury Schoolbook"/>
              </a:rPr>
              <a:t>   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Century Schoolbook"/>
              </a:rPr>
              <a:t>Цел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660033"/>
                </a:solidFill>
                <a:uFillTx/>
                <a:latin typeface="Arial"/>
              </a:rPr>
              <a:t>Коррекционно - образовательная:</a:t>
            </a:r>
            <a:br>
              <a:rPr sz="16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- дать детям представление о том, что каждый мальчик – это будущий   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защитник Род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0033"/>
                </a:solidFill>
                <a:uFillTx/>
                <a:latin typeface="Arial"/>
              </a:rPr>
              <a:t>Коррекционно – развивающие: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- активизировать и расширять словарь по теме;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- закреплять знания детей о военных професс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0033"/>
                </a:solidFill>
                <a:uFillTx/>
                <a:latin typeface="Arial"/>
              </a:rPr>
              <a:t>Коррекционно – воспитательная: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- воспитание патриотических чув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16000" y="404640"/>
            <a:ext cx="41864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Century Schoolbook"/>
              </a:rPr>
              <a:t>   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Century Schoolbook"/>
              </a:rPr>
              <a:t>Задач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660033"/>
                </a:solidFill>
                <a:uFillTx/>
                <a:latin typeface="Arial"/>
              </a:rPr>
              <a:t>Формировать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едставление о защитниках Отече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660033"/>
                </a:solidFill>
                <a:uFillTx/>
                <a:latin typeface="Arial"/>
              </a:rPr>
              <a:t>Ввести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 активный словар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- существительные: 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командир, армия, солдат, ракетчик, танкист, пограничник, артиллерист, моря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- прилагательные: 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военный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храбрый, мужественный, отважный, смелый, труслив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- глаголы: 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воевать, защищать, сражаться, сопротивляться, побеждать, ранить, служить, охраня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660033"/>
                </a:solidFill>
                <a:uFillTx/>
                <a:latin typeface="Arial"/>
              </a:rPr>
              <a:t>Обогащать речь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синонимами и призна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660033"/>
                </a:solidFill>
                <a:uFillTx/>
                <a:latin typeface="Arial"/>
              </a:rPr>
              <a:t>Закреплять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ловообразование существительных, обозначающих воинов – защитников различных военных професс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660033"/>
                </a:solidFill>
                <a:uFillTx/>
                <a:latin typeface="Arial"/>
              </a:rPr>
              <a:t>Упражнять</a:t>
            </a: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 составлении небольших рассказов по картине, серии картин, заучивание стихотворен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Участники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4920" y="5516640"/>
            <a:ext cx="799308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Логогруппа подготовительного к школе возраста, родители, педагоги МБДОУ №12 «Росин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IMG_1589"/>
          <p:cNvPicPr/>
          <p:nvPr/>
        </p:nvPicPr>
        <p:blipFill>
          <a:blip r:embed="rId1"/>
          <a:stretch/>
        </p:blipFill>
        <p:spPr>
          <a:xfrm>
            <a:off x="2050920" y="1341360"/>
            <a:ext cx="5480280" cy="41101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Этапы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одготов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дбор методической, научно-популярной, художественной литературы по данной теме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оставление плана работ над проектом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дбор наглядного и дидактического материала. (старший воспитатель, логопед,  воспитатель групп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Технологический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дготовить доклад на тему: «Формирование чувства патриотизма, любви к родному краю, к России», для выступления перед педагогами ДОУ.(логопе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азработать конспект использованием методов развивающего обучения: «Путешествие на кораблике» (воспитатель групп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-    Разработать конспект развлекательного мероприятия для родителей: «Наша Армия» (старший воспитат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690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Основной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ыступление перед педагогами ДОУ с докладом на тему: «Формирование чувства патриотизма, любви к родному краю, к России», для выступления перед педагогами ДОУ.(логопе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Развитие ре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Беседы: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«Край, в котором мы живём», «О чём рассказывают памятники», «Военные професс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Ознакомление с художественной литературой, заучивание стих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Чтение литературы патриотического содержания: Б.Житков «Красный командир», А.Барто «На заставе», А.Митяев «Дедушкин орден», Е.Благинина «Шинель», Л.Кассиль «Памятник советскому солдату", С.Маршак «Пограничники».  (воспитатели логогруппы + логопе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Познавательная деятельно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Доклад : «Формирование чувства патриотизма, любви к родному краю, к России»(логопе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Занятие :«Путешествие на кораблике» (воспитатель групп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-    Развлекательное  мероприятие для родителей: «Наша Армия» (старший воспитате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P2181506"/>
          <p:cNvPicPr/>
          <p:nvPr/>
        </p:nvPicPr>
        <p:blipFill>
          <a:blip r:embed="rId1"/>
          <a:stretch/>
        </p:blipFill>
        <p:spPr>
          <a:xfrm>
            <a:off x="611280" y="4592520"/>
            <a:ext cx="2305080" cy="1729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P2181508"/>
          <p:cNvPicPr/>
          <p:nvPr/>
        </p:nvPicPr>
        <p:blipFill>
          <a:blip r:embed="rId2"/>
          <a:stretch/>
        </p:blipFill>
        <p:spPr>
          <a:xfrm>
            <a:off x="6659640" y="4941720"/>
            <a:ext cx="2111400" cy="15843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C:\Users\User\Downloads\IMG-20190220-WA0002.jpg"/>
          <p:cNvPicPr/>
          <p:nvPr/>
        </p:nvPicPr>
        <p:blipFill>
          <a:blip r:embed="rId3"/>
          <a:stretch/>
        </p:blipFill>
        <p:spPr>
          <a:xfrm>
            <a:off x="3419640" y="4386240"/>
            <a:ext cx="3024000" cy="23050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P2181511"/>
          <p:cNvPicPr/>
          <p:nvPr/>
        </p:nvPicPr>
        <p:blipFill>
          <a:blip r:embed="rId1"/>
          <a:stretch/>
        </p:blipFill>
        <p:spPr>
          <a:xfrm>
            <a:off x="1258920" y="1628640"/>
            <a:ext cx="3095640" cy="232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P2181510"/>
          <p:cNvPicPr/>
          <p:nvPr/>
        </p:nvPicPr>
        <p:blipFill>
          <a:blip r:embed="rId2"/>
          <a:stretch/>
        </p:blipFill>
        <p:spPr>
          <a:xfrm>
            <a:off x="5076720" y="1628640"/>
            <a:ext cx="3095640" cy="2320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Рассматривание: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фотографий, иллюстраций. </a:t>
            </a: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Игровая деятельность: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сюжетно-ролевая игра «Солдат в госпитале», дидактические игры «Путешествие по городу», «Где находится памятник? », «Загадки о город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Экскурсия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: к памятникам «Вечный огонь», «Воинам Интернационалистам».</a:t>
            </a:r>
            <a:br>
              <a:rPr sz="1600"/>
            </a:b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P2181512"/>
          <p:cNvPicPr/>
          <p:nvPr/>
        </p:nvPicPr>
        <p:blipFill>
          <a:blip r:embed="rId3"/>
          <a:stretch/>
        </p:blipFill>
        <p:spPr>
          <a:xfrm>
            <a:off x="2987640" y="4076640"/>
            <a:ext cx="3529080" cy="26481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820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Продуктивная деятельность: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рисование: «Памятники моего города», изготовление закладок для книг в  подарок папам. (воспитатели логогруппы + логопед)</a:t>
            </a:r>
            <a:br>
              <a:rPr sz="1600"/>
            </a:b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Работа с родителями: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музыкально – спортивное развлечение, посвящённое «Дню защитника Отечества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100_5973"/>
          <p:cNvPicPr/>
          <p:nvPr/>
        </p:nvPicPr>
        <p:blipFill>
          <a:blip r:embed="rId1"/>
          <a:stretch/>
        </p:blipFill>
        <p:spPr>
          <a:xfrm>
            <a:off x="755640" y="2065320"/>
            <a:ext cx="3384720" cy="2255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100_5968"/>
          <p:cNvPicPr/>
          <p:nvPr/>
        </p:nvPicPr>
        <p:blipFill>
          <a:blip r:embed="rId2"/>
          <a:stretch/>
        </p:blipFill>
        <p:spPr>
          <a:xfrm>
            <a:off x="5022720" y="2076480"/>
            <a:ext cx="3365640" cy="2243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100_5953"/>
          <p:cNvPicPr/>
          <p:nvPr/>
        </p:nvPicPr>
        <p:blipFill>
          <a:blip r:embed="rId3"/>
          <a:stretch/>
        </p:blipFill>
        <p:spPr>
          <a:xfrm>
            <a:off x="2987640" y="4437000"/>
            <a:ext cx="3497400" cy="233208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21844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Заключительный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Оформление альбо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езентация альбома на родительском собрани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P2181517"/>
          <p:cNvPicPr/>
          <p:nvPr/>
        </p:nvPicPr>
        <p:blipFill>
          <a:blip r:embed="rId1"/>
          <a:stretch/>
        </p:blipFill>
        <p:spPr>
          <a:xfrm>
            <a:off x="468360" y="314172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P2181518"/>
          <p:cNvPicPr/>
          <p:nvPr/>
        </p:nvPicPr>
        <p:blipFill>
          <a:blip r:embed="rId2"/>
          <a:stretch/>
        </p:blipFill>
        <p:spPr>
          <a:xfrm>
            <a:off x="4716360" y="3141720"/>
            <a:ext cx="4008600" cy="30081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2"/>
          <p:cNvSpPr/>
          <p:nvPr/>
        </p:nvSpPr>
        <p:spPr>
          <a:xfrm>
            <a:off x="395280" y="2205000"/>
            <a:ext cx="82184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660033"/>
                </a:solidFill>
                <a:latin typeface="Monotype Corsiva"/>
              </a:rPr>
              <a:t>Наши подарки пап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18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На сегодняшний день достигнуты следующи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Дети имеют представление о защитниках Отечества, сформировался мотив:  «Хочу быть таким как солдат: смелым, ловким, сильным, выносливым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Называют военные профес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Употребляют в активном словаре «новые» сл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Знают, где находятся памятники в нашем городе и в честь кого они воздвигну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Могут назвать произведения военной тематики, читают стихи, составляют небольшие рассказы по картинам, исполняют песни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Monotype Corsiva"/>
              </a:rPr>
              <a:t>Я искренне верю, что наши воспитанники вырастут настоящими патриотами своей Родин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7280" y="3141360"/>
            <a:ext cx="885672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660033"/>
                </a:solidFill>
                <a:latin typeface="Monotype Corsiva"/>
              </a:rPr>
              <a:t>Я искренне верю, что наши воспитанники вырастут настоящими патриотами своей Роди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mundito"/>
          <p:cNvPicPr/>
          <p:nvPr/>
        </p:nvPicPr>
        <p:blipFill>
          <a:blip r:embed="rId1"/>
          <a:stretch/>
        </p:blipFill>
        <p:spPr>
          <a:xfrm>
            <a:off x="2987640" y="4292640"/>
            <a:ext cx="3456000" cy="2281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4:55:34Z</dcterms:created>
  <dc:creator>Zver</dc:creator>
  <dc:description/>
  <dc:language>en-US</dc:language>
  <cp:lastModifiedBy>User</cp:lastModifiedBy>
  <dcterms:modified xsi:type="dcterms:W3CDTF">2019-05-20T09:24:14Z</dcterms:modified>
  <cp:revision>13</cp:revision>
  <dc:subject/>
  <dc:title>Краткосрочный проект  по нравственно – патриотическому воспитанию </dc:title>
</cp:coreProperties>
</file>