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A89-0CB4-4911-8DFF-B396F91C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903-15B5-4D36-88C2-26E65AB6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E80-CF7E-43EE-9468-3B23F80F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BBF-3213-4A3D-8F25-2AAE762D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3535-B39B-4FEF-ADCF-F8770EC7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7272-6DF7-4FC8-BD1A-1512104D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F1D9-9844-4210-886D-CDE0471E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5245-5E6F-418D-8CA4-C4BFD684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DAC-D1AC-475E-88EE-834460EF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9D9-C899-4356-9DFA-C3C97B60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E79B-595A-4E2E-BB8A-8C58D70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DE4-6E25-4433-A50D-9C227CD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53D8-0285-49FF-9A04-1011DCDE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60AA-01CF-40A3-A86E-46C8DF4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FA9-D4B6-440A-B853-CE380B3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5FE-AF36-435E-94EC-82B91E61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3E19-6FA9-4AD7-B643-14D9C5C9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8CF2-27B5-4F25-BB26-E83F7D34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21B4-E5FE-4FB3-A050-D400478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6B82-1743-4638-8F2E-336059D9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66CD-9516-4777-AB35-7823A235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D7CD-799C-41F6-84DF-E1E0F1E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BDF-6493-41C5-AE86-FF2A26B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B5C1-438B-4EF0-8355-D2213349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B3A5-6439-401B-9225-0157227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AE6A-4683-49B6-836D-AF1D3F7B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DD0C-65ED-4F25-A927-C985BE6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D54C-CF6E-4839-820B-CF5E5F11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3F56-841C-4127-8C3B-B74C3FDE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A8FE-9E44-46BD-B20D-A26ED95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3ABD7-EA34-42DB-A925-8D43A372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6E06-E68C-4F7F-8556-389ED425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B2ECB-C9D9-437B-AD6C-C6B978C6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F19-EBEE-4F7D-ADC4-A4CA09C8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B618-0758-4FAA-B798-4A814C53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ED32-EF0A-4621-9648-53789E0F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89C5-8DE3-40BE-9237-BFB36E03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0E73-71DB-42EF-B033-54EE2F92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B646-EEB3-4F85-89BA-D76CA64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18E1-7AE7-428E-BFBA-A649D4E7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B61C-7AD4-4332-91A2-8DE792A2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B0F1-6BE5-4130-9F04-2ACF4B24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3250D-620E-4113-B2BC-BCD34506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E95-B2A9-49D7-A1BF-AB2709C5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8FF-6565-4DF0-A79D-7F1245E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CDF-5707-4EAC-A0B7-42D80EC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A0B-AD4A-45DF-BDF4-1764826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328-09A0-400F-8752-F59AC03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88BF-A1FA-4B19-AA84-78B1E0AE9C5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0A9C-CF51-4932-A37E-CA0395AC225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F332-E866-4A81-981B-26BAB2B5312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4E60-302D-49A0-A436-6962640C83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811080"/>
            <a:ext cx="84981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85840" y="3571920"/>
            <a:ext cx="4071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ез прошлого нет будущего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1238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C:\Users\Vdovina-TV\Pictures\screenshot-1.jpg"/>
          <p:cNvPicPr/>
          <p:nvPr/>
        </p:nvPicPr>
        <p:blipFill>
          <a:blip r:embed="rId2"/>
          <a:stretch/>
        </p:blipFill>
        <p:spPr>
          <a:xfrm>
            <a:off x="285840" y="3429000"/>
            <a:ext cx="4252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1052280"/>
            <a:ext cx="85726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щенная вой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дая гвардия»- антифашистская молодёжная организация, действовавшая в г.Краснодон Ворошиловоградской (Луганской) области УССР  в сентябре1942- январе1943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333600" y="3279600"/>
            <a:ext cx="2152800" cy="6454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4"/>
          <p:cNvSpPr/>
          <p:nvPr/>
        </p:nvSpPr>
        <p:spPr>
          <a:xfrm>
            <a:off x="4788000" y="5668920"/>
            <a:ext cx="34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8186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0040" y="1643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1.Какие операции провели молодогвардейц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2.Почему они остались в памяти народ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3.Их можно назвать героям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лодогвардейцы были комсомольц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Что вы знаете о комсомол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комсомо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6" descr="C:\Users\Vdovina-TV\Pictures\02-04-15.jpg"/>
          <p:cNvPicPr/>
          <p:nvPr/>
        </p:nvPicPr>
        <p:blipFill>
          <a:blip r:embed="rId1"/>
          <a:stretch/>
        </p:blipFill>
        <p:spPr>
          <a:xfrm>
            <a:off x="6715080" y="3643200"/>
            <a:ext cx="19573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28576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Arial"/>
              </a:rPr>
              <a:t>Гост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1571400"/>
            <a:ext cx="4103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дашова Г.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имаков А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чугина Т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6" descr="Изображение логотипа"/>
          <p:cNvPicPr/>
          <p:nvPr/>
        </p:nvPicPr>
        <p:blipFill>
          <a:blip r:embed="rId1"/>
          <a:stretch/>
        </p:blipFill>
        <p:spPr>
          <a:xfrm>
            <a:off x="4929120" y="1143000"/>
            <a:ext cx="38419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64396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Arial"/>
                <a:ea typeface="Arial"/>
              </a:rPr>
              <a:t>В.И.Ленин: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омсомол-это политическая молодёжная организация в России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5840" y="2356920"/>
            <a:ext cx="8858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Какую роль сыграл комсомол в годы Вели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Отечественной войн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419640" y="4292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929040" y="4643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851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4286160" y="3500280"/>
            <a:ext cx="4430880" cy="3022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4"/>
          <p:cNvSpPr/>
          <p:nvPr/>
        </p:nvSpPr>
        <p:spPr>
          <a:xfrm>
            <a:off x="214200" y="3929040"/>
            <a:ext cx="407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сомол в годы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28400" y="785520"/>
            <a:ext cx="8543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Защита Родины стала главным делом в жизни молодёжи в период </a:t>
            </a:r>
            <a:r>
              <a:rPr b="1" lang="ru-RU" sz="2400" spc="-1" strike="noStrike">
                <a:solidFill>
                  <a:srgbClr val="0076a3"/>
                </a:solidFill>
                <a:latin typeface="Arial"/>
              </a:rPr>
              <a:t>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0 лет назад на Донбассе фашисты казнили членов «Молодой гвардии»,перед этим подвергнув их жестоким пытка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428760" y="2714760"/>
            <a:ext cx="6429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шная правда о Молодой гвар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были готовы к подв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вы,думаете,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C:\Users\Vdovina-TV\Pictures\200809080219180.nepokor.jpg"/>
          <p:cNvPicPr/>
          <p:nvPr/>
        </p:nvPicPr>
        <p:blipFill>
          <a:blip r:embed="rId1"/>
          <a:stretch/>
        </p:blipFill>
        <p:spPr>
          <a:xfrm>
            <a:off x="6215040" y="2857680"/>
            <a:ext cx="2486160" cy="37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Вечная памя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2920" y="14284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ьяне Громовой, Ивану Земнухову, Олегу Кошевому, Сергею Тюленину, Любови Шевцовой посмертно были присвоены звания Героя Советского Союза. В 1990 году его удостоился Иван Туркенич. Множество участников были награждены медалью «Партизану Отечественной войны» I степени и орденом Отечественной войны I степени, шестеро — орденом Красной Звезды, трое — орденом Красного Знаме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ута молч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8" descr="C:\Users\Vdovina-TV\Pictures\screenshot-1.jpg"/>
          <p:cNvPicPr/>
          <p:nvPr/>
        </p:nvPicPr>
        <p:blipFill>
          <a:blip r:embed="rId1"/>
          <a:stretch/>
        </p:blipFill>
        <p:spPr>
          <a:xfrm>
            <a:off x="428760" y="311040"/>
            <a:ext cx="8253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ki</dc:creator>
  <dc:description/>
  <dc:language>en-US</dc:language>
  <cp:lastModifiedBy>Vdovina-TV</cp:lastModifiedBy>
  <dcterms:modified xsi:type="dcterms:W3CDTF">2022-12-01T14:37:14Z</dcterms:modified>
  <cp:revision>122</cp:revision>
  <dc:subject/>
  <dc:title>Годы священной войны</dc:title>
</cp:coreProperties>
</file>