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9E7-87C1-40E5-941A-5C9790B1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1EE-2DBE-47A8-85C8-E14D91B3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6D6-BAF5-4A1C-B53C-9A03A6BF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EE7-47EC-487B-BE30-16548A2C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E416-FC33-4805-95D4-415CBF4D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A733-220A-49EE-9B63-0A2B86B2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1852-67B3-47C2-A077-23C28EAC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940C-38D0-4925-AE9B-072BC7EA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9D0F-D509-4D63-B671-A751C272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982-DED3-4CD6-A811-3CF2877B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6F2E-6615-485B-A933-DEAC25FF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A2D-3390-4008-B90A-5A8124F1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7B83-75B4-4F30-9D9E-4A0A9E4F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1A03-A142-4C19-802D-39C067E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6BB4-CC0B-4023-B7D7-6588B191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3EA7-95D7-4AD3-BB90-18862048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2D1A-E7E5-4BA3-B986-78882F07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8816-4F47-4883-873F-E9BE8AF0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38AA-FDBC-4BCB-A85B-2B3C89F6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36AF-C05F-462B-8195-6E526BF8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827A-3EE7-489E-AF82-A5DDB54B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D62B-276F-4A8B-98FA-8DF1881D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BBF-7CF3-42AA-8246-C3ADC714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0DB2-34A7-43AA-BB48-E2981913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3AC0-6C38-4187-BE1D-D7CE28E3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0AF2-8A33-4DB0-A195-0A006255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08547-1EEA-4D33-ABD5-41705A1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2719-3168-44E9-BF3B-AD3FD18D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F8BC-4B67-43D8-A8D1-89C758BB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0D1B-01DB-4749-824A-845F6989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F6E55-D6A7-408B-9136-0A08F3E7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1EBB-A1E7-4957-B0A9-F2D73DF0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6167F-C907-41E3-8337-DE0E5807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AD5-5D57-42E7-836D-03111A7D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1360-D050-4C71-A666-D002175B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DBF3-46E2-4381-9472-718D2530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DD16-8D7A-43D0-B335-B234A0E0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B3473-8C14-46D8-8BC3-BE2E3BA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2C17-71FF-4C8F-92D2-BC7BC515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0D7C4-BA8E-4D23-9C4B-DD4C178C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C55E-93A3-48CD-940D-D5E944CA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BF73-AC1A-49EA-9E72-BB6965CD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19FB-AB49-4610-8220-058158B4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82F-E268-46D1-892F-521398D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C0E-7380-48EB-809C-D2291ED3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0F8-0BA3-4922-8E11-21375877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0D3-6561-4CF2-9B2A-CFE272CA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321-E2F9-45AA-A605-3A26FFB2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8A9C-5A1C-47B0-A09D-EBBA70F7231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8374-840B-40D8-A48F-BD08A61FC69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4557-A129-45B5-886C-F0AF5244783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DEDE-37BC-4144-A9D8-494F8D895EB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93560" y="811080"/>
            <a:ext cx="84981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85840" y="3571920"/>
            <a:ext cx="4071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ез прошлого нет будущего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1238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C:\Users\Vdovina-TV\Pictures\screenshot-1.jpg"/>
          <p:cNvPicPr/>
          <p:nvPr/>
        </p:nvPicPr>
        <p:blipFill>
          <a:blip r:embed="rId2"/>
          <a:stretch/>
        </p:blipFill>
        <p:spPr>
          <a:xfrm>
            <a:off x="285840" y="3429000"/>
            <a:ext cx="4252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1052280"/>
            <a:ext cx="85726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щенная вой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лодая гвардия»- антифашистская молодёжная организация, действовавшая в г.Краснодон Ворошиловоградской (Луганской) области УССР  в сентябре1942- январе1943 г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3333600" y="3279600"/>
            <a:ext cx="2152800" cy="6454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4"/>
          <p:cNvSpPr/>
          <p:nvPr/>
        </p:nvSpPr>
        <p:spPr>
          <a:xfrm>
            <a:off x="4788000" y="5668920"/>
            <a:ext cx="345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9680" y="713880"/>
            <a:ext cx="8186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0040" y="16430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1.Какие операции провели молодогвардейц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2.Почему они остались в памяти народ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3.Их можно назвать героям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лодогвардейцы были комсомольц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Что вы знаете о комсомол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комсомо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6" descr="C:\Users\Vdovina-TV\Pictures\02-04-15.jpg"/>
          <p:cNvPicPr/>
          <p:nvPr/>
        </p:nvPicPr>
        <p:blipFill>
          <a:blip r:embed="rId1"/>
          <a:stretch/>
        </p:blipFill>
        <p:spPr>
          <a:xfrm>
            <a:off x="6715080" y="3643200"/>
            <a:ext cx="19573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28576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Arial"/>
              </a:rPr>
              <a:t>Гости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1571400"/>
            <a:ext cx="4103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дашова Г.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имаков А.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чугина Т.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6" descr="Изображение логотипа"/>
          <p:cNvPicPr/>
          <p:nvPr/>
        </p:nvPicPr>
        <p:blipFill>
          <a:blip r:embed="rId1"/>
          <a:stretch/>
        </p:blipFill>
        <p:spPr>
          <a:xfrm>
            <a:off x="4929120" y="1143000"/>
            <a:ext cx="384192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643960" cy="51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Arial"/>
                <a:ea typeface="Arial"/>
              </a:rPr>
              <a:t>В.И.Ленин: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комсомол-это политическая молодёжная организация в России.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85840" y="2356920"/>
            <a:ext cx="88581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</a:rPr>
              <a:t>Какую роль сыграл комсомол в годы Вели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</a:rPr>
              <a:t>Отечественной войн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419640" y="4292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929040" y="4643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3851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4286160" y="3500280"/>
            <a:ext cx="4430880" cy="3022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4"/>
          <p:cNvSpPr/>
          <p:nvPr/>
        </p:nvSpPr>
        <p:spPr>
          <a:xfrm>
            <a:off x="214200" y="3929040"/>
            <a:ext cx="407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сомол в годы 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28400" y="785520"/>
            <a:ext cx="8543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Защита Родины стала главным делом в жизни молодёжи в период </a:t>
            </a:r>
            <a:r>
              <a:rPr b="1" lang="ru-RU" sz="2400" spc="-1" strike="noStrike">
                <a:solidFill>
                  <a:srgbClr val="0076a3"/>
                </a:solidFill>
                <a:latin typeface="Arial"/>
              </a:rPr>
              <a:t>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0 лет назад на Донбассе фашисты казнили членов «Молодой гвардии»,перед этим подвергнув их жестоким пытка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428760" y="2714760"/>
            <a:ext cx="6429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шная правда о Молодой гвар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 были готовы к подви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вы,думаете,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C:\Users\Vdovina-TV\Pictures\200809080219180.nepokor.jpg"/>
          <p:cNvPicPr/>
          <p:nvPr/>
        </p:nvPicPr>
        <p:blipFill>
          <a:blip r:embed="rId1"/>
          <a:stretch/>
        </p:blipFill>
        <p:spPr>
          <a:xfrm>
            <a:off x="6215040" y="2857680"/>
            <a:ext cx="2486160" cy="37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Вечная памя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2920" y="14284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ьяне Громовой, Ивану Земнухову, Олегу Кошевому, Сергею Тюленину, Любови Шевцовой посмертно были присвоены звания Героя Советского Союза. В 1990 году его удостоился Иван Туркенич. Множество участников были награждены медалью «Партизану Отечественной войны» I степени и орденом Отечественной войны I степени, шестеро — орденом Красной Звезды, трое — орденом Красного Знаме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нута молч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8" descr="C:\Users\Vdovina-TV\Pictures\screenshot-1.jpg"/>
          <p:cNvPicPr/>
          <p:nvPr/>
        </p:nvPicPr>
        <p:blipFill>
          <a:blip r:embed="rId1"/>
          <a:stretch/>
        </p:blipFill>
        <p:spPr>
          <a:xfrm>
            <a:off x="428760" y="311040"/>
            <a:ext cx="82533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ki</dc:creator>
  <dc:description/>
  <dc:language>en-US</dc:language>
  <cp:lastModifiedBy>Vdovina-TV</cp:lastModifiedBy>
  <dcterms:modified xsi:type="dcterms:W3CDTF">2022-12-01T14:37:14Z</dcterms:modified>
  <cp:revision>122</cp:revision>
  <dc:subject/>
  <dc:title>Годы священной войны</dc:title>
</cp:coreProperties>
</file>