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F4D0-E936-411C-BF9D-F83E4C04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6099-C831-46E4-97D2-01F6378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52D-0BCE-466F-8492-80B69C4E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BE08-C51B-48EB-9186-F3BAAA8FE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63926-AAA7-4303-B14C-0AFEE46A3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D3DB7A-0F89-4352-9AC8-39BBFE50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353B59-FEF8-44FD-9DE5-D91549421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12595-7697-48D3-924C-57F7ED8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AAFB86-5CBE-4C32-BD63-C7687093C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BD07F1-759E-4389-AD1A-872885AE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F9555-DB14-44F2-A995-11DEB836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56D5-8304-46BF-A4F8-A600D31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0B4218-3451-41A2-97CF-5387A0AA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B80368-4BD9-41A4-8253-083A6B67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74F60-24ED-4330-B016-DF3F3A3E1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EC697-2256-4905-A1FA-E94567C4D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211D22-2328-4316-AF8C-413D70922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7FC-9CE6-4A3C-A010-9E5EAF6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33D0-28F4-4B6B-96D2-02A68CAF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FA5-4599-4B61-BEC8-47FF0FFB6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74D-A1C8-410F-9EF1-06CA18FC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8684-BF9A-4EB4-AE14-E98FFEFC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B323-6BE1-4C14-8E3E-EA39E707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625-24BE-4477-AF7C-D2EC946E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82406-0FED-4F7C-AC93-6131841560C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AB91-96A2-47AA-BA90-AB858C0EB10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2/raf-munja.5/0_b0b3_355b7481_XL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012.radikal.ru/0907/62/41dbd7d7bb21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s45.radikal.ru/i110/0810/98/91cbf0aa12a6.jp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kamishi.ru/img/0015.jpg" TargetMode="External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travelisra.com/images/baklan.jpg" TargetMode="External"/><Relationship Id="rId2" Type="http://schemas.openxmlformats.org/officeDocument/2006/relationships/image" Target="../media/image14.jpeg"/><Relationship Id="rId3" Type="http://schemas.openxmlformats.org/officeDocument/2006/relationships/hyperlink" Target="http://s40.radikal.ru/i087/0901/46/52285c4e5dbc.jpg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klissurov.dir.bg/black_sea/7%20-%20konche/big/sea%20horse%203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www.mastercity.ru/old_forum_archive/10/images/100272700104.jpg" TargetMode="External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0-ua.com/assets/images/midii.jpg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g0.liveinternet.ru/images/attach/c/0/43/65/43065932_hhru.jp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in-sochi.ru/images/pictures/1163.jp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atlanta-s.narod.ru/bereg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3201/berlingo527.9/0_1faff_85737919_X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kakianapa.ru/index/vid_12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13/aires07.1/0_58c1_810dc90d_X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d_iva/27/i-246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ontent.foto.mail.ru/mail/sheashir/_blogs/i-871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loraprice.ru/articles/home/2006-12-1/2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geonature.ru/geophoto/52ten/110.jpg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WordArt 4"/>
          <p:cNvSpPr txBox="1"/>
          <p:nvPr/>
        </p:nvSpPr>
        <p:spPr>
          <a:xfrm>
            <a:off x="755640" y="404640"/>
            <a:ext cx="7134120" cy="192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  ЧЁРНОГО  МОРЯ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читель начальных классов МБОУ «Лицей №2 им. ак. К. А. Валиева г. Мамадыш» 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алиева Фания Ягъфаро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латан, бамбу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Картинка 7 из 26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836640"/>
            <a:ext cx="5076720" cy="6021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Картинка 7 из 40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836640"/>
            <a:ext cx="5435640" cy="6021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Животный мир Черноморского побережья очень разнообразен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Зубр, кавказские козлы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5" descr="Картинка 4 из 138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4427640" cy="57326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Картинка 22 из 138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560" y="1125360"/>
            <a:ext cx="4762440" cy="573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берегу моря можно следить за полетом чаек и бакл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5" descr="Картинка 1 из 353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4067280" cy="5445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Картинка 16 из 35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413000"/>
            <a:ext cx="507672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орские обитатели Черного мо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5" descr="Картинка 18 из 24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2951280" cy="5445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Картинка 3 из 2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16360" y="1413000"/>
            <a:ext cx="622764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ИДИИ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5" descr="Картинка 2 из 1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413000"/>
            <a:ext cx="8207280" cy="5445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Черном море когда-то водились тюлени.Сейчас этот вид занес в Красную книг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5" descr="Картинка 8 из 1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41300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ндрарий «ботанический сад» в Соч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7" descr="Картинка 9 из 886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47628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Картинка 35 из 8869"/>
          <p:cNvPicPr/>
          <p:nvPr/>
        </p:nvPicPr>
        <p:blipFill>
          <a:blip r:embed="rId1"/>
          <a:stretch/>
        </p:blipFill>
        <p:spPr>
          <a:xfrm>
            <a:off x="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Картинка 53 из 8869"/>
          <p:cNvPicPr/>
          <p:nvPr/>
        </p:nvPicPr>
        <p:blipFill>
          <a:blip r:embed="rId2"/>
          <a:stretch/>
        </p:blipFill>
        <p:spPr>
          <a:xfrm>
            <a:off x="5076720" y="0"/>
            <a:ext cx="406728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5" descr="Картинка 128 из 8869"/>
          <p:cNvPicPr/>
          <p:nvPr/>
        </p:nvPicPr>
        <p:blipFill>
          <a:blip r:embed="rId1"/>
          <a:stretch/>
        </p:blipFill>
        <p:spPr>
          <a:xfrm>
            <a:off x="-2124000" y="0"/>
            <a:ext cx="507672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7" descr="Картинка 12 из 8869"/>
          <p:cNvPicPr/>
          <p:nvPr/>
        </p:nvPicPr>
        <p:blipFill>
          <a:blip r:embed="rId2"/>
          <a:stretch/>
        </p:blipFill>
        <p:spPr>
          <a:xfrm>
            <a:off x="2843280" y="0"/>
            <a:ext cx="63007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убтропическая зо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убтропическая зона расположена на Черноморском побережье Кавказ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Картинка 78 из 886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5" descr="Картинка 5 из 1284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0"/>
            <a:ext cx="8229600" cy="61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то самая южная часть нашей стра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Picture 5" descr="Картинка 28 из 149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Картинка 28 из 23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тительный мир этой зоны богат и разнообразе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5" descr="Картинка 20 из 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5" descr="Картинка 2 из 1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-36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агнолия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Картинка 3 из 1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уя, лавр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5" descr="Картинка 50 из 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125360"/>
            <a:ext cx="4103640" cy="5732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Картинка 13 из 13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1125360"/>
            <a:ext cx="5076720" cy="57326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17:41:44Z</dcterms:created>
  <dc:creator>Customer</dc:creator>
  <dc:description/>
  <dc:language>en-US</dc:language>
  <cp:lastModifiedBy>FYA</cp:lastModifiedBy>
  <dcterms:modified xsi:type="dcterms:W3CDTF">2016-12-08T22:50:22Z</dcterms:modified>
  <cp:revision>12</cp:revision>
  <dc:subject/>
  <dc:title>Субтропическая зона</dc:title>
</cp:coreProperties>
</file>