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5B9-3774-47F3-8859-89B2D656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0A4-81FC-4187-896C-1B55AB7D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B91-4EC7-44B2-9C75-C5F1D485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E1C-EEE1-4CF8-8BD4-82388F8D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BA3-CC3B-4B61-A394-7C53D84B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870-482B-4FD2-940C-15A8DAC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BE3-13AB-4C1E-BA9F-5DAF534E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1C7-4C7B-4031-AA50-9D56331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5D3-88E4-42AB-80B5-21DC817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C3D-F800-47E7-B199-67502A6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2C8-BB59-4F08-8845-73A5C4F2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DA7-0A23-4EE4-9508-AFE4161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3CE-6228-4B8B-82DB-D0968E4BB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341440" y="123084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76280"/>
            <a:ext cx="813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я-наука о живой и не живой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ающая среда-все, что окружает живое существо и с че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 источник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доровь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соты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пл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ета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щ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алов для хозяйственной деятельност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знани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27720"/>
            <a:ext cx="9144000" cy="87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грязнение 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Arial"/>
              </a:rPr>
              <a:t>Берегите воду!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 - наше главное богатство! От загрязнения воды страдает все живое, она вредна для жизни челове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рязнение воздуха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ородах строится много заводов. Из их труб в воздух поднимается дым в которых много пыли ядовитых веществ, вредных для здоровья всех живых сущест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рязнение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Берегите воздух!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тый воздух это ценность, которую можно и нужно достигать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истый воздух – залог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е главное – беречь природу, заботиться о ней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ждый человек обязан сохранять природу и окружающую среду, бережно относиться к природным богатства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2:32:54Z</dcterms:created>
  <dc:creator>Зульфия</dc:creator>
  <dc:description/>
  <dc:language>en-US</dc:language>
  <cp:lastModifiedBy>Зульфия</cp:lastModifiedBy>
  <dcterms:modified xsi:type="dcterms:W3CDTF">2017-09-08T17:46:20Z</dcterms:modified>
  <cp:revision>4</cp:revision>
  <dc:subject/>
  <dc:title>Слайд 1</dc:title>
</cp:coreProperties>
</file>