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8D7-11A7-4188-BD91-C45BD7B7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DC9-F67C-4F5F-9EE9-2B3E415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AB5-E0AC-4780-8A3E-A0BA2F3F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4AB-C0D0-4BF2-87F0-C6271D66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AD6-3016-4438-A590-76F85A9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87D-0AA0-4845-8C4E-2A62B38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CB0-A987-4331-AA1E-A2E22C4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8F6-D2D1-4F76-9B28-0E0EA28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B2C-16E3-42A2-A30F-846D2B5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F4A-0BBC-4A13-A6E6-BB34D1A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64D-C5F1-44E3-BAB2-2FC7C1A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DF1-E768-4783-A7C3-09B8307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A6C7-DDE0-403D-835A-3632106158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Продолж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смысловую цепочк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 Яковлев. «Зимний вечер» -…,  …,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С Пушкин «Зимний вечер»-…,  …,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0040" y="3071880"/>
            <a:ext cx="78580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манс, музыкальность слова,  литература, мелодия, стихотворение,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ергей Лемешев Зимний вечер (М. Яковлев - А. Пушкин) [1958].mp3" descr=""/>
          <p:cNvPicPr/>
          <p:nvPr/>
        </p:nvPicPr>
        <p:blipFill>
          <a:blip r:embed="rId1"/>
          <a:stretch/>
        </p:blipFill>
        <p:spPr>
          <a:xfrm>
            <a:off x="6357960" y="947880"/>
            <a:ext cx="7858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0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чувства вызвала у тебя му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Жалобы Эвридики». Запиши 2 предложения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 virtuosi di Roma 2 д. 2 сцена. Жалобы Эвридики (соло флеиты).mp3" descr=""/>
          <p:cNvPicPr/>
          <p:nvPr/>
        </p:nvPicPr>
        <p:blipFill>
          <a:blip r:embed="rId1"/>
          <a:stretch/>
        </p:blipFill>
        <p:spPr>
          <a:xfrm>
            <a:off x="6019920" y="92880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3200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связь между музыкой и литературой ты проследи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служило основой для лит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служило основой для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е результат работы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«+»- оценк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«+»- оценк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«+»- оценк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й сказку или рассказ о музыке. Запиши её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0_c18e5_2bc58f1f_L.jpeg.jpg"/>
          <p:cNvPicPr/>
          <p:nvPr/>
        </p:nvPicPr>
        <p:blipFill>
          <a:blip r:embed="rId1"/>
          <a:stretch/>
        </p:blipFill>
        <p:spPr>
          <a:xfrm>
            <a:off x="0" y="0"/>
            <a:ext cx="307188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59euyeof.jpg"/>
          <p:cNvPicPr/>
          <p:nvPr/>
        </p:nvPicPr>
        <p:blipFill>
          <a:blip r:embed="rId2"/>
          <a:stretch/>
        </p:blipFill>
        <p:spPr>
          <a:xfrm>
            <a:off x="3429000" y="0"/>
            <a:ext cx="2357280" cy="3375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7345.jpg"/>
          <p:cNvPicPr/>
          <p:nvPr/>
        </p:nvPicPr>
        <p:blipFill>
          <a:blip r:embed="rId3"/>
          <a:stretch/>
        </p:blipFill>
        <p:spPr>
          <a:xfrm>
            <a:off x="4643280" y="3000240"/>
            <a:ext cx="264348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images.jpg"/>
          <p:cNvPicPr/>
          <p:nvPr/>
        </p:nvPicPr>
        <p:blipFill>
          <a:blip r:embed="rId4"/>
          <a:stretch/>
        </p:blipFill>
        <p:spPr>
          <a:xfrm>
            <a:off x="1428840" y="3000240"/>
            <a:ext cx="2905200" cy="3660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VAgG.jpg"/>
          <p:cNvPicPr/>
          <p:nvPr/>
        </p:nvPicPr>
        <p:blipFill>
          <a:blip r:embed="rId5"/>
          <a:stretch/>
        </p:blipFill>
        <p:spPr>
          <a:xfrm>
            <a:off x="6357960" y="0"/>
            <a:ext cx="2539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ые сюжеты в литерату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урока: установить связь музык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ф об Орф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Миф об Орфее на странице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историю ты узнал, прочитав ми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могло Орфею спуститься в царство мёртв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инструменте играл Орф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астливый или печальный конец у  миф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3"/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струнный щипковый музыкальный инструмент  с двумя изогнутыми стойками, от корпуса протянуты пять или более жильных стру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назад 5">
            <a:hlinkClick r:id="" action="ppaction://hlinkshowjump?jump=previousslide"/>
            <a:hlinkClick r:id="rId1"/>
          </p:cNvPr>
          <p:cNvSpPr/>
          <p:nvPr/>
        </p:nvSpPr>
        <p:spPr>
          <a:xfrm>
            <a:off x="214200" y="5572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hqdefault.jpg"/>
          <p:cNvPicPr/>
          <p:nvPr/>
        </p:nvPicPr>
        <p:blipFill>
          <a:blip r:embed="rId2"/>
          <a:stretch/>
        </p:blipFill>
        <p:spPr>
          <a:xfrm>
            <a:off x="2143080" y="1606680"/>
            <a:ext cx="7000920" cy="5251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1212274079_Lyre_bg.jpg"/>
          <p:cNvPicPr/>
          <p:nvPr/>
        </p:nvPicPr>
        <p:blipFill>
          <a:blip r:embed="rId3"/>
          <a:stretch/>
        </p:blipFill>
        <p:spPr>
          <a:xfrm>
            <a:off x="0" y="1785960"/>
            <a:ext cx="2171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стоф  Глюк. Опера Орфей и Эвриди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Joseph_Siffred_Duplessis_-_Christoph_Willibald_Gluck_-_Google_Art_Project.jpg"/>
          <p:cNvPicPr/>
          <p:nvPr/>
        </p:nvPicPr>
        <p:blipFill>
          <a:blip r:embed="rId1"/>
          <a:stretch/>
        </p:blipFill>
        <p:spPr>
          <a:xfrm>
            <a:off x="642960" y="1714680"/>
            <a:ext cx="357336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2920" y="1714320"/>
            <a:ext cx="403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14-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 опер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2. Миф об Орфее стал для оперы К. Глю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тю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брет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е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3. Прослушайте фрагмен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Жалобы Эвридики» и заполните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760" y="1928880"/>
          <a:ext cx="8358120" cy="464328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зительные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Жалобы Эвриди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Мелодия (характер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Музыкальный инстр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Динамика музы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( громкость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</a:tbl>
          </a:graphicData>
        </a:graphic>
      </p:graphicFrame>
      <p:pic>
        <p:nvPicPr>
          <p:cNvPr id="67" name="I virtuosi di Roma 2 д. 2 сцена. Жалобы Эвридики (соло флеиты).mp3" descr=""/>
          <p:cNvPicPr/>
          <p:nvPr/>
        </p:nvPicPr>
        <p:blipFill>
          <a:blip r:embed="rId1"/>
          <a:stretch/>
        </p:blipFill>
        <p:spPr>
          <a:xfrm>
            <a:off x="7143840" y="2286000"/>
            <a:ext cx="9475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3200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4. Работа в групп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 для героя миф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уществительных( кто он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прилагательных( какой 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лагола ( что он дела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обуй подобрать творческие, поэтические, необычные характер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Елена</cp:lastModifiedBy>
  <dcterms:modified xsi:type="dcterms:W3CDTF">2018-03-15T10:21:52Z</dcterms:modified>
  <cp:revision>97</cp:revision>
  <dc:subject/>
  <dc:title>TITLE</dc:title>
</cp:coreProperties>
</file>