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558-E915-4B98-8B26-BFF5B76D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6A4-86E2-47BC-B182-68A2120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44D-186E-428E-A4DF-1193EE65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5C3-D7E2-4042-8373-A6BF848F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2C0-EAAF-4A3A-9868-C401589B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05C-9023-463B-B7AE-46E4516D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3B8-CF68-4616-B1A5-6849C6B2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9A1-EF66-41E5-9202-C3FDA3F2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C96-5936-431B-9665-51EEF19C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7EC-9B82-437D-8FE6-1397C2CA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CE1-902C-4D66-988E-741EDFCE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859-1044-482B-A82A-66222F8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0FC8-51EB-4727-B690-3D9C0494B4E1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9920" y="1254240"/>
            <a:ext cx="7866000" cy="32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ценарий открытого мероприятия по профилактике детского дорожно-транспортного травматизма в подготовительной группе для детей с тяжелыми нарушениями речи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Знать об это должен каждый, безопасность это важ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33960" y="4876560"/>
            <a:ext cx="539280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ДС №23 «Родничок»  г. Туапс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: С.В. Сахн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8280" y="0"/>
            <a:ext cx="1051560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места на дорог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320920" y="888840"/>
            <a:ext cx="7689960" cy="512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4041720" y="2870280"/>
            <a:ext cx="156708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3616200" y="3357720"/>
            <a:ext cx="5108760" cy="160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7329600" y="3051000"/>
            <a:ext cx="811080" cy="82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5"/>
          <a:stretch/>
        </p:blipFill>
        <p:spPr>
          <a:xfrm>
            <a:off x="4743360" y="2930400"/>
            <a:ext cx="689040" cy="68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6"/>
          <a:stretch/>
        </p:blipFill>
        <p:spPr>
          <a:xfrm>
            <a:off x="3235320" y="3370320"/>
            <a:ext cx="1395360" cy="136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7"/>
          <a:stretch/>
        </p:blipFill>
        <p:spPr>
          <a:xfrm>
            <a:off x="2146320" y="4465800"/>
            <a:ext cx="16686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5833E-006 -2.22222E-006 L 0.37877 0.02778 E"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9240" y="747360"/>
            <a:ext cx="10515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равила дорожной безопасности»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23680" y="1617840"/>
            <a:ext cx="88390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" name="правила дорожного движения.mp4" descr=""/>
          <p:cNvPicPr/>
          <p:nvPr/>
        </p:nvPicPr>
        <p:blipFill>
          <a:blip r:embed="rId1"/>
          <a:stretch/>
        </p:blipFill>
        <p:spPr>
          <a:xfrm>
            <a:off x="3152880" y="14749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8714" t="0" r="8930" b="0"/>
          <a:stretch/>
        </p:blipFill>
        <p:spPr>
          <a:xfrm>
            <a:off x="3152880" y="1474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3160" y="552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езопасный путь в школу»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2000" y="1825200"/>
            <a:ext cx="93474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" name="безопасный маршрут.mp4" descr=""/>
          <p:cNvPicPr/>
          <p:nvPr/>
        </p:nvPicPr>
        <p:blipFill>
          <a:blip r:embed="rId1"/>
          <a:stretch/>
        </p:blipFill>
        <p:spPr>
          <a:xfrm>
            <a:off x="3270240" y="1441440"/>
            <a:ext cx="5918040" cy="443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270240" y="1441440"/>
            <a:ext cx="60609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 rot="716400">
            <a:off x="7358040" y="3196800"/>
            <a:ext cx="307656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727200"/>
            <a:ext cx="105156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«Безопасного маршрута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 rot="532800">
            <a:off x="6189840" y="1734840"/>
            <a:ext cx="2987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1630440" y="2095560"/>
            <a:ext cx="2601720" cy="2200320"/>
          </a:xfrm>
          <a:prstGeom prst="rect">
            <a:avLst/>
          </a:prstGeom>
          <a:ln w="9360">
            <a:solidFill>
              <a:srgbClr val="4a66ac"/>
            </a:solidFill>
            <a:miter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3687840" y="3289320"/>
            <a:ext cx="3584520" cy="250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2462040" y="936720"/>
            <a:ext cx="986040" cy="115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4748040" y="1595520"/>
            <a:ext cx="1298880" cy="137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7"/>
          <a:stretch/>
        </p:blipFill>
        <p:spPr>
          <a:xfrm>
            <a:off x="9375840" y="1873080"/>
            <a:ext cx="1274760" cy="148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8"/>
          <a:stretch/>
        </p:blipFill>
        <p:spPr>
          <a:xfrm>
            <a:off x="1550880" y="4397400"/>
            <a:ext cx="2257560" cy="14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932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Фликеры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24080" y="1696680"/>
            <a:ext cx="9291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" name="светоотражатели.mp4" descr=""/>
          <p:cNvPicPr/>
          <p:nvPr/>
        </p:nvPicPr>
        <p:blipFill>
          <a:blip r:embed="rId1"/>
          <a:stretch/>
        </p:blipFill>
        <p:spPr>
          <a:xfrm>
            <a:off x="3317760" y="1406520"/>
            <a:ext cx="5978520" cy="448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3244680" y="1341360"/>
            <a:ext cx="61246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673280" y="1514520"/>
            <a:ext cx="5946840" cy="400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7748640" y="1049400"/>
            <a:ext cx="2801880" cy="210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854840" y="3255840"/>
            <a:ext cx="25894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684520" y="905040"/>
            <a:ext cx="67644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20:24:01Z</dcterms:created>
  <dc:creator>ZAK</dc:creator>
  <dc:description/>
  <dc:language>en-US</dc:language>
  <cp:lastModifiedBy>Сахно Света</cp:lastModifiedBy>
  <dcterms:modified xsi:type="dcterms:W3CDTF">2018-06-14T14:02:31Z</dcterms:modified>
  <cp:revision>15</cp:revision>
  <dc:subject/>
  <dc:title>Детям  о Правилах Дорожного Движения</dc:title>
</cp:coreProperties>
</file>