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16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F4B-C930-446C-A2C6-4A8A9094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7E7-71EA-4E23-AFF8-D4009DBF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BCF-0F58-4F36-8F59-AF719BAB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788-50C4-4C13-A06C-3BC2BFB0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CCC8-3695-48BC-A5CE-0895E67D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F1E-039A-4508-9193-0E588FE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9F16-A7C4-4132-AB58-E97EA21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88F-9BF4-4C3C-9A10-BCC6942F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696-8557-43A1-B837-7EBE7F5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50B-433C-46BC-B575-1DB27B8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90C-94EB-4CDA-B4FB-F1B0929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59A-4B4F-4960-B314-DE9B87FC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CE1-51D3-4BA9-8E81-5D3B1A4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843D-CCA5-436B-82A7-E832735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ED13-8F12-4F66-B35A-FCAADB2F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DAA-EA15-4903-A9B0-9F0A98E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F74-A53B-42A3-8E75-4EAA9741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D010-9E4E-4513-8ECA-2D69F336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BE56-7E6F-40A1-B70E-E1930933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EAF0-07D0-4468-A509-A0422E8C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352B-D7FA-4C7E-89E7-8A3D598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53F0-6B61-421F-9DF7-2BECD9F5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90F-FD81-4258-AF5A-652D8680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9768-4D25-4B80-899D-813B6F7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AF16-CE3C-44FF-AC3B-14A024B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9778-D9A8-4B45-882D-AB746AB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8C63-FEC0-406A-B690-B21091D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729E-6E95-4038-AE4F-E7EC2319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D22D-1D25-4E16-BC53-2AF9552B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7ED0-5955-47E6-B886-43925590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9217-979B-48B0-B4C5-A53FD63B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29CE1-65B1-49B2-AA18-6454924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C1D98-1340-4CC0-A486-6BD4C6A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C47-D422-4CF0-9272-FE052B2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3BD6-5F10-49C2-8A1A-30F09B0E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67D3-5EBF-4B31-9542-79B63AC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B806-6382-477D-B9C8-3DD0054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BA94-D46C-4064-A3FC-7DF34E4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A9C5-6CBF-4093-8BF6-FD71CC5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68D4-50E5-4DE9-8D78-12F2E22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068B-354A-491B-B1CA-F8DC5EA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3306-BB58-4C43-B064-C2768650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9E2C-95B5-49F5-83ED-6556D5BB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1525-97DD-4FF0-96E5-B0EC4556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914-6A1A-4F53-A2FC-D4CD0A15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2450-ECEF-4D04-9B23-98BC215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447A-56C8-4CB7-AC98-8A62DF6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4634-1B32-4B70-92C6-C1FC994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BAB8-FBAF-411A-8D2D-66FF804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4FA1-A1B4-43C0-802A-48DDE55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1E7D-8D9D-4843-9469-7205672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A5F8-383C-45BA-BDEA-83DB469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79E8-37ED-434A-84F0-CC0A56C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1C04-DBA0-45EB-8EC2-F02FEDA6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EE3D9-A6B5-4301-8B1C-5A9CEA31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505-63E3-4D71-A994-F6A4DF83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502F-0C06-486C-92D6-0E01780F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358E4-F15B-4D10-852E-6CB55591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CDA4A-1DC9-49F0-B61B-53CB83E1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BAFEA-1E5B-4AB4-8A80-9A14267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31C6C-BBBD-45C1-9C34-6F826ED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F7380-CAB0-480D-9A1A-1602CA5F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00BCF-2119-4779-8288-B3140127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2FAEA-11A4-4897-ACA4-693D832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99B9E-B465-401E-88B8-48052820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1A6F3-2744-44E1-97D4-FCCAA10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087-ED65-4208-B5E0-713D0EF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75456-1A73-4BDB-A741-EBBE2E2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46BDC-35D8-4E6D-8148-046DDDA7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BC5C1-D16B-4651-B349-279E4663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9362-81DA-4680-B96D-B007FE22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F771-8DF4-4D56-873B-7A26F3DF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C891-8652-4F67-9BC3-2F5DE449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E075-6303-4736-BDD5-9E60A1DF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15B1-3664-40A0-8C21-476B578F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C15B-D979-419B-8FAB-96441E4D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B2EDE-31A9-48A9-9271-2DE6869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186-EA78-4087-8816-2C89CE8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7C6C-56D8-4155-91C3-9694C8C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37B0-B28C-4267-9942-109150E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1281-035E-474D-A761-7DF54F4B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7D79-C2C3-4335-9BD7-30D9C9B0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7AFA-E2B0-4B17-B9F0-9BF5556E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3E1-85D4-4D49-B9D0-3D9B833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002-5075-4260-9B0A-5ACC76BAB09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7F3-D2FB-418B-B90F-3CCC26DB4824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602-020F-4013-9CFD-72AE5B2D81C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D0E-5692-4087-8523-8C7961B34AE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2E7-5278-4277-AA53-10B84DC7B48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440-86A3-42B1-93BA-E96AF6D4FFE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289-616F-4B12-B95A-4E24BBE887C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1.jpeg"/><Relationship Id="rId3" Type="http://schemas.openxmlformats.org/officeDocument/2006/relationships/hyperlink" Target="http://sfw.so/uploads/posts/2009-11/1257432559_012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-18108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АДОСТНЫЙ СТАРЕЦ. ЖИТИЕ СЕРАФИМА САРОВСКОГО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"/>
          <p:cNvSpPr/>
          <p:nvPr/>
        </p:nvSpPr>
        <p:spPr>
          <a:xfrm>
            <a:off x="755640" y="82404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м, при дорожке, под сосн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мень тяжёлый леж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ец ночами бессо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есь на коленях стоя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 и зиму холодну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не смыкая оч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тоял с волей свобод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сячу дней и но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В Ростове-на-Дону замироточил фрагмент камня, на котором молился Серафим  Саровский"/>
          <p:cNvPicPr/>
          <p:nvPr/>
        </p:nvPicPr>
        <p:blipFill>
          <a:blip r:embed="rId2"/>
          <a:stretch/>
        </p:blipFill>
        <p:spPr>
          <a:xfrm>
            <a:off x="4356000" y="2424240"/>
            <a:ext cx="2752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1"/>
          <p:cNvSpPr/>
          <p:nvPr/>
        </p:nvSpPr>
        <p:spPr>
          <a:xfrm>
            <a:off x="719280" y="692280"/>
            <a:ext cx="770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f2512"/>
                </a:solidFill>
                <a:latin typeface="Tenor Sans"/>
              </a:rPr>
              <a:t>        </a:t>
            </a:r>
            <a:r>
              <a:rPr b="1" lang="ru-RU" sz="1200" spc="-1" strike="noStrike">
                <a:solidFill>
                  <a:srgbClr val="3f2512"/>
                </a:solidFill>
                <a:latin typeface="Tenor Sans"/>
              </a:rPr>
              <a:t>После 15 лет жизни в пустыни согласился перейти в обитель, где принял новый подвиг –молчальничество, а затем  к высшему подвижничеству называемым затвором. В его монастырской келье имелись только икона с лампадой и пень, служивший стулом. В сенях поставил он деревянный гроб, чтобы всегда помнить о смертном часе, в нем он и завещал его похоронить. В затворе старец провел около пяти лет, затем новым видением Богородицы Господь повелел ему отворить двери кельи для каждого. С тех пор отец Серафим стал принимать всех, поучая ко спасению, давая нуждающимся благословения и короткие на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https://verapravoslavnaya.ru/images/serafim_sarov-les2.jpg"/>
          <p:cNvPicPr/>
          <p:nvPr/>
        </p:nvPicPr>
        <p:blipFill>
          <a:blip r:embed="rId2"/>
          <a:stretch/>
        </p:blipFill>
        <p:spPr>
          <a:xfrm>
            <a:off x="611280" y="242100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Свято-Серафимо-Саровский мужской монастырь (Воронежская область)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077920"/>
            <a:ext cx="26319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1"/>
          <p:cNvSpPr/>
          <p:nvPr/>
        </p:nvSpPr>
        <p:spPr>
          <a:xfrm>
            <a:off x="684360" y="612720"/>
            <a:ext cx="77752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 были посетители отца Серафима. В первую очередь, конечно, нуждающаяся в утешении братия монастырская, а затем представители всех сословий и слоев населения и богатые и бедные и государственные мужи и простолюдины. Ко всем одинаково относился великий Старец, всех встречал радостным Пасхальным приветствием: - Христос Воскресе! - всех называя - радость моя, - всех любовно поучая. И всякое слово подвижника простое и безыскусственное в устах его было живо, действенно и имело огромную силу, так что и поседелые воины и высокообразованные люди одинаково плакали, слушая задушевное слово Отца Серафи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verapravoslavnaya.ru/images/serafim_sarov-priem.jpg"/>
          <p:cNvPicPr/>
          <p:nvPr/>
        </p:nvPicPr>
        <p:blipFill>
          <a:blip r:embed="rId2"/>
          <a:stretch/>
        </p:blipFill>
        <p:spPr>
          <a:xfrm>
            <a:off x="2340000" y="270828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"/>
          <p:cNvSpPr/>
          <p:nvPr/>
        </p:nvSpPr>
        <p:spPr>
          <a:xfrm>
            <a:off x="647640" y="62064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етителей у батюшки Серафима стало больше: ежедневно в его келье бывало око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0 человек. Беседы старца согревали сердце и возбуждали решительные перемены к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му. Свои наставления он основывал на слове Божием; всех, независимо от душевного устроения, благословлял и любил. По чистоте духа имел он и дар прозорливости. Кроме того, в отце Серафиме действовала благодать исц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Свобода Мнений"/>
          <p:cNvPicPr/>
          <p:nvPr/>
        </p:nvPicPr>
        <p:blipFill>
          <a:blip r:embed="rId2"/>
          <a:stretch/>
        </p:blipFill>
        <p:spPr>
          <a:xfrm>
            <a:off x="1116000" y="2236680"/>
            <a:ext cx="2664000" cy="3651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" descr=""/>
          <p:cNvPicPr/>
          <p:nvPr/>
        </p:nvPicPr>
        <p:blipFill>
          <a:blip r:embed="rId3"/>
          <a:stretch/>
        </p:blipFill>
        <p:spPr>
          <a:xfrm>
            <a:off x="4932360" y="2274840"/>
            <a:ext cx="2922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"/>
          <p:cNvSpPr/>
          <p:nvPr/>
        </p:nvSpPr>
        <p:spPr>
          <a:xfrm>
            <a:off x="2411280" y="549360"/>
            <a:ext cx="345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был провидцем, чудотворц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и сейчас чудотво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его источникам, колод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од с надеждою спеш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 преклони пред ним голов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на иконке как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обрый батюшка Сар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ас помолится с т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ковин много есть на све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а Руси довольно и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мы о том узнали, де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дивен Бог в святых сво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://hram-s-sarovskogo.narod.ru/Serafim_Sarovsky/9.jpg"/>
          <p:cNvPicPr/>
          <p:nvPr/>
        </p:nvPicPr>
        <p:blipFill>
          <a:blip r:embed="rId2"/>
          <a:stretch/>
        </p:blipFill>
        <p:spPr>
          <a:xfrm>
            <a:off x="5940360" y="2205000"/>
            <a:ext cx="2298600" cy="2840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Преподобный Серафим Саровский"/>
          <p:cNvPicPr/>
          <p:nvPr/>
        </p:nvPicPr>
        <p:blipFill>
          <a:blip r:embed="rId3"/>
          <a:stretch/>
        </p:blipFill>
        <p:spPr>
          <a:xfrm>
            <a:off x="417600" y="1844640"/>
            <a:ext cx="1795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" descr=""/>
          <p:cNvPicPr/>
          <p:nvPr/>
        </p:nvPicPr>
        <p:blipFill>
          <a:blip r:embed="rId2"/>
          <a:stretch/>
        </p:blipFill>
        <p:spPr>
          <a:xfrm>
            <a:off x="2268360" y="333360"/>
            <a:ext cx="43912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"/>
          <p:cNvSpPr/>
          <p:nvPr/>
        </p:nvSpPr>
        <p:spPr>
          <a:xfrm>
            <a:off x="1332000" y="69228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цель жизни – стяжание Духа Святаго – духовное преображение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души преображенного человека – радость и любов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2"/>
          <p:cNvSpPr/>
          <p:nvPr/>
        </p:nvSpPr>
        <p:spPr>
          <a:xfrm>
            <a:off x="539640" y="2060640"/>
            <a:ext cx="79930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"Радость моя, - наставлял старец - молю тебя, стяжи дух мирен, и тогда тысячи душ спасутся около тебя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Стяжать» - значит собрать, приобр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Благодать Святаго Духа» - помощь Божия, которая ощущается человеком как особый свет, особый мир в душе, особая радость и теплота – и всё это вместе ни на что земное не пох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 когда старца спрашивали о том, что нужно для того, чтобы стяжать эту самую благодать Святаго Духа, то он отвечал: «Стяжите благодать Духа Святого молитвой и добрыми дела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 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годня мы можем многому научиться у нашего святого земляка: трудолюбию, смирению, милосердию, доброму отношению к людям. Ничто не даётся в этом мире так дёшево, и ничто не ценится так дорого, как вежливость и доброе отношение к людям. И мне очень хочется, чтобы в наш суровый и жестокий век все дети земной планеты стали ясными лучиками, смогли вырасти людьми высоконравственными: добрыми, трудолюбивыми, ответственными, уважающими родителей, любящими свою Родину и стремящимися помогать тем, кто нуждается в помощи. Ведь будущее нашей планеты зависит от степени духовно – нравственного состояния каждого её обит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"/>
          <p:cNvSpPr/>
          <p:nvPr/>
        </p:nvSpPr>
        <p:spPr>
          <a:xfrm>
            <a:off x="826920" y="981000"/>
            <a:ext cx="7705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ю называли Святой Русью, потому что среди ее народа действ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много святых, готовых положить жизнь за Бога и Православную в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в одной другой христианской стране не было такого количества святых и подвижников благочес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войство, присущее Богу, которым он наделяет лица и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люди, наделенные Богом за свою веру и добрые дела особым свой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сти и способностью творить чуд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63520" y="1412640"/>
            <a:ext cx="70801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7" name="Picture 2" descr="http://www.belygorod.ru/img2/Ikona/Used/352IKON2.jpg"/>
          <p:cNvPicPr/>
          <p:nvPr/>
        </p:nvPicPr>
        <p:blipFill>
          <a:blip r:embed="rId2"/>
          <a:stretch/>
        </p:blipFill>
        <p:spPr>
          <a:xfrm>
            <a:off x="3059280" y="549360"/>
            <a:ext cx="3382920" cy="41018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907920" y="4994280"/>
            <a:ext cx="73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реподобного отца Серафима Саровского чудотворц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 славится по всей Руси. Его чтут наравне с древнепрославленными свят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"/>
          <p:cNvSpPr/>
          <p:nvPr/>
        </p:nvSpPr>
        <p:spPr>
          <a:xfrm>
            <a:off x="4005360" y="1413000"/>
            <a:ext cx="3438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Старец Божий, старец кротки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 лаптях, с палкою просто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На руке иссохшей четки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зор, горящий добротой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Сколько дивного смиренья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 страстотерпческих чертах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Дивный дар богомоленья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Лег с улыбкой на устах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Тяжким подвигом согбенный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Он идет, гонец небес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розорливый, вдохновенны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олный благостных чудес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Благодатной силой веет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На молящих от него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Гордый разум цепенеет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еред святостью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p2.patriarchia.ru/084/842/1234/1IMG_11.jpg"/>
          <p:cNvPicPr/>
          <p:nvPr/>
        </p:nvPicPr>
        <p:blipFill>
          <a:blip r:embed="rId2"/>
          <a:stretch/>
        </p:blipFill>
        <p:spPr>
          <a:xfrm>
            <a:off x="1116000" y="1400040"/>
            <a:ext cx="2376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"/>
          <p:cNvSpPr/>
          <p:nvPr/>
        </p:nvSpPr>
        <p:spPr>
          <a:xfrm>
            <a:off x="755640" y="692280"/>
            <a:ext cx="763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 июля 1759 года в городе Курске, в семье Исидора и Агафьи Мошниных, рождается сын. Мальчика назвали Прохором. Отец мальчика, богатый купец, был очень честным человеком, его любили все горожане. Купец понимал, что богатство может сбить человека с праведного пути, и решил построить х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хору было 3 года, когда его отца не стало. Строительством храма стала руководить Агафья, мама Прохора. Она часто брала мальчика с собой на стройку. Однажды Агафья повела сына на самый верх строящейся колокольни. Там с Прохором произошло чу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http://serafim-library.narod.ru/IkonySerafima/images/i0408rp.jpg"/>
          <p:cNvPicPr/>
          <p:nvPr/>
        </p:nvPicPr>
        <p:blipFill>
          <a:blip r:embed="rId2"/>
          <a:stretch/>
        </p:blipFill>
        <p:spPr>
          <a:xfrm>
            <a:off x="905040" y="2421000"/>
            <a:ext cx="3090600" cy="3460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4716360" y="2386080"/>
            <a:ext cx="28544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9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755640" y="765000"/>
            <a:ext cx="756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р учился в церковной школе с удовольствием. Много читал. А еще он очень любил бывать в церкви, смотреть на лики святых, разговаривать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е чудо в жизни Прохора случилось в 10 лет, когда он тяжело заболел. Почти не было надежды на то, что мальчик выжи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http://hram-s-sarovskogo.narod.ru/Serafim_Sarovsky/1.jpg"/>
          <p:cNvPicPr/>
          <p:nvPr/>
        </p:nvPicPr>
        <p:blipFill>
          <a:blip r:embed="rId2"/>
          <a:stretch/>
        </p:blipFill>
        <p:spPr>
          <a:xfrm>
            <a:off x="1116000" y="2508120"/>
            <a:ext cx="3100320" cy="3759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"/>
          <p:cNvPicPr/>
          <p:nvPr/>
        </p:nvPicPr>
        <p:blipFill>
          <a:blip r:embed="rId3"/>
          <a:stretch/>
        </p:blipFill>
        <p:spPr>
          <a:xfrm>
            <a:off x="4870440" y="2508120"/>
            <a:ext cx="27734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684360" y="692280"/>
            <a:ext cx="792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ра в Курске любили. И друзей у него было немало. А если друзья спорили о чем-нибудь и не могли прийти к согласию, то обязательно говорили: «Пойдем к Прохору. Как он скажет, так и буд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юноше исполнилось 17 лет, он твердо решил посвятить себя монашеской жизни. Прохор отправился в город Саров, где стал послушником в местной обители. Заветное желание Прохора стать монахом сбылось 15 августа 1786 года. В этот день его постригли в монахи и дали имя Сераф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3486240" y="2637000"/>
            <a:ext cx="23144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"/>
          <p:cNvSpPr/>
          <p:nvPr/>
        </p:nvSpPr>
        <p:spPr>
          <a:xfrm>
            <a:off x="719280" y="6922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я годы Серафим захотел жить вдали от людей, предаваясь молитвам. Он поселился в лесу, в деревянной избушке на берегу реки Са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7488360" cy="273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356000" y="2085840"/>
            <a:ext cx="3129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1"/>
          <p:cNvSpPr/>
          <p:nvPr/>
        </p:nvSpPr>
        <p:spPr>
          <a:xfrm>
            <a:off x="684360" y="907920"/>
            <a:ext cx="777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Cyr"/>
              </a:rPr>
              <a:t>Шли годы. Слух об отце Серафиме разошелся по округе. И к нему стали приходить люди. И всем он давал совет, наставление, оказывал помощь, помогал выбрать верную дорогу в жизни. Однажды три разбойника явились к нему и стали требовать деньги. Серафим отвечал, что денег у него нет, он их не берет ни у кого. Разбойники набросились на него, не веря. Серафим мог бы отбиться, у него в руках был топор. Но он вспомнил заповедь Бога не отвечать злом на зло, и отбросил топ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2666880" cy="265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2879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3:45:57Z</dcterms:created>
  <dc:creator>БВА</dc:creator>
  <dc:description>uchportal.ru</dc:description>
  <dc:language>en-US</dc:language>
  <cp:lastModifiedBy>admin</cp:lastModifiedBy>
  <dcterms:modified xsi:type="dcterms:W3CDTF">2024-01-26T01:23:10Z</dcterms:modified>
  <cp:revision>125</cp:revision>
  <dc:subject/>
  <dc:title>Бордю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2000000000001024140</vt:lpwstr>
  </property>
</Properties>
</file>