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8FB-0361-4956-8C54-653110EF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567-9CB4-4626-9E5F-B79ACF23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3F5-216B-4E5D-8CF4-B8AA785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205-14EE-4A3A-92E4-C09A5FA7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4E3-D64F-4B99-A3B5-B517CE25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C0F2-2151-4CFA-8B97-10C3DCE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D938-F818-445B-80D3-3DF75573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CCC-2631-4E57-BE51-84BEFE54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243-A953-4826-B47E-032CBF3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1251-3189-474D-8079-BB195EB6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D88-7C24-4533-82FA-B93D1F7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EA5-D908-4E98-8764-6BEF62BF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1B21-A361-4C61-8C2E-4441F72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E200-9F60-4D10-8BDE-B9BAD02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D45-C829-4F1D-B3AD-2DA1DB6C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E114-DA0F-409F-8DCC-20F0E4C6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71C-D408-4889-BA92-F5CD7E6B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A153-C325-4025-9A8A-711DFA05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4BAA8-6DB4-4420-A5EB-185CB5EA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3E22-78FF-46C8-AF12-1014DD1D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3FDF-60DA-4FCE-B836-EBFAEDE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C90F-0B1E-4521-B23F-548F24A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CF6-1A43-44FC-BAC3-E635C4EB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984A-C83D-45CB-8BD0-330C55C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8F52-803A-4A14-AB9F-06DC5AE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270A-CA86-41D8-B771-D167CED4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0333-5C01-478B-B9F5-304B7FB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DE07-97AD-4020-8A8C-815C4331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ADBE-AB07-46F5-A886-F693C9AE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D9C1-E5BD-471A-BD00-5667F610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C3F-5320-47E7-A2E5-762AEC15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B8A-DA3E-49CA-A94C-15C3AA22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21C-AE77-4D07-A88B-1554AEA0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0C6-ECB5-4B78-B892-F379278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EAE-37E2-4B3A-B180-7185E92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BAB-893D-4FBD-9AB1-D0ACECB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860E-44C2-4555-81A7-8D5DDB93E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9A02-AE72-4BCC-B415-9F0BDDA30B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FF9B-1B06-4223-97D0-DD60F136A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835280" y="476280"/>
            <a:ext cx="561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КРЫТЫЙ УРОК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 КЛАСС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82560" y="22766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  4 = 20 ;  4   5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2492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24922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01560" y="2276640"/>
            <a:ext cx="2187720" cy="581400"/>
            <a:chOff x="1501560" y="2276640"/>
            <a:chExt cx="2187720" cy="581400"/>
          </a:xfrm>
        </p:grpSpPr>
        <p:sp>
          <p:nvSpPr>
            <p:cNvPr id="192" name=""/>
            <p:cNvSpPr/>
            <p:nvPr/>
          </p:nvSpPr>
          <p:spPr>
            <a:xfrm>
              <a:off x="1501560" y="2276640"/>
              <a:ext cx="218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  4 = 4  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2492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2492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461240" y="3645000"/>
            <a:ext cx="2001960" cy="581400"/>
            <a:chOff x="1461240" y="3645000"/>
            <a:chExt cx="2001960" cy="581400"/>
          </a:xfrm>
        </p:grpSpPr>
        <p:sp>
          <p:nvSpPr>
            <p:cNvPr id="196" name=""/>
            <p:cNvSpPr/>
            <p:nvPr/>
          </p:nvSpPr>
          <p:spPr>
            <a:xfrm>
              <a:off x="305928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5280" y="39337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61240" y="3645000"/>
              <a:ext cx="200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 b = b 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684240" y="36385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стительное сво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02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08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14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90480" y="1844640"/>
            <a:ext cx="3457440" cy="581400"/>
            <a:chOff x="1590480" y="1844640"/>
            <a:chExt cx="3457440" cy="581400"/>
          </a:xfrm>
        </p:grpSpPr>
        <p:sp>
          <p:nvSpPr>
            <p:cNvPr id="220" name=""/>
            <p:cNvSpPr/>
            <p:nvPr/>
          </p:nvSpPr>
          <p:spPr>
            <a:xfrm>
              <a:off x="1590480" y="1844640"/>
              <a:ext cx="345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  (8  6) = (3  8)  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8000" y="2133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56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0360" y="21337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81480" y="2708280"/>
            <a:ext cx="3695040" cy="642600"/>
            <a:chOff x="1581480" y="2708280"/>
            <a:chExt cx="3695040" cy="642600"/>
          </a:xfrm>
        </p:grpSpPr>
        <p:sp>
          <p:nvSpPr>
            <p:cNvPr id="226" name=""/>
            <p:cNvSpPr/>
            <p:nvPr/>
          </p:nvSpPr>
          <p:spPr>
            <a:xfrm>
              <a:off x="1581480" y="2708280"/>
              <a:ext cx="369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(b  c) = (a  b) 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75200" y="305280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84720" y="30686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68600" y="302580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1120" y="30546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7840" y="2565360"/>
            <a:ext cx="24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чет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71000" y="4581360"/>
            <a:ext cx="1692360" cy="642600"/>
            <a:chOff x="3771000" y="4581360"/>
            <a:chExt cx="1692360" cy="642600"/>
          </a:xfrm>
        </p:grpSpPr>
        <p:sp>
          <p:nvSpPr>
            <p:cNvPr id="233" name=""/>
            <p:cNvSpPr/>
            <p:nvPr/>
          </p:nvSpPr>
          <p:spPr>
            <a:xfrm>
              <a:off x="3771000" y="45813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1 =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3480" y="48956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80680" y="3789360"/>
            <a:ext cx="1643760" cy="581400"/>
            <a:chOff x="1480680" y="3789360"/>
            <a:chExt cx="1643760" cy="581400"/>
          </a:xfrm>
        </p:grpSpPr>
        <p:sp>
          <p:nvSpPr>
            <p:cNvPr id="236" name=""/>
            <p:cNvSpPr/>
            <p:nvPr/>
          </p:nvSpPr>
          <p:spPr>
            <a:xfrm>
              <a:off x="1480680" y="3789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9  0 = 0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7360" y="402732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72440" y="3716280"/>
            <a:ext cx="1698480" cy="642600"/>
            <a:chOff x="3772440" y="3716280"/>
            <a:chExt cx="1698480" cy="642600"/>
          </a:xfrm>
        </p:grpSpPr>
        <p:sp>
          <p:nvSpPr>
            <p:cNvPr id="239" name=""/>
            <p:cNvSpPr/>
            <p:nvPr/>
          </p:nvSpPr>
          <p:spPr>
            <a:xfrm>
              <a:off x="4152960" y="403848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72440" y="3716280"/>
              <a:ext cx="169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0 = 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480680" y="4653000"/>
            <a:ext cx="1643760" cy="581400"/>
            <a:chOff x="1480680" y="4653000"/>
            <a:chExt cx="1643760" cy="581400"/>
          </a:xfrm>
        </p:grpSpPr>
        <p:sp>
          <p:nvSpPr>
            <p:cNvPr id="242" name=""/>
            <p:cNvSpPr/>
            <p:nvPr/>
          </p:nvSpPr>
          <p:spPr>
            <a:xfrm>
              <a:off x="1480680" y="46530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6  1 = 6</a:t>
              </a:r>
              <a:r>
                <a:rPr b="0" lang="ru-RU" sz="32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3760" y="4925880"/>
              <a:ext cx="71640" cy="7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923920" y="3213000"/>
            <a:ext cx="261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(7 –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0725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войства умнож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559520" y="2421000"/>
            <a:ext cx="3478680" cy="642600"/>
            <a:chOff x="1559520" y="2421000"/>
            <a:chExt cx="3478680" cy="642600"/>
          </a:xfrm>
        </p:grpSpPr>
        <p:sp>
          <p:nvSpPr>
            <p:cNvPr id="247" name=""/>
            <p:cNvSpPr/>
            <p:nvPr/>
          </p:nvSpPr>
          <p:spPr>
            <a:xfrm>
              <a:off x="1559520" y="242100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5  9)  7 = 5  9 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5944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5440" y="2705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54360" y="26938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9872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9456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0920" y="22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559520" y="2421000"/>
            <a:ext cx="3478680" cy="642600"/>
            <a:chOff x="1559520" y="2421000"/>
            <a:chExt cx="3478680" cy="642600"/>
          </a:xfrm>
        </p:grpSpPr>
        <p:sp>
          <p:nvSpPr>
            <p:cNvPr id="255" name=""/>
            <p:cNvSpPr/>
            <p:nvPr/>
          </p:nvSpPr>
          <p:spPr>
            <a:xfrm>
              <a:off x="1559520" y="2421000"/>
              <a:ext cx="347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(5  9)  7 = 5  9 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5944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35440" y="27050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54360" y="26938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98720" y="27050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88360" y="3213000"/>
            <a:ext cx="2970000" cy="2837160"/>
            <a:chOff x="1188360" y="3213000"/>
            <a:chExt cx="2970000" cy="2837160"/>
          </a:xfrm>
        </p:grpSpPr>
        <p:sp>
          <p:nvSpPr>
            <p:cNvPr id="261" name=""/>
            <p:cNvSpPr/>
            <p:nvPr/>
          </p:nvSpPr>
          <p:spPr>
            <a:xfrm>
              <a:off x="1188360" y="3213000"/>
              <a:ext cx="29700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lain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x  y 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3  (7 – c)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5560" y="354132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54360" y="466056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54360" y="572904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 rot="20935200">
            <a:off x="3851280" y="620640"/>
            <a:ext cx="1547640" cy="215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11280" y="2746440"/>
            <a:ext cx="4314960" cy="4111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138680" y="2060640"/>
            <a:ext cx="72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тветьте на вопросы учеб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стр. 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78035E-008 L 0.00208 0.4511 E">
                                      <p:cBhvr>
                                        <p:cTn id="288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2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3207600" y="177336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19 – 6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64520" y="1773360"/>
            <a:ext cx="13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7 +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76320" y="1773360"/>
            <a:ext cx="13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 –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916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68720" y="1773360"/>
            <a:ext cx="24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х + 8 =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37240" y="177336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0 – а = 1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есёл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311472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- руки на пояс, повороты туловища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- сесть на ст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- быстро поморгать, потом закрыть глаза на 5 с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0 - встать со ст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– наклоны головы вперед-назад влево-вправо 4 ра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– руки вверх, сжимать-разжимать пальцы в кулак 6 ра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– на месте шагом марш 5 секун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368160" y="1773360"/>
            <a:ext cx="209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 – 3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71040" y="1773360"/>
            <a:ext cx="33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0000 – 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4581000"/>
            <a:ext cx="5832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Едем дальше !!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43280" y="1052280"/>
            <a:ext cx="19080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41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55454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а) 123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ж) 302808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) 37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29160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22830" r="2614" b="8644"/>
          <a:stretch/>
        </p:blipFill>
        <p:spPr>
          <a:xfrm>
            <a:off x="1258920" y="2421000"/>
            <a:ext cx="2303280" cy="1506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14458" t="5101" r="5903" b="5996"/>
          <a:stretch/>
        </p:blipFill>
        <p:spPr>
          <a:xfrm>
            <a:off x="5003640" y="1916280"/>
            <a:ext cx="27352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найти периметр пятиугольника, каждая сторона которого 17см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94960" y="2133720"/>
            <a:ext cx="4128480" cy="3987000"/>
            <a:chOff x="894960" y="2133720"/>
            <a:chExt cx="4128480" cy="3987000"/>
          </a:xfrm>
        </p:grpSpPr>
        <p:sp>
          <p:nvSpPr>
            <p:cNvPr id="144" name=""/>
            <p:cNvSpPr/>
            <p:nvPr/>
          </p:nvSpPr>
          <p:spPr>
            <a:xfrm>
              <a:off x="1116000" y="2133720"/>
              <a:ext cx="3745080" cy="3528720"/>
            </a:xfrm>
            <a:prstGeom prst="pentagon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94960" y="4437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98240" y="24922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3800" y="234936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320" y="42926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9800" y="566100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968000" y="191628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й день на овощную базу привезли 230 кг картофеля, во второй день привезли в три раза больше, чем в первый день, а в третий день – в четыре раза больше, чем в первый. Сколько всего килограммов картофеля привезли на базу за все три дня?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1274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60820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07920" y="580536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вет: 184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71480" y="2205000"/>
            <a:ext cx="74577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найти перимет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оугольника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ждая сторона которого 17см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07920" y="2708280"/>
            <a:ext cx="2754720" cy="703440"/>
            <a:chOff x="2707920" y="2708280"/>
            <a:chExt cx="2754720" cy="703440"/>
          </a:xfrm>
        </p:grpSpPr>
        <p:sp>
          <p:nvSpPr>
            <p:cNvPr id="298" name=""/>
            <p:cNvSpPr/>
            <p:nvPr/>
          </p:nvSpPr>
          <p:spPr>
            <a:xfrm>
              <a:off x="2707920" y="2708280"/>
              <a:ext cx="275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Р = 17  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2560" y="307656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586840" y="2708280"/>
            <a:ext cx="282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 1700 (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50720" y="476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ВТОРИЛИ И УЗНА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Что значит умножить одно натуральное число на друго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Tahoma"/>
              </a:rPr>
              <a:t>как называют компоненты умножения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чему равно </a:t>
            </a: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n  1,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m  0</a:t>
            </a:r>
            <a:r>
              <a:rPr b="0" lang="ru-RU" sz="3600" spc="-1" strike="noStrike">
                <a:solidFill>
                  <a:srgbClr val="99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ahoma"/>
              </a:rPr>
              <a:t>переместительное и сочетательное свойства умножения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каких случаях можно опустить знак умножения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1" descr="Рисунок2"/>
          <p:cNvPicPr/>
          <p:nvPr/>
        </p:nvPicPr>
        <p:blipFill>
          <a:blip r:embed="rId1"/>
          <a:stretch/>
        </p:blipFill>
        <p:spPr>
          <a:xfrm>
            <a:off x="0" y="1052640"/>
            <a:ext cx="7777080" cy="580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5"/>
          <p:cNvSpPr/>
          <p:nvPr/>
        </p:nvSpPr>
        <p:spPr>
          <a:xfrm>
            <a:off x="2484360" y="2637000"/>
            <a:ext cx="47516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п.11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№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0, 451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5 (</a:t>
            </a:r>
            <a:r>
              <a:rPr b="1" i="1" lang="en-US" sz="3000" spc="-1" strike="noStrike">
                <a:solidFill>
                  <a:srgbClr val="ba0c3e"/>
                </a:solidFill>
                <a:latin typeface="Arial"/>
              </a:rPr>
              <a:t>1-ая стр.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ba0c3e"/>
                </a:solidFill>
                <a:latin typeface="Arial"/>
              </a:rPr>
              <a:t>455 </a:t>
            </a:r>
            <a:r>
              <a:rPr b="1" i="1" lang="en-US" sz="3000" spc="-1" strike="noStrike">
                <a:solidFill>
                  <a:srgbClr val="ba0c3e"/>
                </a:solidFill>
                <a:latin typeface="Arial"/>
              </a:rPr>
              <a:t>(2-ая ст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68360" y="0"/>
            <a:ext cx="46087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4581360"/>
            <a:ext cx="42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rcRect l="0" t="16415" r="0" b="195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6720" y="260280"/>
            <a:ext cx="81169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а: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найти периметр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стоугольника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ждая сторона которого 17см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71480" y="2205000"/>
            <a:ext cx="74577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7 + 17 + 17 + 17 + 17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7 + 17 + 17 + 17 + 17 + 17 + 17 + 17 + 17 + 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4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626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7 + 17 + 17 + 17 + 17 =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532200" y="234936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39760" y="2492280"/>
            <a:ext cx="1447200" cy="703440"/>
            <a:chOff x="6539760" y="2492280"/>
            <a:chExt cx="1447200" cy="703440"/>
          </a:xfrm>
        </p:grpSpPr>
        <p:sp>
          <p:nvSpPr>
            <p:cNvPr id="157" name=""/>
            <p:cNvSpPr/>
            <p:nvPr/>
          </p:nvSpPr>
          <p:spPr>
            <a:xfrm>
              <a:off x="6539760" y="2492280"/>
              <a:ext cx="144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ahoma"/>
                </a:rPr>
                <a:t>17  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29240" y="2825640"/>
              <a:ext cx="72720" cy="71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4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54080" y="1197000"/>
            <a:ext cx="71956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Тема урока: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нож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туральных чисел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»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14640" y="18900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23.11.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2000" y="4437000"/>
            <a:ext cx="1452600" cy="2025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9163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532E-006 L 0.32482 0.00162 E">
                                      <p:cBhvr>
                                        <p:cTn id="8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300" fill="hold"/>
                                        <p:tgtEl>
                                          <p:spTgt spid="1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83 0.00162 L 0.57483 0.00162 E">
                                      <p:cBhvr>
                                        <p:cTn id="9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103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868560"/>
            <a:ext cx="2916360" cy="271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 rot="376200">
            <a:off x="4140000" y="5589360"/>
            <a:ext cx="19335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+ 27 = 5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 - 12 = 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"/>
                            </p:stCondLst>
                            <p:childTnLst>
                              <p:par>
                                <p:cTn id="1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9017E-006 L 0.16736 0.00116 E">
                                      <p:cBhvr>
                                        <p:cTn id="118" dur="12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" dur="13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6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60" fill="hold">
                                          <p:stCondLst>
                                            <p:cond delay="52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60" fill="hold">
                                          <p:stCondLst>
                                            <p:cond delay="78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60" fill="hold">
                                          <p:stCondLst>
                                            <p:cond delay="104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6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38889E-006 1.50289E-006 L -1.38889E-006 0.11537 E">
                                      <p:cBhvr>
                                        <p:cTn id="139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 rot="996600">
            <a:off x="1837800" y="1941120"/>
            <a:ext cx="6120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+ 27 = 5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 - 12 = 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678680" y="1052640"/>
            <a:ext cx="55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Решить уравнения устн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 rot="265200">
            <a:off x="1979280" y="4653000"/>
            <a:ext cx="547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= 32;    m = 28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932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Умножение натуральных чисе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11000" y="184464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  3 = 5 + 5 + 5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13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388160" y="2421000"/>
            <a:ext cx="1396800" cy="642600"/>
            <a:chOff x="1388160" y="2421000"/>
            <a:chExt cx="1396800" cy="642600"/>
          </a:xfrm>
        </p:grpSpPr>
        <p:sp>
          <p:nvSpPr>
            <p:cNvPr id="175" name=""/>
            <p:cNvSpPr/>
            <p:nvPr/>
          </p:nvSpPr>
          <p:spPr>
            <a:xfrm>
              <a:off x="1784160" y="27781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88160" y="242100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 b 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771640" y="2421000"/>
            <a:ext cx="4753080" cy="1335960"/>
            <a:chOff x="2771640" y="2421000"/>
            <a:chExt cx="4753080" cy="1335960"/>
          </a:xfrm>
        </p:grpSpPr>
        <p:sp>
          <p:nvSpPr>
            <p:cNvPr id="178" name=""/>
            <p:cNvSpPr/>
            <p:nvPr/>
          </p:nvSpPr>
          <p:spPr>
            <a:xfrm>
              <a:off x="2971080" y="2421000"/>
              <a:ext cx="438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 + a + a + … + a + 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4968000" y="800640"/>
              <a:ext cx="360360" cy="47530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3840 h 4753080"/>
                <a:gd name="textAreaBottom" fmla="*/ 4629240 h 475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40440" y="329724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слагаем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32000" y="4076640"/>
            <a:ext cx="2013840" cy="2316240"/>
            <a:chOff x="1332000" y="4076640"/>
            <a:chExt cx="2013840" cy="2316240"/>
          </a:xfrm>
        </p:grpSpPr>
        <p:sp>
          <p:nvSpPr>
            <p:cNvPr id="182" name=""/>
            <p:cNvSpPr/>
            <p:nvPr/>
          </p:nvSpPr>
          <p:spPr>
            <a:xfrm>
              <a:off x="1912680" y="4365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3480" y="4076640"/>
              <a:ext cx="18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  3 = 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1332000" y="4592520"/>
              <a:ext cx="485280" cy="15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ж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1979640" y="4592520"/>
              <a:ext cx="485280" cy="15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ж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2847960" y="4492440"/>
              <a:ext cx="485280" cy="19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произвед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11:25:44Z</dcterms:created>
  <dc:creator>user</dc:creator>
  <dc:description/>
  <dc:language>en-US</dc:language>
  <cp:lastModifiedBy>user</cp:lastModifiedBy>
  <dcterms:modified xsi:type="dcterms:W3CDTF">2016-11-22T08:50:57Z</dcterms:modified>
  <cp:revision>42</cp:revision>
  <dc:subject/>
  <dc:title>Слайд 1</dc:title>
</cp:coreProperties>
</file>